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D01F42-C489-4997-8063-A5A1423AD23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EE9DAA-933F-476A-981A-BAE98085CDF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B28-43D7-4D69-9A00-5C481A37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E19-3431-4050-91D5-19D384DF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FB18D9-AA73-490A-91BC-1FA060B7390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DD0AB2-6552-4324-A824-45EF7E809F4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7D6A1F-3F68-4C3D-B614-7EC52DCDEC5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A7DC01-3A2E-4280-9922-E142B198A50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ADB01F-40E7-4C9B-8185-9DC8871DF57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C0546E-5AE0-4966-974B-8079E8D50BC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9BB33E-DB52-400E-9BA1-C49930DC265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74EFF-0675-4137-9C79-A30601E3A74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9940D7-A1F2-4F6E-BDE7-AC26F8DF659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31F56-7D2C-4D36-8840-778F4C2B9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2B8-BF7A-4F38-AD25-63E59E6B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7C4959-BC1A-4AC1-B398-44662D4FE0E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DF26E6-3AFA-47B9-9D2E-F3A54B5D927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76A459-B591-45B6-B484-9CF4FA5FE2E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574859-FE16-41E1-9A19-FC1CA567172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4C239-2B95-4F0F-BD6C-B687AFF342E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A85ECF-A0EA-4CB3-BEDE-0EF00BA72E3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3EA779-F7CA-4C45-9A80-144119CE69E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19CBBE-8ADF-4974-98C3-43EC79674B3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5527A3-3548-4881-838B-B6375F5BF3F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F0004-94E5-4FAC-9F2E-2EB24C964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72F-C8B5-4233-9105-20072ED1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49A258-7656-4D12-9C1E-E0A17B48AEC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77FCE-0191-4A4F-8D05-1FC4C81A7CE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85587-7F28-4B92-8F90-0736C95A2CE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4BBF5-F243-4C7E-8722-3B7C0458233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06D4B-2622-49F2-8C4D-3700C8B665B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D30E4-783D-4D45-9AE0-42E25A98ED8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D77CF-DAD9-4F19-BBA6-3BD7D0ED1EA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4B622-94D3-4AE2-B6F5-D92BB77B890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2E014-9A78-46F0-B602-9F00B36EA2D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1E0CC-5A89-4A61-84E8-7B440B134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91C94-07A6-46AE-A34E-959FB78CEC3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50642-DD2A-464E-80F4-A00F3BE9157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7419-1055-431D-B16B-D72410BF8E2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12E923-3F4F-45D5-9447-56558E6E726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50D555-1A22-4505-A67B-DFC2E9EC913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741F42-B7A1-4C4A-90FA-FDB11ADD6C8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98A415-3D90-45EE-AC83-62D79FDBE1D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DDCBB9-86CB-42F2-9379-F3CFA86E8A1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BF6F0C-AEB4-4D2C-ADF6-50BEDA2C6CC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9FE521-4B48-4DF9-9D07-30B0822151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76A140-939F-42C8-ACB9-020866EF8B4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F50C8D-3021-4D7A-A94F-16BF8741ADD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735E68-A191-47AD-AA02-0C73AF1AF8B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B2E8C0-4C2C-4CB6-A187-DAD85B9F7E1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D84A93-C337-4307-AB2E-DAA6649856D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712C4-F330-4A44-810D-AB3C249EAD5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156CE-86C5-4D34-82D4-731535827A6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B1726-44ED-4986-86D2-67AF9268ABF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2962F-1B73-48A1-9372-15B15BF4C6F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1C4DFC-1C6F-4C93-B23B-E6B6949343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CA33A0-B731-432D-BF35-2E658D0C1EA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095BA-06C6-4489-BD57-39B446E98B7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DA583C-9D2A-4C61-A7D9-B7305F7A976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DA6AD-7C79-4C2A-951E-9810D6EAC10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30C83-0498-48A3-8739-277BF109F48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3D23B0-6DBC-40EB-94C3-1FEA54A97A3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928ED-17A9-4AB7-93C3-C529636491E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8EA33-6A1B-42A9-B196-8B77EE2E4F7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10A34-BE5A-4095-AFE0-328DCF0CC8D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C674D-2B3E-41E4-9B1B-D90A8BA778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8749F-35C3-4F02-B99A-CA5000B7D0B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4542A-47D7-427C-B6F5-06F3260022B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443BC-99D3-4930-982D-3E68BDE06E5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D0598-8953-41AD-B94F-97E025570C3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EAD0D-0142-46BC-85B0-CD9B99AB8B0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0A22A-6C99-4347-8D91-83744DA7B8C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3A019-B5E7-4840-B66C-6F53D00BC8E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8F468-8EED-4099-AD0F-FB7359F783C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2B793-368D-41FB-A921-8468D23CF92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0BC220-C8F8-4241-986E-846D98EFA2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8E6B9C-73E6-4957-BA47-51C2D097505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0E6D02-92FC-4656-A3D8-D60E61CB70F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FCBCB5-5799-48A6-9F20-4A4895D51FB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01DE44-8162-4F0B-A0AC-517BC696C58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2AEFFA-06FA-4565-8906-39ABD984208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0E5A7C-FB78-43CC-9451-B4322F48DB7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D75064-9B34-4626-BCF6-7CEEEB88116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D43117-92C1-4A9F-A059-5F3E7A300C5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FFD64E-C594-413F-81B1-8E1DC6A65E6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ABD841-09F4-44B3-84BC-5A6DF3FA58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5A15BA-1204-4387-904A-BA0DF995A54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A4886-EC53-42E7-BBE3-E28A43EF816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3C5DA-DD19-4E57-9A58-9EA5D68E39B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C89D16-B40B-4753-8CF6-0386F386C1E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218FF1-99E0-4A42-AF0F-0E498CF77DA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D756C-937F-48C9-9817-43DEF72C921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18769B-1368-40A5-8EB4-5A4CB669511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44D0D2-5CAD-45D1-A93E-36F6A9590E6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DF177-8FDF-4B2B-AD39-B84394FD285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C23F6-5D11-4F6D-BC36-36BCF39543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5AB00-DEBA-4597-BD95-9F07B27FA03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08D780-6187-48A3-B9A7-171C0410E76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2A7D9-4E43-42D1-ABDC-D0AE0EB6593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C08-766A-4409-BE87-9DD1FF89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277B9-3BB9-4BFA-82DE-CE2BE87DBA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DDCD4-C4AC-4D17-84CA-2D00A2CBF4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B9264-AE70-4CA3-BE4A-BBBDC0ABFB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34DB8-C739-4A9E-90D3-5997753ECD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DF223-5692-4A56-A2C2-DE35581454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F07-464A-42EF-BA3E-A3BFA4CB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48456-9F93-4752-AF64-A6EF70EE5E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4C3F1-F894-40F1-AA3C-84BE080897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FABFC-0E03-49C4-A7AB-A73E0BFA3C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F9C34-9315-42EE-986A-CD3D5CA096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CF183-A952-4B99-8FAE-6F11E3229C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EDFEE-CC63-45AB-A937-ED6955D5D2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5E0A1-BE17-4D69-8FB9-E7B9921F2B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FB0BE-48F7-4A82-AAC5-44C3EA2670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C35F9-4609-457A-9454-CD11A9D5CC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4D5C7-2190-4632-9ACF-42FFAA813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7C7-FC6A-4425-8254-31B0FC5F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5EB3D-4694-4993-92B9-39B5D57B6B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44034-5F7B-4808-B1C5-BAECDD7F25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88C9B-759E-4CEA-AC12-0C42E44AED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0608A-27B6-4611-BD4F-A65E62A44B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51F5C-4C4D-4298-BC44-044BB16EB6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7623E-22FD-46F0-BEC8-0A111AF2CEA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19A6A-BB24-49CD-9E19-CF34C63C5C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EC708-50AA-4D60-95D1-BBA1F2B7D5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AA90B-D0FE-4BBD-B2F8-5AE4EBF0688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FB4B-E8A2-47EA-84F8-68375596B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E652-9B45-4B35-8037-6D1E8146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2F99-85B8-4D10-949A-CF28625B61A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96C0-6B04-4453-A65B-09B985B8359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89FA-9409-4AF5-BBC3-17A97AB388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9DC5-5B6C-4318-8FB6-69384A47546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89B9-C5CF-45DD-ADDC-968DB6D1B4C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1EF4-B7F8-4D4B-B89A-CEBAF612D9B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64A7-D0FB-4066-9DE5-42B35750749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065F-2FAA-4738-AD65-DD63F76F19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399D-13C2-4AA6-A061-859C6CABFAB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EF59-62F1-45C3-A947-5D9026E93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ED3-E0F5-430E-AF63-2E238516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8308-CC4F-4A7F-8569-79CEE98A44C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ACE52F-ED03-4CD4-8824-2AE2F77FCCD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1406AC-2F93-4022-9EE4-DF9597285B7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E62304-D0B4-47C7-B1BB-0B71570B4F5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7B5B0F-90A9-4E08-B36E-DA3387012FA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655A87-00A0-4A79-B567-95013538B7D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0866A4-893B-4DB0-8407-36D44B1AB0E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1EF246-5B84-4124-9E2A-24FFECBA811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E3D5B1-DCDE-43F4-A390-8BA63E9AD6E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DCC525-33F6-4146-AB4D-598880885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CCE1-C6FE-418C-9CD8-B2DF7B6B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45FBF4-D856-4F2C-B12E-65465509EAC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B11BFB-025D-452E-B823-1151F84C411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112D18-1B13-4BBE-B78F-0409950EC0A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15332-E86E-44FE-A5C8-36D5A347661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19238-AD61-4559-850C-F3AFF7FF2F3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789FA-4047-4CFF-BA20-C853485D5F7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5AC0D-C2F7-4128-8AC6-124794D2F9F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F6C73-C876-4D32-8BCC-472930A2378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DFFAB-3A03-40BA-8957-5C6AE3BAD47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87F71-6020-4B04-9184-5357F5DA1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3B9F-5882-4ED0-8FDF-72B55BC7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777A2-ECE6-4678-AEF5-6100427561E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7F9F0-0AE8-41F8-B6F1-4DCF6C64DC3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8178F-3383-4647-821D-2DB184439EB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D7CC1-AA9C-40C0-90C7-2BF87FB8A52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57C39-6335-43B1-B10D-6DEACE63552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4482-FE1F-46AB-8C5D-884BF34B4C2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9DC43-185D-4F17-86F0-4DD867EBE17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03000-0846-4874-B0C1-00D085BFCC5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C8B86-6E9A-41D7-8D18-D4ADD97652E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83048-21BD-4C93-9149-645A35CF8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80E-B4D8-4FC7-AF83-FCD6D88D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0253-0CC0-44A5-BC77-E48D0856044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9DC27-DD63-4504-8ADF-968EC0145DE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38A2C-CE10-4742-94E0-59B00DF160E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2ECAD-71B0-4E4A-84CF-F44126EDBD8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21EDD-ADE6-4373-B76F-0CEA63C65EF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5ABB7-1ABC-4CFC-87E6-1EF87B5BAA4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6102B-1028-4185-9A95-AC5B7018ADD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4B1F02-45BB-4359-9A43-4E4AC935FE6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0B7FF-3597-40DB-A5B4-C1066B16F5A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458BB-BEC4-4B42-B1FB-3A4365C1C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9EEFC4B-1C1E-4975-914D-D1FE6009209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ACAC8C4-50CA-45D9-8D03-94259E56F8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FF5DB6-1028-44FA-9261-94C87B5241F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31B6B62-23DA-4729-9F38-7ECD14327E9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1C67D85-2AC7-4037-BE8D-199E7E3F10F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7A529C2-E0E1-4ED3-A5B4-30D461BC521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CF73B7C-D3BB-401E-8BA3-AAC196F6A76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3336936-F00F-456B-A588-2A87EFCC35E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ECA80E7-713E-4B0C-9BF6-33EBBE4978D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9DD14B8-EE1A-465E-8F8E-044AA7BC625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BBEA63-98AD-4B02-9FDE-9E784D746C8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A3F8AB-4CA3-4B90-869B-9A7BEBC7787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9C8707-BDE3-45C6-89F5-0E55D46F1B2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BCA105D-6EDD-4907-9851-940393D8C03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DE8782F-2B93-430F-8463-072E421BC25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36DFD83-13E1-464E-92ED-9C5D11A7612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siu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ku.no/" TargetMode="External"/><Relationship Id="rId2" Type="http://schemas.openxmlformats.org/officeDocument/2006/relationships/hyperlink" Target="https://diku.no/" TargetMode="External"/><Relationship Id="rId3" Type="http://schemas.openxmlformats.org/officeDocument/2006/relationships/hyperlink" Target="https://diku.no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08.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ngļu valodā jāizmanto tāds partneru organizācijas nosaukums, kādu organizācija lieto pati 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91FCE63-1BC2-48B1-8A3B-D72846E9669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F315AF-0731-4615-835E-90F24786279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FABFD59-FAD4-488F-B2B9-788C050DCEE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53209FD-1913-43BA-8C73-736C835FE84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!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Ja sagatavošanas vizītes pieteikums tiks atbalstīts, šie bankas rekvizīti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siu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000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3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49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3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6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2012760" y="1775880"/>
            <a:ext cx="687060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darba kārtīb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"/>
          <p:cNvPicPr/>
          <p:nvPr/>
        </p:nvPicPr>
        <p:blipFill>
          <a:blip r:embed="rId2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58BC28-8B95-47CF-B168-7282B184CA5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D96B63-E061-4E11-8162-80160005A22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0-09-07T12:26:45Z</dcterms:modified>
  <cp:revision>136</cp:revision>
  <dc:subject/>
  <dc:title>PowerPoint Presentation</dc:title>
</cp:coreProperties>
</file>