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502-7376-4387-BBF7-9B5E3DA1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CDA-A749-4DFE-9C62-3363357E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3D1EDC-E247-47CC-99D1-74BED48D200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AD653B-CE19-4A8E-ACB8-DD097E8E926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C17B4B-426A-4DDC-ADC6-3FF34BD6760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67472A-E0CD-4F16-837A-E14BF0E2C66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75C726-4367-4763-B493-276BB696895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06ED48-EE4A-46D5-BF3D-38060951192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256A63-1B0C-4FA6-895C-2BB3B66C2AE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3F959E-6EC1-4B1B-87B6-954B5DF85E4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4D2064-FCD4-4A89-A45B-39BEE50632F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03797D-449D-48B7-823D-CE03E8BB3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C6B-245E-4E8A-B3B4-E314FB6F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720C0B-792C-4E15-B891-312060BD773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618CB4-FDAB-4642-9489-D7CC39CCA8B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7C2E8D-9E66-4B5A-8C84-C4B3D0770DA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2F3BE3-1BE8-4DEC-9352-05D0306C331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3425EE-1C21-4D3D-97CA-7894834096D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1149C3-340C-4114-9024-5C48D7101B2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6DE86E-A208-4020-B6D4-281628A9226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B9C50-7006-4029-88C3-61DE2A314C1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88E983-6E91-4604-9E93-4737D30C6B0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96A243-E17C-4872-9ACD-1859C38D4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634-4EEE-44B4-A773-E735C3A8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40D670-73AD-4553-8D2B-AFC8C6DE11E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3F00D-0695-4DAF-9319-D949CB8B28E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96496-CA2C-452D-B063-97A50EFF62E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261B1-3F8B-4E09-85FF-486F6F3953F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2A3B0-420A-4A8E-8B5F-97B810787D4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D8446-C0CC-4BEF-8747-77F19B5CDD2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39DA4-67C4-439D-B10A-BC156797545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BB563-E9C6-4A06-AB8A-B668034CA73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3BE87-37A8-4E46-ACDF-8D8B6461BD7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3E277-E2C9-43D2-BDC0-7E18E726B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9AC64-44B2-4ACD-AA4A-8B39D33A83F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EC05C-8662-4CCC-96B9-B90DD2840F0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E8E3F-418B-47CD-B0AE-373CB2D4517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613A69-B460-40BC-8C93-D42787FF48B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D79FE1-1834-41FD-8FFD-E2A2FA8748F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040291-6995-47B4-909D-FFA3E759519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BA269B-FB51-416D-858D-1145A2DDA24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AD8ED5-08D1-4BAA-9174-20942146A60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BBC033-B527-408C-80BE-AD9DD8644D4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3E40F6-15D2-4655-80B6-19B5EF9EE9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4C0433-9AEE-41C1-95F1-0EAE3552D28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93C04E-0FBD-4566-BC43-0BAE2AAF421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2B1100-D7C3-4A0B-B130-E170861D3B5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AB42B2-D286-4186-9805-D8AA12E61CC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39C539-B315-434C-AC3D-1110742FF73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D4A66-805C-46AC-A3F8-1C52D3B38D0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9CF424-E6FD-434D-8430-9A8AD1D2A75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B3434B-FEA4-4505-9DAE-03282ECC1AA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E8950B-A16B-4AEA-AB11-C10C80ABD1A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8A2DCD-C7B3-4D67-8976-7389F82623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E5D465-8016-4243-82D9-85A4C9A9547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2BF73E-00FF-48C9-9ED0-A4398CDB890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3F856-9954-4313-ADBD-40288CC4905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D6C27C-B508-4BAB-86C5-84BC257359B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556B5A-3985-45B1-BC74-B9420A197DB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41654-EA37-4E31-BEF8-8A04AF67DED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7C0D8A-7B51-4E6A-892E-F9CC4754640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E1123-FA79-47BF-B98A-974C6A57405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1BACC-498A-40B3-9632-819A15A31A4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0F212-358A-4A9C-9340-7648266D24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94179-AB84-4478-8DE2-1DA8DD606D8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A7A0F-D3B7-4046-A995-F6FDA19F567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3E12A-F6DB-4EFF-A5CD-5521E83C8ED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36111-8022-4C8A-884F-91594676B70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68D5B-E6F2-4119-8FAE-C9C139DFDC8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14AA7-0613-4BCB-8781-99C078FA679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EFDF1-5945-4A5A-8462-C8A359A758C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268CE-1974-4D49-81D0-C8A082971CC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79E8D-08A2-4A73-B846-7BC16703F73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569875-0258-4FFE-B3E0-4A22BABCAA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4F3512-A7B8-4639-ADCA-60DEB89AF80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E0986C-F51C-43E3-8935-5033C5FAD2A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D1EEB4-7579-4C2E-BD25-932354C5786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77BF97-98C7-483E-8BDC-461B7FCAAC9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2B0CCF-4CFD-4322-8CEC-6432EAAD3EA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75AF6B-9E45-48BB-93E6-C1E810E78E6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5E0A47-B075-4986-8E8D-99AD7E28BAA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9897C7-9390-46A0-934A-5A2BD2B32F1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DE483D-C0DA-4C53-92CF-C8A035D1DBD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5BF79B-8A4F-490F-87E4-A075D64BF7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A3157A-308F-4786-96F2-103343E1BF3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77BCC0-A19B-4A0A-B550-032E8288F86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B37A14-42CA-4A38-8C27-D759C022DB3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0E38E5-A497-42E2-BD3E-9F1A5EB64D9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682FD4-CD2C-4C14-854D-F0297A9E1A7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AA7EFF-1888-4A26-A41F-29A72930708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39C0C6-6E3E-43B1-8354-9C7F6E7C807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C3143-CF75-4CF0-9E74-9E90EF08397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BD7FEB-35FC-45B8-9C5A-819D41233EB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3A12BF-0AAF-4850-B152-31536927F6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5305E-0048-46B4-BCFE-A246D5D827A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6EB39E-EB68-494A-8A91-61D6837E19F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6BCAF0-EA7E-4810-8C2B-0EC73E5EC47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9A8-DDA1-4DE5-AA30-EB922427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2E465-AAE8-42C9-9721-4E00CDA221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0EFDC-250D-4701-9948-EF494F4B11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62B6C-7F07-4D23-9548-1D6BF93B3B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EE073-2D14-483B-961D-7915D16654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B1A73-6BD1-4F91-9629-AE385EE48A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0F6-43C8-4B56-835A-7C1BC2A8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9FF11-DDCC-4AE0-B832-AC276D6881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D51DD-AFAA-476A-B375-BD0B404E53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5D682-5894-4161-A88A-A289A1148F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5CBD0-00C0-4B18-A3DA-8318DA632B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1E123-F3C6-416A-AF6C-A001A19634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32F52-356F-40E0-B934-09914DBA0A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590E0-D167-40BE-8A94-BCA028824E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C2840-9562-4A2C-85C2-3B9E04D1E4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59D6E-5FEF-49BC-9D0D-A27261C35B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6912C-2020-4DEB-8CA9-1AF98A717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6A3-B58F-4251-B8F3-CF918AA4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D96DC-F4C7-4892-BEBE-7E26F206A0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5EDDE-DE33-4110-B1FC-962F95515BB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77BE6-B2B5-4774-9122-3E98F640F2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55380-D688-480C-8146-FD18F88041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6F2A3-461C-4647-92BF-50A0D3C375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5EBE6-128C-4C89-8CC9-B41B257B27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D2E3B-7600-4DF9-8A44-DE7D879E505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9F896-5226-4727-AD3F-38CDA8E722D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496E9-FB49-4E22-8D3B-40DCCDC3A64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EC39-E836-4EFA-9555-ACBD2F904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0FFE-C8D7-4451-839B-F282B2D7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9BC9-F4B3-4805-8749-BDA5A418A1F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695B-0431-4A16-AFCD-EA1D5F8EE08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F903-AF0E-4F55-8D91-9DA31E99FB0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096E-6904-4D16-BFB1-564259FA7CA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7762-8F48-4FF8-A287-F61566FCA8F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2B93-55F4-466B-B563-52E7F71E9CC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2B1F-CB71-4854-B241-B6BE8C67BAB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F165-D895-4046-83D1-026ADFEDA30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AA46-78AD-425B-BD7F-98CBC65C89C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ECAB-A5B1-401D-9B49-17F9D9DE3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D6A-B1AA-49CE-A1BE-0AE4AC61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1E76-00ED-4660-8790-1156A1CF881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A5A06C-6FD7-4908-AC45-D466A3CD5CA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AFF327-B11E-4425-ACD2-F60101295F4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D6426E-C09E-4988-96F4-2A52E6460E1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4C6FAC-68D1-4CCE-AF34-8F4ECD14CEC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BA6914-B5B3-4947-B65F-EC30F93954D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3E92BD-FD1F-4255-87D5-63CA934794C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85AA11-302E-48D8-AF1C-1670024B2CE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73CE7F-9C66-47F4-8CE9-421C34F0529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9C0D7C-584C-411A-8B8B-EBA050C21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627C-476F-4681-9E00-77C258D5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461C20-CF67-43D0-84B1-68872909858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A264DD-AF58-4A08-ACA6-512EB854312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0A831B-50A5-46CC-9723-4A5C2723D00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A09F6-30BE-4450-92D8-DFABBC255B9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5F8FD-E423-4D2D-B1B2-BF6CEAEEBE7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BEC72-5798-4069-A209-95E003B4326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6BBF84-7FB4-452F-BA91-3EA09AC4ABB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FE7B4-BC67-42CA-8859-10281ED8815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8149A-73D0-4017-9764-ABF4453CE4D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1FF65-AB9D-4E02-8031-099AFB7CC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979-CAB7-4406-890A-A27DE48F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5B75F4-5632-4AAA-A089-DB8DD706941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0E5F8-F74A-4596-8D32-B1945244A43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6E963-37BB-438E-AE75-AFE90871221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9FCDDC-4B0A-48A7-A18A-9BC0E5B65E6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A0347-489E-47CB-B4D5-0E5D011EE5A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2AE8C-9DE9-486E-9A58-AE35D23F9E5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6BDE0-A7E0-48E1-9D09-661D091B696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FE2C0-94D2-4595-84A6-577413A39B6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27DDD-BD84-47A5-A6B6-18A2752FC5D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53279-154A-4851-86D3-79F7AEACA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5861-D8AA-4226-8DAD-5D5A141B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262B2-1A6A-4ADA-AE79-256DCBFAF82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E6FBA-BE88-46A1-88DD-5AC553B28CF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B348D-C18A-4988-B6EE-AEB5C363FB3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13079-37B6-4E17-A71F-92BE34D2FD1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88AA5-0214-4C3B-A28E-8129809D70C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FFDA8-AB24-47A5-9B22-BCCACDC7D13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6D123-438D-4A30-8617-1061AB2E70A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F35374-966B-448F-87B6-74A172C5739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B023B8-3CED-4F88-BDCA-A3B192AF0F5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48EA01-EC7C-4876-8CCA-5556B1C3B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23A9E41-6D7F-4178-A031-6DCA061626E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9E2841-F8D1-4E48-9E30-2ACA6F515E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F763CA8-6D11-4451-8AC6-C71DFB38ED2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4947C7B-CFBB-498F-8E96-E0964B67C80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A2D03AB-6BDE-4E14-AC8F-CDAA0CC6433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8AF4226-2FA6-4F94-95EB-04A909A5479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8B5AC50-9BDF-43BC-862E-505A5493952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FD304B5-B373-48AD-AE26-10A350D3776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80226F6-593D-4289-A6CD-85F9B307254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2E019A8-A37B-40B7-9CB9-4176D5C4A4F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9D72C30-6B4F-47A0-BD6C-407D3C622A2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92061DE-780D-40CE-BFA3-44F1B7907B2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7175E20-B526-4340-AC68-57EA3CC3F0C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8BB06E8-6BD3-4A53-A052-DAD4933BFF0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CA448D1-5F80-41D8-AFA4-7F318E26782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923E823-5DD4-4226-9AAC-4508DC53F20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s://www.nordplusonline.org/News2/NEWS-AND-ARCHIVE/Results-of-the-Nordplus-2020-application-round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News2/CALLS/Application-for-Nordplus-2020-preparatory-visits-is-open" TargetMode="External"/><Relationship Id="rId2" Type="http://schemas.openxmlformats.org/officeDocument/2006/relationships/hyperlink" Target="https://www.nordplusonline.org/News2/CALLS/Application-for-Nordplus-2020-preparatory-visits-is-open" TargetMode="External"/><Relationship Id="rId3" Type="http://schemas.openxmlformats.org/officeDocument/2006/relationships/hyperlink" Target="https://www.nordplusonline.org/News2/CALLS/Application-for-Nordplus-2020-preparatory-visits-is-open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espresso.siu.no/espresso/login?0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nordplusonline.org/" TargetMode="External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" TargetMode="External"/><Relationship Id="rId2" Type="http://schemas.openxmlformats.org/officeDocument/2006/relationships/hyperlink" Target="https://www.nordplusonline.org/" TargetMode="External"/><Relationship Id="rId3" Type="http://schemas.openxmlformats.org/officeDocument/2006/relationships/hyperlink" Target="https://www.nordplusonline.org/How-to-apply/HANDBOOK#pdf_frame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gramm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10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3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5" descr=""/>
          <p:cNvPicPr/>
          <p:nvPr/>
        </p:nvPicPr>
        <p:blipFill>
          <a:blip r:embed="rId2"/>
          <a:stretch/>
        </p:blipFill>
        <p:spPr>
          <a:xfrm>
            <a:off x="3137040" y="3144960"/>
            <a:ext cx="3598560" cy="338436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 txBox="1"/>
          <p:nvPr/>
        </p:nvSpPr>
        <p:spPr>
          <a:xfrm>
            <a:off x="483840" y="2182320"/>
            <a:ext cx="8202600" cy="1117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3"/>
              </a:rPr>
              <a:t>https://www.nordplusonline.org/News2/NEWS-AND-ARCHIVE/Results-of-the-Nordplus-2020-application-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0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www.nordplusonline.org/News2/CALLS/Application-for-Nordplus-2020-preparatory-visits-is-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" descr=""/>
          <p:cNvPicPr/>
          <p:nvPr/>
        </p:nvPicPr>
        <p:blipFill>
          <a:blip r:embed="rId5"/>
          <a:stretch/>
        </p:blipFill>
        <p:spPr>
          <a:xfrm>
            <a:off x="2417760" y="2487600"/>
            <a:ext cx="49608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iesniegšanas termiņš – </a:t>
            </a:r>
            <a:r>
              <a:rPr b="1" lang="lv-LV" sz="2000" spc="-1" strike="noStrike">
                <a:solidFill>
                  <a:srgbClr val="009a00"/>
                </a:solidFill>
                <a:latin typeface="Calibri"/>
                <a:ea typeface="Verdana"/>
              </a:rPr>
              <a:t>2020.gada 1.oktob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siu.no/espresso/login?0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3" descr=""/>
          <p:cNvPicPr/>
          <p:nvPr/>
        </p:nvPicPr>
        <p:blipFill>
          <a:blip r:embed="rId2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47847BB-DFC7-451D-829D-ADE1A513F56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Picture 6" descr=""/>
          <p:cNvPicPr/>
          <p:nvPr/>
        </p:nvPicPr>
        <p:blipFill>
          <a:blip r:embed="rId1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rdplus programmas valstī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ieskaitot ceļā pavadīto lai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 no katras organizācijas/vals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m Nordplus sedz 100% ceļa izdevumus un uzturēšanās izdevumus saskaņā ar likmē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 2020.gada 1.novembra līdz 2021. gada 1.februāri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(ja plānots iesniegt projektu 2021. gada projektu konkursam)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vai līdz 2020./2021.mācību gada beigā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2203200" y="1506600"/>
            <a:ext cx="648324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eļa izdevumi savā un partnera valstī, ja pārsniedz 500 km – 150 eur 1 dalībniek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!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ā projekta </a:t>
            </a:r>
            <a:r>
              <a:rPr b="1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993680" y="1348920"/>
            <a:ext cx="6692760" cy="457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tīkliem un projektiem līdz 75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no plānoto aktivitāšu izmaks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Ziemeļu Ministru padomes programma Ziemeļvalstu un Baltijas valstu sadarbībai izglītības jo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5 apakšprogramm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Jaunieš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ākās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ieaugušo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Horizontālā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Ziemeļvalstu valod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ir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visi un jebkurš pieaugušo izglītībā iesaistītais (formālā, neformālā, vispārējā, profesionālā izglītība)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!!!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tematisko tīklu 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plānošanas projekti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si ieinteresētie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    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– dāņu, somu, norvēģu, zviedru, sāmu, islandiešu, fēriešu, grenlandiešu valoda, zīmju valo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konferences, seminār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ublikācija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grammas dalībnieki</a:t>
            </a: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9000"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ama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vidusskol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zinātniskās institū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nevalstiskās organizā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ivātuzņēmum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+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1 sadarbības partner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! Programmas finansējums -  līdz 75%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no aktivitāšu izmaks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ngļu valod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782720" y="861840"/>
            <a:ext cx="714384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t.sk. partneru datu bāze – </a:t>
            </a:r>
            <a:r>
              <a:rPr b="0" lang="lv-LV" sz="17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www.nordplusonline.or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Nordplus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rokasgrāmata (2020) </a:t>
            </a:r>
            <a:r>
              <a:rPr b="0" lang="lv-LV" sz="1400" spc="-1" strike="noStrike">
                <a:solidFill>
                  <a:srgbClr val="009a00"/>
                </a:solidFill>
                <a:latin typeface="Calibri"/>
                <a:ea typeface="Verdana"/>
              </a:rPr>
              <a:t>https://www.nordplusonline.org/How-to-apply/HANDBOOK#pdf_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</a:t>
            </a: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espresso.siu.no/espres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www.viaa.gov.lv/lat/starpt_fin_intrumenti/nordplus/par_nordplus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How-to-apply/FIND-A-PARTN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Twinning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www.etwinning.net/en/pub/index.htm 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choolgateway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login.schoolgateway.com/0/auth/log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2280960" y="1417320"/>
            <a:ext cx="640548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Sagatavošanas vizīte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828440" y="1243080"/>
            <a:ext cx="6977160" cy="477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gada Nordplus projektu konkursu plānots izsludināt 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0.gada 1.novembrī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(projektu iesniegšanas termiņš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2021.gada 1.februāri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- 2022. gada konkursos paredzams uzsvars uz </a:t>
            </a:r>
            <a:r>
              <a:rPr b="1" lang="lv-LV" sz="26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Nordplus oficiālā mājas lapas adres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www.nordplusonline.org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/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2021. gada Nordplus rokasgrāmata 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tiks publicēta Nordplus oficiālajā mājas lapā pēc  2021. gada konkursa izsludināšana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2020.gada Nordplus rokasgrāmata (angļu valodā) pieejama: 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https://www.nordplusonline.org/How-to-apply/HANDBOOK#pdf_fr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7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8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294840" y="6046920"/>
            <a:ext cx="216396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5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DB18869-CDBA-48A8-BC54-4F02799F54A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gada projektu konkursa rezultāti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visās dalībvalstī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96920" y="1981080"/>
          <a:ext cx="8727840" cy="3600720"/>
        </p:xfrm>
        <a:graphic>
          <a:graphicData uri="http://schemas.openxmlformats.org/drawingml/2006/table">
            <a:tbl>
              <a:tblPr/>
              <a:tblGrid>
                <a:gridCol w="1476360"/>
                <a:gridCol w="977760"/>
                <a:gridCol w="1027080"/>
                <a:gridCol w="1244880"/>
                <a:gridCol w="1245960"/>
                <a:gridCol w="1557360"/>
                <a:gridCol w="1198440"/>
              </a:tblGrid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u pieteikum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tbalstītie no iesniegtajiem,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prasītais finansējums  (milj. eiro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ansējums (milj. eir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., %  no pieprasīt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126 1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996 27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4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 594 20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 281 77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5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 761 8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233 4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 596 50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77 71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453 36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5 6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 532 07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 224 8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5" name=""/>
          <p:cNvGraphicFramePr/>
          <p:nvPr/>
        </p:nvGraphicFramePr>
        <p:xfrm>
          <a:off x="1090440" y="1658880"/>
          <a:ext cx="7755120" cy="3989520"/>
        </p:xfrm>
        <a:graphic>
          <a:graphicData uri="http://schemas.openxmlformats.org/drawingml/2006/table">
            <a:tbl>
              <a:tblPr/>
              <a:tblGrid>
                <a:gridCol w="1378080"/>
                <a:gridCol w="1343160"/>
                <a:gridCol w="1771560"/>
                <a:gridCol w="1484280"/>
                <a:gridCol w="177804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1 1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4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5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33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1 5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4 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4 (6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142 7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2019.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8" name=""/>
          <p:cNvGraphicFramePr/>
          <p:nvPr/>
        </p:nvGraphicFramePr>
        <p:xfrm>
          <a:off x="493560" y="1943280"/>
          <a:ext cx="8352000" cy="3895560"/>
        </p:xfrm>
        <a:graphic>
          <a:graphicData uri="http://schemas.openxmlformats.org/drawingml/2006/table">
            <a:tbl>
              <a:tblPr/>
              <a:tblGrid>
                <a:gridCol w="1316160"/>
                <a:gridCol w="1614600"/>
                <a:gridCol w="1908000"/>
                <a:gridCol w="1596960"/>
                <a:gridCol w="1916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2  (7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4 54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 (6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0 91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  (3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 43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 (6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 27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   (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 (5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9 16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0-09-08T07:45:11Z</dcterms:modified>
  <cp:revision>184</cp:revision>
  <dc:subject/>
  <dc:title>PowerPoint Presentation</dc:title>
</cp:coreProperties>
</file>