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28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png" ContentType="image/png"/>
  <Override PartName="/ppt/media/image32.png" ContentType="image/png"/>
  <Override PartName="/ppt/media/image35.png" ContentType="image/png"/>
  <Override PartName="/ppt/media/image5.jpeg" ContentType="image/jpeg"/>
  <Override PartName="/ppt/media/image30.png" ContentType="image/png"/>
  <Override PartName="/ppt/media/image42.png" ContentType="image/png"/>
  <Override PartName="/ppt/media/image29.png" ContentType="image/png"/>
  <Override PartName="/ppt/media/image2.wmf" ContentType="image/x-wmf"/>
  <Override PartName="/ppt/media/image12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1.jpeg" ContentType="image/jpeg"/>
  <Override PartName="/ppt/media/image10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  <p:sldId id="286" r:id="rId52"/>
    <p:sldId id="287" r:id="rId53"/>
    <p:sldId id="288" r:id="rId54"/>
    <p:sldId id="289" r:id="rId55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slide" Target="slides/slide31.xml"/><Relationship Id="rId53" Type="http://schemas.openxmlformats.org/officeDocument/2006/relationships/slide" Target="slides/slide32.xml"/><Relationship Id="rId54" Type="http://schemas.openxmlformats.org/officeDocument/2006/relationships/slide" Target="slides/slide33.xml"/><Relationship Id="rId55" Type="http://schemas.openxmlformats.org/officeDocument/2006/relationships/slide" Target="slides/slide34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dt" idx="2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 type="ftr" idx="22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 type="sldNum" idx="23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1808BE3-869E-40A8-BD7B-DB1BDD7580A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86993BD-3762-4B01-A1C9-EB908DF4CE0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D81EF77-826A-4403-B4E7-C5F5B6B67AB1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3A23-91D7-4D6D-AF96-FDB0EA2A7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F580-AB79-4AF4-99DF-7039BABD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D7FD3D-9E18-40A5-88A8-D6AF0F39C57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52D5E2-8389-4C43-850E-2D2B2DADEB1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1A1090-5FC6-4D70-89DD-472D1EF6B6F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EAA67D-8345-4BF2-A1F1-59C4EB57620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54356C-ADC0-4EA8-B7BE-4A75AC79FB4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8C5DD6-962E-45E5-8438-42A08D856D0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A03206-E3A8-479A-8AF5-DF901300519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54F417-4A73-4701-950E-9382C0B511F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3B23CE-44AF-43AF-BB04-ED9EE600255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D367E6-3EB1-4F3A-8AC1-B502CA6A17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7A57-B1F4-47F4-8456-4214FAC79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CD62D2-8665-4C99-8B13-4578D91526E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28D6CD-9EBE-419E-AE82-D1E34445708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AF0EA9-968E-4619-A81D-95ADFD262B4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55BA76-929A-42AB-ADB3-891193337C7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7EC9D7-B5AA-4AD8-9162-A0006FF33AB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AD4D96-A644-4F67-B7A6-CFAD16B3FFE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1E002A-4158-4D0B-9A71-CFCD7D05A56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4AD103-9CA4-4F88-805C-9442A79A48B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CF5D5A-D495-4F35-A949-E0FEC71C4B3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E09BB4-ABC2-4DF8-877E-45D8FA3250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A686-C1EF-4D81-B6B9-49FF30636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C15EEE-274A-4BD4-97C5-EBD8CE61904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932B5-1BED-4FBC-A803-2BCD9F72C41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65D51-A343-4A6D-AC02-1D426629246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8AEDB-60E4-4F1F-97D4-E931E8975AB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2F4B1-8AC9-4849-AA05-BD46E131FA4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4FDAA-E9F7-46CA-833F-3CF772B4FD8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4C56F-E674-4B32-9805-21FB944559C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6434B-2FB0-417A-9330-447F5942255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F92B1-1055-433C-82F8-8FFE6E3B0B6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92E4D-D40B-46E0-BF13-069E864CBD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7300E-D399-4A42-A09F-8293D87FC27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D3537-AA91-4154-876C-B4EC2C118A4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8BA11-9B55-4B01-BA64-9F9A9F301B1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372856-A7D8-4D60-B919-595089DD921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0A5B93-6120-4571-8FEE-90827DE14DD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E4A894-C8C5-4C45-8ECE-5457CFA0885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43F01A-A726-4A48-850A-78BBCE7B06F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8FB02B-EC66-422A-BE8C-F3BF4AF2B09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B86603-3391-4D47-8575-703B988FE3F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DBC9BE-AD28-4990-911C-60CE232B36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29706C-73FD-465D-9FCA-9DFD98F6544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1F8042-E0A6-4194-80F3-F3BC53D17E8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749759-888F-429C-8EF2-71B698CF78B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AF32BF-4A02-49E6-8ECB-3EF6BA64926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8BE982-A19D-4438-85F6-70E41127434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811A2C-8548-4419-8869-F076C1AEFB0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203EE5-B189-4603-B023-8F0FA3DCE68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2A3543-C622-4BEB-AC60-F2A53E7FA3E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3EECC8-DE87-4782-9803-D6B6931F801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685F2F-648F-4358-90AF-784F78B808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E15839-02A5-4F1B-843D-2C6734AECAE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C419C9-9D45-4F85-8B6C-0410CFDB8D3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F683ED-C2A2-44AD-8FA3-501CF973976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B270F0-7758-403A-9F17-A38516B0C44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608D4E-FCB1-45C0-A9D7-4D9F9C568CE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565916-B9A3-45BB-A7FF-8EB58CCF854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2B3E50-BA02-4978-9C23-27F22614F99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D3826-49FB-4C68-BD13-537AB8F5E64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EB131-C2F3-4DBA-ABE4-3716EA57393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8EB1F-76EA-4D5F-9344-3961E3654C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54A18-F855-40DF-A60A-149CD5F52F38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0D9A7-8819-4754-B23A-E2F081340691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1F1FB-4DE3-449B-BD76-8DC700FC473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419C7-C1F8-433B-A08E-8926CCEFCAB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9C642-02A9-4CEA-BC39-C7A9B9A9E8D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FF0AD-A890-42BC-87D7-7F9EA1428BF6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FD436-55AE-494A-8437-A8F1E150F9F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5BAE1-84CF-47E7-86FE-F849101824C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2691A-D39A-48C8-A46C-6134048A9669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A73B36-649D-4FA5-B539-08FC24DABF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8B819B-258B-4E42-9B9A-E250E516F29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D4FA17-7A13-4A09-9B24-88AD5C70278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40596F-9AEC-4802-AC9A-D58A2F1BACA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F0385D-868C-4806-9D75-C7480AB9B2D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E733CF-51B0-46A1-B8E2-BEEF33D05A42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DF16D5-55D6-4AAB-8741-20DE14D33562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56A098-1BA4-4EFA-BD6D-A8063FD4FDE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9FFD33-3E17-4681-AB20-E1F51028F92B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F3591F-1D8A-41DE-A029-A5A772419C8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B9B77F-45C9-4BC3-9686-FE77F97CAA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4C8689-02DD-4880-9B7D-ED43D7D10A8A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50A966-DF2C-493C-A0A1-8BE683B3AF2B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29377F-D448-446C-9E77-2DA47321AE57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98923A-824A-426A-995B-2D40AE3C541C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68A407-D5B8-4B8B-9A9A-5940CB6DC050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3DFAFC-1B53-48DA-B1C3-0A62FDCF7B47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8EAB36-B950-47DF-BF52-CD7C7D7531C3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19CD24-26A2-4A4C-A42D-6DC32B13116A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40EC34-6395-4CAE-8BBF-33076075542B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A3729C-F838-4392-B68B-46A97C74BC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9360A2-C5CD-4965-BCFB-72429421527F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A345B6-366E-4A70-9817-71F2B1483142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5D3A1A-986D-4CE8-B254-BF143A47E980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83E7-D3B3-4D22-AFA3-3A668B7C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B426C3-EC49-45E1-AB57-5D1BA8FE8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D33278-B825-4A9C-B66F-6CCCC22E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48E06E-EEB9-46D4-952E-3EB050C2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E44831-787D-4135-830F-6DBDCFFF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EDCC71-F212-4505-A2BB-A1BD281B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44881C-2CBB-45CA-A34E-13426240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47B5B0-618B-4CA4-BFF1-F2DD7DDE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4957E6-805D-49D7-9E74-05DA4369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B58B75-9DEE-4B42-B6AC-4463B6B9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9B06CC-8D72-4DEF-949E-21B4C234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B9D4A8-E8EC-4E89-9B92-9171FF4EF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0848F1-E607-4921-B0F9-BF45E62A4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EB30E-09D4-4CF2-BAD7-688E75D2FAF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F8D92C-19D4-47B5-A232-FDD64BB434E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2776F7-B2C0-475D-BA01-7A30A9B503E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1731B7-4B98-4D1B-8C4F-C835A3C0A5E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F5CC0-4A9A-4138-B249-D00487E61A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9090-3372-41C7-A757-0E23C418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2F7B0-AB9D-4D99-8C4C-B22610DD36C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3F5F3-D3F8-4853-9434-A353B3E209C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5D1AE7-1651-4639-8D1D-1C19F1C7EC0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92C73-D895-4375-8C07-5FD7657BBCA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5B09E-A6A8-49BA-8BFC-438D9DFCE0B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8995F3-62A2-4B91-AF9F-619C79A8042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CB5098-E4B3-4F0A-B471-DA2B783230E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C7DFD-D83C-4B9F-8504-627295BB7CE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1A271-2500-4CB6-9F7B-F7C4D45F447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EF5241-D6B5-48E0-A15B-5C6F32A977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C364-7B31-4B56-91A0-02D4882E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13762-E150-446F-94F4-2165A973881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A0189-7697-4EEF-AB96-CF42A005FA3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F7F3F-5CFE-446D-9820-7A8EE4C3FDE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B91A3-A14D-43D0-8E42-1496B868841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5052E6-3726-453B-AE11-6CADBF3E524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FF158-FAFD-450E-A6D7-D98EDC388A8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E9655-9B4F-4DAC-983F-0EE6603B9A1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6E039-D019-40D7-A109-6BF9E45DBE1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BA54F-2686-40F4-AF50-AB7BD96AC0D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D033-7BEE-41CD-8069-3D3BEBFD74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CB32-DB9A-4CEC-A7F1-5A2D4EC1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B208-081E-4030-9991-2B11AAE1B94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E2D4-C88D-43A9-BF95-98528D0E4FD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393C-F3D8-4F15-9217-CDCD0028950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4465-7496-475E-BF5D-61103CC7E64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7CF1-4295-4991-B5A3-A7A59E6FDB8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4860-19EE-4A4E-8D07-F6094B7913D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85F6-8463-4264-9ABD-88781E93C3A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B192-6D2E-49D3-A323-889E02900BC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966B-5088-41ED-A75D-0E5714622EE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9FA8-49E7-42A4-81C1-6238A09DD5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F934-EEA2-42F0-8EA8-9D22FCE5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1AFF-C7E9-4996-9D71-DCC63E01C21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471B0C-9AB8-4023-B577-044CEE16F5D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FB1619-86AE-4854-86BD-F141A10481C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9CFC6F-02D7-4C26-8374-BA61FADF6F5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6CB2D8-5062-4D5A-8B92-14EF1722499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0C742A-8E59-4CF5-A063-8943FEA3C9D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4DCA48-53BE-4D19-94B1-91D0A36E57C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EA894D-7048-40C3-9067-78D2D660A43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1E482E-7ED3-484B-8931-F1F17088A72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8783A4-A421-45D8-BDF4-EFDCBA82DD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5D33-4A5C-435E-9935-C986483C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8FF651-DF8C-4D60-B1B9-69A88B018EC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035315-9F86-402B-B438-0978CC73419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F68FBA-5474-4346-A9C9-CB9EE920E5B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548499-1CD2-4697-A4CA-B6EA201A45E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8493B9-B3A6-4700-9C80-B27FBE3E51D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4D64A5-F525-4646-9E7D-4A1E05FE792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40D8E8-A88B-4221-AEE4-BC3DFC9D331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6A8C90-420D-4F7D-8C45-9BA277AF549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741580-C54D-447E-AEB7-0301A9F269E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87D7A9-86FA-45D3-AB48-0EBE9263BF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1E8D-0196-4BDA-9CE2-2BCF1075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8346D6-0C47-4307-BD39-1ACAC2732EF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52273D-13AA-437F-984D-E56798DB66E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113F02-900E-4DA6-AACE-F53F6C679A7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881B55-723D-4680-B6ED-A51246EE5B2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685630-18D1-4C7A-9230-10C211AB8D9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445B9-BA3F-4B9D-A4AB-455C9D0BEF4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A8FDC-372E-4633-A5C9-F9F4B31F97A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822FE-238D-4640-97BB-91FC318D288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858A7-E5E4-47A8-B97E-A19B658D5A6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91DFF-F36D-4E0B-B872-7797B09D22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1EAB-1025-486F-AF90-8A385053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C51C5-4D93-4D13-AD66-9B1425E187B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F5D86-BB3E-4AF7-919A-203DD540FE8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30820-FDE8-4BB9-8E52-696F0A09CE3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EC0BF-326D-4C1A-9A84-77533DDE872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37E8F-9F98-4695-B714-B098BDE6E96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107E6-6162-450C-9A94-C5D70842521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20087-4527-48FC-84C0-9B19B936BB2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A28C2F-5D3E-4B37-A76A-F9DD7CD7F16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4AB358-7F96-4A82-BB42-81B057B681C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5F4002-AF44-4487-A7AC-AB88866083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1A331DA-15A3-478C-B452-77CB22F78C5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EC5D7F9-BA59-46A2-8933-1837C678D7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54DDCD4-0DA9-4204-8310-A8353A4A734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1AB983C-B648-4448-B93B-7C7092F7C63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367640C-B106-4DE0-852E-BC9589900AB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2B4DC65-1A24-458C-9E0B-92C2E3AF4EF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62F64B8-4324-448F-A370-21903F932A6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29E1944-1DF6-40AB-A5D7-C6855B6BBCC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6B18C2D-C42D-4A5F-A011-620BAAC2EAE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EC23C23-B38F-454D-BAFF-4B0E7A018BA1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A4D66B7-5CCC-41E6-AE10-CF077D9C0035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7B747C8-B4CA-4C45-A6DF-A0AEB72958A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E1E41CD-827F-46F8-A9FF-D979D6F6D1F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5117FAB-467B-417D-A476-9AD6229EF1F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FA94A00-074B-4627-96CD-7EEF9A8DC0A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60DA336-62DF-4E3A-B5C6-069F6228201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5516C05-F816-4701-8C75-2B07F8F6C53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42CCBAB-2201-4230-8AA9-570C1515C18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2141640" y="612360"/>
            <a:ext cx="6316560" cy="163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Verdana"/>
                <a:ea typeface="Verdana"/>
              </a:rPr>
              <a:t>Projektu pieteikumu aizpildīšanas seminārs </a:t>
            </a:r>
            <a:br>
              <a:rPr sz="1800"/>
            </a:br>
            <a:r>
              <a:rPr b="1" lang="lv-LV" sz="1800" spc="-1" strike="noStrike">
                <a:solidFill>
                  <a:srgbClr val="0070c0"/>
                </a:solidFill>
                <a:latin typeface="Verdana"/>
                <a:ea typeface="Verdana"/>
              </a:rPr>
              <a:t>Nordplus  Pieaugušo izglītības projektu iesniedzējiem</a:t>
            </a:r>
            <a:br>
              <a:rPr sz="23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029960" y="2887560"/>
            <a:ext cx="765324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02060"/>
                </a:solidFill>
                <a:latin typeface="Verdana"/>
                <a:ea typeface="Verdana"/>
              </a:rPr>
              <a:t>Projektu pieteikumu sagatavošana un iesniegšana Espresso sistēmā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2238480" y="3833280"/>
            <a:ext cx="5829120" cy="66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2021.gada 15.janvārī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83" name="Text Placeholder 3"/>
          <p:cNvSpPr/>
          <p:nvPr/>
        </p:nvSpPr>
        <p:spPr>
          <a:xfrm flipV="1" rot="10800000">
            <a:off x="3795840" y="5058360"/>
            <a:ext cx="4868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VIAA Vadības un ārējās sadarbības departamen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https://espresso.si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5" name="Picture 1" descr=""/>
          <p:cNvPicPr/>
          <p:nvPr/>
        </p:nvPicPr>
        <p:blipFill>
          <a:blip r:embed="rId1"/>
          <a:stretch/>
        </p:blipFill>
        <p:spPr>
          <a:xfrm>
            <a:off x="2205000" y="1995480"/>
            <a:ext cx="5969160" cy="3481560"/>
          </a:xfrm>
          <a:prstGeom prst="rect">
            <a:avLst/>
          </a:prstGeom>
          <a:ln w="0">
            <a:noFill/>
          </a:ln>
        </p:spPr>
      </p:pic>
      <p:sp>
        <p:nvSpPr>
          <p:cNvPr id="816" name="Title 1"/>
          <p:cNvSpPr/>
          <p:nvPr/>
        </p:nvSpPr>
        <p:spPr>
          <a:xfrm>
            <a:off x="0" y="2984400"/>
            <a:ext cx="259092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Svarīgi! Pārdomājam, ar kādu e-pasta adresi reģistrēsimies!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9" name="Picture 2" descr=""/>
          <p:cNvPicPr/>
          <p:nvPr/>
        </p:nvPicPr>
        <p:blipFill>
          <a:blip r:embed="rId1"/>
          <a:stretch/>
        </p:blipFill>
        <p:spPr>
          <a:xfrm>
            <a:off x="2540160" y="1066680"/>
            <a:ext cx="6343560" cy="5397480"/>
          </a:xfrm>
          <a:prstGeom prst="rect">
            <a:avLst/>
          </a:prstGeom>
          <a:ln w="0">
            <a:noFill/>
          </a:ln>
        </p:spPr>
      </p:pic>
      <p:sp>
        <p:nvSpPr>
          <p:cNvPr id="820" name="Left Arrow 6"/>
          <p:cNvSpPr/>
          <p:nvPr/>
        </p:nvSpPr>
        <p:spPr>
          <a:xfrm rot="1692600">
            <a:off x="7183080" y="4373280"/>
            <a:ext cx="1720800" cy="552240"/>
          </a:xfrm>
          <a:prstGeom prst="leftArrow">
            <a:avLst>
              <a:gd name="adj1" fmla="val 50000"/>
              <a:gd name="adj2" fmla="val 54516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6" descr=""/>
          <p:cNvPicPr/>
          <p:nvPr/>
        </p:nvPicPr>
        <p:blipFill>
          <a:blip r:embed="rId2"/>
          <a:srcRect l="0" t="0" r="0" b="4418"/>
          <a:stretch/>
        </p:blipFill>
        <p:spPr>
          <a:xfrm>
            <a:off x="2741760" y="1457280"/>
            <a:ext cx="5719680" cy="4746600"/>
          </a:xfrm>
          <a:prstGeom prst="rect">
            <a:avLst/>
          </a:prstGeom>
          <a:ln w="0">
            <a:noFill/>
          </a:ln>
        </p:spPr>
      </p:pic>
      <p:sp>
        <p:nvSpPr>
          <p:cNvPr id="824" name="Title 1"/>
          <p:cNvSpPr/>
          <p:nvPr/>
        </p:nvSpPr>
        <p:spPr>
          <a:xfrm>
            <a:off x="0" y="2851200"/>
            <a:ext cx="259092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  <a:ea typeface="Verdana"/>
              </a:rPr>
              <a:t>Izvēlamies projekta vei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5" name="Straight Arrow Connector 9"/>
          <p:cNvCxnSpPr/>
          <p:nvPr/>
        </p:nvCxnSpPr>
        <p:spPr>
          <a:xfrm>
            <a:off x="2141280" y="3171600"/>
            <a:ext cx="60084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Picture 5" descr=""/>
          <p:cNvPicPr/>
          <p:nvPr/>
        </p:nvPicPr>
        <p:blipFill>
          <a:blip r:embed="rId1"/>
          <a:stretch/>
        </p:blipFill>
        <p:spPr>
          <a:xfrm>
            <a:off x="2479680" y="1504800"/>
            <a:ext cx="6458040" cy="5007240"/>
          </a:xfrm>
          <a:prstGeom prst="rect">
            <a:avLst/>
          </a:prstGeom>
          <a:ln w="0">
            <a:noFill/>
          </a:ln>
        </p:spPr>
      </p:pic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0" y="1942920"/>
            <a:ext cx="2209680" cy="2385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Varam dot iespēju kolēģiem no mūsu un partneru  organizācijām lasīt, vai papildināt un rediģēt teks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8" name="Straight Arrow Connector 8"/>
          <p:cNvCxnSpPr/>
          <p:nvPr/>
        </p:nvCxnSpPr>
        <p:spPr>
          <a:xfrm>
            <a:off x="1569600" y="4199040"/>
            <a:ext cx="3002760" cy="800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29" name="Title 1"/>
          <p:cNvSpPr/>
          <p:nvPr/>
        </p:nvSpPr>
        <p:spPr>
          <a:xfrm>
            <a:off x="2590920" y="196920"/>
            <a:ext cx="60958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0" name="Picture 3" descr=""/>
          <p:cNvPicPr/>
          <p:nvPr/>
        </p:nvPicPr>
        <p:blipFill>
          <a:blip r:embed="rId1"/>
          <a:stretch/>
        </p:blipFill>
        <p:spPr>
          <a:xfrm>
            <a:off x="5148360" y="3705120"/>
            <a:ext cx="3848040" cy="204804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2" descr=""/>
          <p:cNvPicPr/>
          <p:nvPr/>
        </p:nvPicPr>
        <p:blipFill>
          <a:blip r:embed="rId2"/>
          <a:srcRect l="2692" t="0" r="3629" b="0"/>
          <a:stretch/>
        </p:blipFill>
        <p:spPr>
          <a:xfrm>
            <a:off x="77760" y="2251080"/>
            <a:ext cx="9163080" cy="1197000"/>
          </a:xfrm>
          <a:prstGeom prst="rect">
            <a:avLst/>
          </a:prstGeom>
          <a:ln w="0">
            <a:noFill/>
          </a:ln>
        </p:spPr>
      </p:pic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Ievadītā teksta saglabāš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3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34" name="Title 1"/>
          <p:cNvSpPr/>
          <p:nvPr/>
        </p:nvSpPr>
        <p:spPr>
          <a:xfrm>
            <a:off x="463680" y="4189320"/>
            <a:ext cx="259056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  <a:ea typeface="Verdana"/>
              </a:rPr>
              <a:t>Vienmēr nospiežam pēc informācijas ievadīšan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5" name="Straight Arrow Connector 9"/>
          <p:cNvCxnSpPr/>
          <p:nvPr/>
        </p:nvCxnSpPr>
        <p:spPr>
          <a:xfrm flipV="1">
            <a:off x="3446280" y="3958920"/>
            <a:ext cx="1867320" cy="13485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36" name="Title 1"/>
          <p:cNvSpPr/>
          <p:nvPr/>
        </p:nvSpPr>
        <p:spPr>
          <a:xfrm>
            <a:off x="2165400" y="5307120"/>
            <a:ext cx="259092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ff0000"/>
                </a:solidFill>
                <a:latin typeface="Verdana"/>
                <a:ea typeface="Verdana"/>
              </a:rPr>
              <a:t>Nekad nespiežam “Back” veidlapas aizpildīšanas gaitā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7" name="Straight Arrow Connector 12"/>
          <p:cNvCxnSpPr/>
          <p:nvPr/>
        </p:nvCxnSpPr>
        <p:spPr>
          <a:xfrm flipV="1">
            <a:off x="1874880" y="2763360"/>
            <a:ext cx="1650240" cy="14263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7" descr=""/>
          <p:cNvPicPr/>
          <p:nvPr/>
        </p:nvPicPr>
        <p:blipFill>
          <a:blip r:embed="rId1"/>
          <a:stretch/>
        </p:blipFill>
        <p:spPr>
          <a:xfrm>
            <a:off x="3533760" y="1017720"/>
            <a:ext cx="5610240" cy="5840280"/>
          </a:xfrm>
          <a:prstGeom prst="rect">
            <a:avLst/>
          </a:prstGeom>
          <a:ln w="0">
            <a:noFill/>
          </a:ln>
        </p:spPr>
      </p:pic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2768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epieciešams ievadīt informāciju par  partneru organizācijām Nordplus datubāzē (ja tās vēl nav reģistrētas datu bāzē!)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Visām iesistītajām organizācijām sistēma ģenerē apliecinājuma vēstules, </a:t>
            </a:r>
            <a:r>
              <a:rPr b="1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kuras jāparaksta attiecīgo organizāciju/iestāžu paraksttiesīgajām personām, jāieskanē un jāpievieno pieteikumam </a:t>
            </a:r>
            <a:br>
              <a:rPr sz="1600"/>
            </a:br>
            <a:br>
              <a:rPr sz="1600"/>
            </a:br>
            <a:r>
              <a:rPr b="1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0" name="Straight Arrow Connector 10"/>
          <p:cNvCxnSpPr/>
          <p:nvPr/>
        </p:nvCxnSpPr>
        <p:spPr>
          <a:xfrm flipV="1">
            <a:off x="3098520" y="2094840"/>
            <a:ext cx="3005640" cy="9975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841" name="Straight Arrow Connector 12"/>
          <p:cNvCxnSpPr/>
          <p:nvPr/>
        </p:nvCxnSpPr>
        <p:spPr>
          <a:xfrm flipV="1">
            <a:off x="2819160" y="2095200"/>
            <a:ext cx="5329800" cy="15912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Picture 6" descr=""/>
          <p:cNvPicPr/>
          <p:nvPr/>
        </p:nvPicPr>
        <p:blipFill>
          <a:blip r:embed="rId1"/>
          <a:stretch/>
        </p:blipFill>
        <p:spPr>
          <a:xfrm>
            <a:off x="3510000" y="-204840"/>
            <a:ext cx="5359320" cy="394488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7" descr=""/>
          <p:cNvPicPr/>
          <p:nvPr/>
        </p:nvPicPr>
        <p:blipFill>
          <a:blip r:embed="rId2"/>
          <a:stretch/>
        </p:blipFill>
        <p:spPr>
          <a:xfrm>
            <a:off x="3510000" y="3157560"/>
            <a:ext cx="4883040" cy="3700440"/>
          </a:xfrm>
          <a:prstGeom prst="rect">
            <a:avLst/>
          </a:prstGeom>
          <a:ln w="0">
            <a:noFill/>
          </a:ln>
        </p:spPr>
      </p:pic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-151200" y="1666440"/>
            <a:ext cx="3660840" cy="2675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64960" indent="-17280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oteikti jāpārliecinās, vai partneru organizācija jau iepriekš nav reģistrēta Espresso sistēmā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ngļu valodā jāizmanto tāds partneru organizācijas nosaukums, kādu organizācija pati lieto.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! Pēc partneru datu ievadīšanas sistēma ģenerē </a:t>
            </a:r>
            <a:r>
              <a:rPr b="1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partneru apliecinājuma vēstules</a:t>
            </a: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, kuras jāizdrukā, jāparaksta, jāieskanē un jāpievieno projekta pieteikumem (skat. 6. sadaļu)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5" name="Straight Arrow Connector 9"/>
          <p:cNvCxnSpPr/>
          <p:nvPr/>
        </p:nvCxnSpPr>
        <p:spPr>
          <a:xfrm flipV="1">
            <a:off x="2850840" y="1166400"/>
            <a:ext cx="4537800" cy="7689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846" name="Straight Arrow Connector 11"/>
          <p:cNvCxnSpPr/>
          <p:nvPr/>
        </p:nvCxnSpPr>
        <p:spPr>
          <a:xfrm flipV="1">
            <a:off x="3003120" y="1463040"/>
            <a:ext cx="3590280" cy="624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847" name="Left Arrow 13"/>
          <p:cNvSpPr/>
          <p:nvPr/>
        </p:nvSpPr>
        <p:spPr>
          <a:xfrm rot="16200000">
            <a:off x="5309280" y="2648160"/>
            <a:ext cx="2614680" cy="355680"/>
          </a:xfrm>
          <a:prstGeom prst="leftArrow">
            <a:avLst>
              <a:gd name="adj1" fmla="val 50000"/>
              <a:gd name="adj2" fmla="val 5448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Picture 7" descr=""/>
          <p:cNvPicPr/>
          <p:nvPr/>
        </p:nvPicPr>
        <p:blipFill>
          <a:blip r:embed="rId1"/>
          <a:stretch/>
        </p:blipFill>
        <p:spPr>
          <a:xfrm>
            <a:off x="2359080" y="1227240"/>
            <a:ext cx="6784920" cy="5186160"/>
          </a:xfrm>
          <a:prstGeom prst="rect">
            <a:avLst/>
          </a:prstGeom>
          <a:ln w="0">
            <a:noFill/>
          </a:ln>
        </p:spPr>
      </p:pic>
      <p:cxnSp>
        <p:nvCxnSpPr>
          <p:cNvPr id="849" name="Straight Arrow Connector 9"/>
          <p:cNvCxnSpPr/>
          <p:nvPr/>
        </p:nvCxnSpPr>
        <p:spPr>
          <a:xfrm>
            <a:off x="1600200" y="3633840"/>
            <a:ext cx="953280" cy="11926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850" name="Title 1"/>
          <p:cNvSpPr/>
          <p:nvPr/>
        </p:nvSpPr>
        <p:spPr>
          <a:xfrm>
            <a:off x="-9360" y="2770200"/>
            <a:ext cx="25621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Varam izvēlēties </a:t>
            </a:r>
            <a:r>
              <a:rPr b="1" lang="lv-LV" sz="1800" spc="-1" strike="noStrike">
                <a:solidFill>
                  <a:srgbClr val="002060"/>
                </a:solidFill>
                <a:latin typeface="Verdana"/>
              </a:rPr>
              <a:t>tikai vienu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rojekta veidu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Attiecīgi – ja vēlamies gan mobilitātes, gan sadarbības projektu, jāiesniedz vairāki projekta pieteiku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657760" y="4826160"/>
            <a:ext cx="3268800" cy="637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64960"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 </a:t>
            </a: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Šai sadaļai jārada skaidrs priekšstats par projekta ieceri un nepieciešamīb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2" name="Straight Arrow Connector 11"/>
          <p:cNvCxnSpPr/>
          <p:nvPr/>
        </p:nvCxnSpPr>
        <p:spPr>
          <a:xfrm flipH="1">
            <a:off x="3180600" y="5092200"/>
            <a:ext cx="2826360" cy="4834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853" name="Straight Arrow Connector 6"/>
          <p:cNvCxnSpPr/>
          <p:nvPr/>
        </p:nvCxnSpPr>
        <p:spPr>
          <a:xfrm flipH="1">
            <a:off x="2831760" y="786960"/>
            <a:ext cx="2248560" cy="40395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854" name="Title 1"/>
          <p:cNvSpPr/>
          <p:nvPr/>
        </p:nvSpPr>
        <p:spPr>
          <a:xfrm>
            <a:off x="5079960" y="0"/>
            <a:ext cx="3589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Varam iesniegt arī pieteikumu sagatavošanas vizītei, lai sagatavotu projektu 2022. gada projektu konkurs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Picture 9" descr=""/>
          <p:cNvPicPr/>
          <p:nvPr/>
        </p:nvPicPr>
        <p:blipFill>
          <a:blip r:embed="rId1"/>
          <a:stretch/>
        </p:blipFill>
        <p:spPr>
          <a:xfrm>
            <a:off x="2928960" y="636480"/>
            <a:ext cx="5967360" cy="6221520"/>
          </a:xfrm>
          <a:prstGeom prst="rect">
            <a:avLst/>
          </a:prstGeom>
          <a:ln w="0">
            <a:noFill/>
          </a:ln>
        </p:spPr>
      </p:pic>
      <p:sp>
        <p:nvSpPr>
          <p:cNvPr id="856" name="Title 1"/>
          <p:cNvSpPr/>
          <p:nvPr/>
        </p:nvSpPr>
        <p:spPr>
          <a:xfrm>
            <a:off x="2590920" y="196920"/>
            <a:ext cx="60958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Par mobilitātes projekt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itle 1"/>
          <p:cNvSpPr/>
          <p:nvPr/>
        </p:nvSpPr>
        <p:spPr>
          <a:xfrm>
            <a:off x="-42840" y="2500200"/>
            <a:ext cx="2108160" cy="23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264960" indent="-17280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ff0000"/>
                </a:solidFill>
                <a:latin typeface="Verdana"/>
                <a:ea typeface="Verdana"/>
              </a:rPr>
              <a:t>Visiem aprakstiem jābūt izsmeļošiem, taču iespējami koncentrēti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Picture 2" descr=""/>
          <p:cNvPicPr/>
          <p:nvPr/>
        </p:nvPicPr>
        <p:blipFill>
          <a:blip r:embed="rId1"/>
          <a:stretch/>
        </p:blipFill>
        <p:spPr>
          <a:xfrm>
            <a:off x="3030480" y="690480"/>
            <a:ext cx="5689800" cy="5897520"/>
          </a:xfrm>
          <a:prstGeom prst="rect">
            <a:avLst/>
          </a:prstGeom>
          <a:ln w="0">
            <a:noFill/>
          </a:ln>
        </p:spPr>
      </p:pic>
      <p:sp>
        <p:nvSpPr>
          <p:cNvPr id="859" name="Title 1"/>
          <p:cNvSpPr/>
          <p:nvPr/>
        </p:nvSpPr>
        <p:spPr>
          <a:xfrm>
            <a:off x="0" y="3854520"/>
            <a:ext cx="258588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264960" indent="-17280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Jānorāda iepriekšējie Nordplus projekti, kā arī citi Nordplus projektu iesniegumi šim konkursam (ja tādi ir)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0" name="Straight Arrow Connector 8"/>
          <p:cNvCxnSpPr/>
          <p:nvPr/>
        </p:nvCxnSpPr>
        <p:spPr>
          <a:xfrm>
            <a:off x="2585520" y="4830480"/>
            <a:ext cx="62172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072880" y="374760"/>
            <a:ext cx="6442200" cy="76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Verdana"/>
                <a:ea typeface="Verdana"/>
              </a:rPr>
              <a:t>  </a:t>
            </a:r>
            <a:r>
              <a:rPr b="1" lang="nb-NO" sz="32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3200" spc="-1" strike="noStrike">
                <a:solidFill>
                  <a:srgbClr val="0b7d91"/>
                </a:solidFill>
                <a:latin typeface="Verdana"/>
                <a:ea typeface="Verdana"/>
              </a:rPr>
              <a:t> 2021. gada projektu konkurs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2692440" y="1141560"/>
            <a:ext cx="6184800" cy="5233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1859c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31859c"/>
                </a:solidFill>
                <a:latin typeface="Calibri"/>
              </a:rPr>
              <a:t>2020.gada 1. novembrī</a:t>
            </a:r>
            <a:r>
              <a:rPr b="1" lang="lv-LV" sz="2600" spc="-1" strike="noStrike">
                <a:solidFill>
                  <a:srgbClr val="002060"/>
                </a:solidFill>
                <a:latin typeface="Calibri"/>
              </a:rPr>
              <a:t> izsludināts ikgadējais Nordplus projektu konkurss </a:t>
            </a:r>
            <a:r>
              <a:rPr b="0" lang="lv-LV" sz="2600" spc="-1" strike="noStrike">
                <a:solidFill>
                  <a:srgbClr val="002060"/>
                </a:solidFill>
                <a:latin typeface="Calibri"/>
              </a:rPr>
              <a:t>https://www.nordplusonline.org/calls/call-for-applications-round-1-february-2021/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ff0000"/>
                </a:solidFill>
                <a:latin typeface="Calibri"/>
              </a:rPr>
              <a:t>Projektu pieteikumu iesniegšanas termiņš</a:t>
            </a:r>
            <a:r>
              <a:rPr b="1" lang="lv-LV" sz="2600" spc="-1" strike="noStrike">
                <a:solidFill>
                  <a:srgbClr val="ff0000"/>
                </a:solidFill>
                <a:latin typeface="Calibri"/>
              </a:rPr>
              <a:t> - 2021. gada  1. februāris </a:t>
            </a:r>
            <a:r>
              <a:rPr b="0" lang="lv-LV" sz="2600" spc="-1" strike="noStrike">
                <a:solidFill>
                  <a:srgbClr val="ff0000"/>
                </a:solidFill>
                <a:latin typeface="Calibri"/>
              </a:rPr>
              <a:t>(plkst. 23:59 pēc Norvēģijas laik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6" name="Picture 3" descr=""/>
          <p:cNvPicPr/>
          <p:nvPr/>
        </p:nvPicPr>
        <p:blipFill>
          <a:blip r:embed="rId1"/>
          <a:stretch/>
        </p:blipFill>
        <p:spPr>
          <a:xfrm>
            <a:off x="146160" y="2209680"/>
            <a:ext cx="2628720" cy="22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Picture 2" descr=""/>
          <p:cNvPicPr/>
          <p:nvPr/>
        </p:nvPicPr>
        <p:blipFill>
          <a:blip r:embed="rId1"/>
          <a:stretch/>
        </p:blipFill>
        <p:spPr>
          <a:xfrm>
            <a:off x="3294000" y="0"/>
            <a:ext cx="5667480" cy="5745240"/>
          </a:xfrm>
          <a:prstGeom prst="rect">
            <a:avLst/>
          </a:prstGeom>
          <a:ln w="0">
            <a:noFill/>
          </a:ln>
        </p:spPr>
      </p:pic>
      <p:sp>
        <p:nvSpPr>
          <p:cNvPr id="862" name="Title 1"/>
          <p:cNvSpPr/>
          <p:nvPr/>
        </p:nvSpPr>
        <p:spPr>
          <a:xfrm>
            <a:off x="250920" y="1866960"/>
            <a:ext cx="258588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264960" indent="-17280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etvert to, kas attiecas uz pieaugušo izglītīb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3" name="Straight Arrow Connector 8"/>
          <p:cNvCxnSpPr/>
          <p:nvPr/>
        </p:nvCxnSpPr>
        <p:spPr>
          <a:xfrm>
            <a:off x="2982960" y="3733560"/>
            <a:ext cx="62100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64" name="TextBox 7"/>
          <p:cNvSpPr/>
          <p:nvPr/>
        </p:nvSpPr>
        <p:spPr>
          <a:xfrm>
            <a:off x="0" y="3071880"/>
            <a:ext cx="3147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Iespējami konkrēti jānorāda partnera uzdevumi, komunikāciju kanāli (Skype, ZOOM...) un regularitā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Box 8"/>
          <p:cNvSpPr/>
          <p:nvPr/>
        </p:nvSpPr>
        <p:spPr>
          <a:xfrm>
            <a:off x="55440" y="4307040"/>
            <a:ext cx="2781360" cy="23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lv-LV" sz="1500" spc="-1" strike="noStrike">
                <a:solidFill>
                  <a:srgbClr val="ff0000"/>
                </a:solidFill>
                <a:latin typeface="Verdana"/>
              </a:rPr>
              <a:t>Šī ir ļoti būtiska sadaļa – jāparāda paredzamā projekta ietekme uz partneru organizācijām. Kā projekta aktivitātes ir saistītas ar pieaugušo izglītotājaikdiena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ff0000"/>
                </a:solidFill>
                <a:latin typeface="Verdana"/>
              </a:rPr>
              <a:t>darbu? Jāapraksta rezultātu ilgtspēj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6" name="Straight Arrow Connector 11"/>
          <p:cNvCxnSpPr/>
          <p:nvPr/>
        </p:nvCxnSpPr>
        <p:spPr>
          <a:xfrm>
            <a:off x="2673360" y="2552400"/>
            <a:ext cx="93096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67" name="Straight Arrow Connector 13"/>
          <p:cNvCxnSpPr/>
          <p:nvPr/>
        </p:nvCxnSpPr>
        <p:spPr>
          <a:xfrm>
            <a:off x="2825280" y="5273280"/>
            <a:ext cx="62172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Picture 2" descr=""/>
          <p:cNvPicPr/>
          <p:nvPr/>
        </p:nvPicPr>
        <p:blipFill>
          <a:blip r:embed="rId1"/>
          <a:stretch/>
        </p:blipFill>
        <p:spPr>
          <a:xfrm>
            <a:off x="2903400" y="0"/>
            <a:ext cx="5639040" cy="5992920"/>
          </a:xfrm>
          <a:prstGeom prst="rect">
            <a:avLst/>
          </a:prstGeom>
          <a:ln w="0">
            <a:noFill/>
          </a:ln>
        </p:spPr>
      </p:pic>
      <p:sp>
        <p:nvSpPr>
          <p:cNvPr id="869" name="TextBox 7"/>
          <p:cNvSpPr/>
          <p:nvPr/>
        </p:nvSpPr>
        <p:spPr>
          <a:xfrm>
            <a:off x="297000" y="2176560"/>
            <a:ext cx="2438280" cy="26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Jāsniedz detalizēts paredzamo rezultātu aprakst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Iespējami konkrēti jānorāda informācijas izplatīšanas kanāli (weblapas, plašsaziņas līdzekļi, iespējamie pasākumi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Reālistiski novērtēšanas pasākum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0" name="Picture 2" descr=""/>
          <p:cNvPicPr/>
          <p:nvPr/>
        </p:nvPicPr>
        <p:blipFill>
          <a:blip r:embed="rId1"/>
          <a:stretch/>
        </p:blipFill>
        <p:spPr>
          <a:xfrm>
            <a:off x="298440" y="498600"/>
            <a:ext cx="8545680" cy="5257800"/>
          </a:xfrm>
          <a:prstGeom prst="rect">
            <a:avLst/>
          </a:prstGeom>
          <a:ln w="0">
            <a:noFill/>
          </a:ln>
        </p:spPr>
      </p:pic>
      <p:sp>
        <p:nvSpPr>
          <p:cNvPr id="871" name="Left Arrow 3"/>
          <p:cNvSpPr/>
          <p:nvPr/>
        </p:nvSpPr>
        <p:spPr>
          <a:xfrm rot="2480400">
            <a:off x="831600" y="3328560"/>
            <a:ext cx="1008000" cy="355680"/>
          </a:xfrm>
          <a:prstGeom prst="leftArrow">
            <a:avLst>
              <a:gd name="adj1" fmla="val 50000"/>
              <a:gd name="adj2" fmla="val 54476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Picture 2" descr=""/>
          <p:cNvPicPr/>
          <p:nvPr/>
        </p:nvPicPr>
        <p:blipFill>
          <a:blip r:embed="rId1"/>
          <a:stretch/>
        </p:blipFill>
        <p:spPr>
          <a:xfrm>
            <a:off x="417600" y="1774800"/>
            <a:ext cx="8421480" cy="4172040"/>
          </a:xfrm>
          <a:prstGeom prst="rect">
            <a:avLst/>
          </a:prstGeom>
          <a:ln w="0">
            <a:noFill/>
          </a:ln>
        </p:spPr>
      </p:pic>
      <p:sp>
        <p:nvSpPr>
          <p:cNvPr id="873" name="TextBox 7"/>
          <p:cNvSpPr/>
          <p:nvPr/>
        </p:nvSpPr>
        <p:spPr>
          <a:xfrm>
            <a:off x="4602240" y="2873520"/>
            <a:ext cx="36511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lv-LV" sz="1700" spc="-1" strike="noStrike">
                <a:solidFill>
                  <a:srgbClr val="ff0000"/>
                </a:solidFill>
                <a:latin typeface="Verdana"/>
              </a:rPr>
              <a:t>Katram braucienam aizpildām pieprasīto informāciju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itle 1"/>
          <p:cNvSpPr/>
          <p:nvPr/>
        </p:nvSpPr>
        <p:spPr>
          <a:xfrm>
            <a:off x="2590920" y="196920"/>
            <a:ext cx="60958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Par mobilitātes projekt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6" name="Picture 5" descr=""/>
          <p:cNvPicPr/>
          <p:nvPr/>
        </p:nvPicPr>
        <p:blipFill>
          <a:blip r:embed="rId1"/>
          <a:srcRect l="0" t="0" r="0" b="13698"/>
          <a:stretch/>
        </p:blipFill>
        <p:spPr>
          <a:xfrm>
            <a:off x="0" y="-166680"/>
            <a:ext cx="8056440" cy="3284640"/>
          </a:xfrm>
          <a:prstGeom prst="rect">
            <a:avLst/>
          </a:prstGeom>
          <a:ln w="0">
            <a:noFill/>
          </a:ln>
        </p:spPr>
      </p:pic>
      <p:sp>
        <p:nvSpPr>
          <p:cNvPr id="877" name="TextBox 8"/>
          <p:cNvSpPr/>
          <p:nvPr/>
        </p:nvSpPr>
        <p:spPr>
          <a:xfrm>
            <a:off x="312840" y="3117960"/>
            <a:ext cx="494172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ff0000"/>
                </a:solidFill>
                <a:latin typeface="Verdana"/>
              </a:rPr>
              <a:t>Aizpildot mobilitāšu tabulu, atbilstošais budžets aizpildās automātiski, saskaņā ar Nordplus likmēm (skat. Roksagrāmatu 2021, 48.-52.lpp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8" name="Picture 6" descr=""/>
          <p:cNvPicPr/>
          <p:nvPr/>
        </p:nvPicPr>
        <p:blipFill>
          <a:blip r:embed="rId2"/>
          <a:srcRect l="0" t="13611" r="0" b="0"/>
          <a:stretch/>
        </p:blipFill>
        <p:spPr>
          <a:xfrm>
            <a:off x="0" y="4410000"/>
            <a:ext cx="7710480" cy="2632320"/>
          </a:xfrm>
          <a:prstGeom prst="rect">
            <a:avLst/>
          </a:prstGeom>
          <a:ln w="0">
            <a:noFill/>
          </a:ln>
        </p:spPr>
      </p:pic>
      <p:cxnSp>
        <p:nvCxnSpPr>
          <p:cNvPr id="879" name="Straight Arrow Connector 7"/>
          <p:cNvCxnSpPr/>
          <p:nvPr/>
        </p:nvCxnSpPr>
        <p:spPr>
          <a:xfrm flipV="1">
            <a:off x="5277960" y="2928600"/>
            <a:ext cx="1321200" cy="5896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80" name="Straight Arrow Connector 9"/>
          <p:cNvCxnSpPr>
            <a:stCxn id="877" idx="3"/>
          </p:cNvCxnSpPr>
          <p:nvPr/>
        </p:nvCxnSpPr>
        <p:spPr>
          <a:xfrm>
            <a:off x="5254200" y="3687480"/>
            <a:ext cx="2026440" cy="27946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Title 1"/>
          <p:cNvSpPr/>
          <p:nvPr/>
        </p:nvSpPr>
        <p:spPr>
          <a:xfrm>
            <a:off x="2590920" y="196920"/>
            <a:ext cx="60958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Par sadarbības projekt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2" name="Picture 7" descr=""/>
          <p:cNvPicPr/>
          <p:nvPr/>
        </p:nvPicPr>
        <p:blipFill>
          <a:blip r:embed="rId1"/>
          <a:stretch/>
        </p:blipFill>
        <p:spPr>
          <a:xfrm>
            <a:off x="6600960" y="652320"/>
            <a:ext cx="2543040" cy="1162080"/>
          </a:xfrm>
          <a:prstGeom prst="rect">
            <a:avLst/>
          </a:prstGeom>
          <a:ln w="0">
            <a:noFill/>
          </a:ln>
        </p:spPr>
      </p:pic>
      <p:sp>
        <p:nvSpPr>
          <p:cNvPr id="883" name="TextBox 7"/>
          <p:cNvSpPr/>
          <p:nvPr/>
        </p:nvSpPr>
        <p:spPr>
          <a:xfrm>
            <a:off x="2131920" y="1241280"/>
            <a:ext cx="314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Ja atzīmējam 3. sadaļā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4" name="Straight Arrow Connector 9"/>
          <p:cNvCxnSpPr/>
          <p:nvPr/>
        </p:nvCxnSpPr>
        <p:spPr>
          <a:xfrm flipV="1">
            <a:off x="5279760" y="1571400"/>
            <a:ext cx="1321200" cy="8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885" name="Picture 8" descr=""/>
          <p:cNvPicPr/>
          <p:nvPr/>
        </p:nvPicPr>
        <p:blipFill>
          <a:blip r:embed="rId2"/>
          <a:srcRect l="0" t="0" r="36436" b="5190"/>
          <a:stretch/>
        </p:blipFill>
        <p:spPr>
          <a:xfrm>
            <a:off x="4707000" y="2309760"/>
            <a:ext cx="4437000" cy="4548240"/>
          </a:xfrm>
          <a:prstGeom prst="rect">
            <a:avLst/>
          </a:prstGeom>
          <a:ln w="0">
            <a:noFill/>
          </a:ln>
        </p:spPr>
      </p:pic>
      <p:sp>
        <p:nvSpPr>
          <p:cNvPr id="886" name="TextBox 7"/>
          <p:cNvSpPr/>
          <p:nvPr/>
        </p:nvSpPr>
        <p:spPr>
          <a:xfrm>
            <a:off x="0" y="2784600"/>
            <a:ext cx="31827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Sadaļa 4.1. nedaudz atšķirā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Par sadarbības projektu veidiem  (</a:t>
            </a:r>
            <a:r>
              <a:rPr b="0" i="1" lang="lv-LV" sz="1600" spc="-1" strike="noStrike">
                <a:solidFill>
                  <a:srgbClr val="002060"/>
                </a:solidFill>
                <a:latin typeface="Verdana"/>
              </a:rPr>
              <a:t>Thematic network, development, mapping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) – skat. Rokasgrāmatu, 46. – 48. lp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Sadaļas 4.2. un 4.3. ir tādas pašas, kā mobilitātes projekta gadījumā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7" name="Straight Arrow Connector 15"/>
          <p:cNvCxnSpPr/>
          <p:nvPr/>
        </p:nvCxnSpPr>
        <p:spPr>
          <a:xfrm flipV="1">
            <a:off x="3182400" y="4553640"/>
            <a:ext cx="1321200" cy="90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Picture 10" descr=""/>
          <p:cNvPicPr/>
          <p:nvPr/>
        </p:nvPicPr>
        <p:blipFill>
          <a:blip r:embed="rId1"/>
          <a:srcRect l="0" t="0" r="25043" b="7409"/>
          <a:stretch/>
        </p:blipFill>
        <p:spPr>
          <a:xfrm>
            <a:off x="3711600" y="3089160"/>
            <a:ext cx="5424480" cy="376884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9" descr=""/>
          <p:cNvPicPr/>
          <p:nvPr/>
        </p:nvPicPr>
        <p:blipFill>
          <a:blip r:embed="rId2"/>
          <a:stretch/>
        </p:blipFill>
        <p:spPr>
          <a:xfrm>
            <a:off x="2332080" y="982800"/>
            <a:ext cx="6202440" cy="1981080"/>
          </a:xfrm>
          <a:prstGeom prst="rect">
            <a:avLst/>
          </a:prstGeom>
          <a:ln w="0">
            <a:noFill/>
          </a:ln>
        </p:spPr>
      </p:pic>
      <p:sp>
        <p:nvSpPr>
          <p:cNvPr id="890" name="Title 1"/>
          <p:cNvSpPr/>
          <p:nvPr/>
        </p:nvSpPr>
        <p:spPr>
          <a:xfrm>
            <a:off x="1657440" y="289080"/>
            <a:ext cx="747864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Verdana"/>
              </a:rPr>
              <a:t>Sadarbības projekta vai tīkla gadījumā jāaizpilda atsevišķa (MS Excel) budžeta veidl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1" name="Straight Arrow Connector 10"/>
          <p:cNvCxnSpPr/>
          <p:nvPr/>
        </p:nvCxnSpPr>
        <p:spPr>
          <a:xfrm>
            <a:off x="5206680" y="1506240"/>
            <a:ext cx="1080" cy="17866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92" name="Title 1"/>
          <p:cNvSpPr/>
          <p:nvPr/>
        </p:nvSpPr>
        <p:spPr>
          <a:xfrm>
            <a:off x="0" y="3451320"/>
            <a:ext cx="256212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! MS Excel 2007 un vecākas vesrijas neatbalsta dažas budžeta veidlapas funkcijas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3" name="Straight Arrow Connector 16"/>
          <p:cNvCxnSpPr/>
          <p:nvPr/>
        </p:nvCxnSpPr>
        <p:spPr>
          <a:xfrm>
            <a:off x="2314440" y="4317480"/>
            <a:ext cx="6220800" cy="8787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Title 1"/>
          <p:cNvSpPr/>
          <p:nvPr/>
        </p:nvSpPr>
        <p:spPr>
          <a:xfrm>
            <a:off x="0" y="1587600"/>
            <a:ext cx="38116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Automatiski tiek aprēķinātas admin. izmak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itle 1"/>
          <p:cNvSpPr/>
          <p:nvPr/>
        </p:nvSpPr>
        <p:spPr>
          <a:xfrm>
            <a:off x="1657440" y="493560"/>
            <a:ext cx="718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lv-LV" sz="2000" spc="-1" strike="noStrike">
                <a:solidFill>
                  <a:srgbClr val="002060"/>
                </a:solidFill>
                <a:latin typeface="Verdana"/>
              </a:rPr>
              <a:t>Budžeta veidl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6" name="Picture 6" descr=""/>
          <p:cNvPicPr/>
          <p:nvPr/>
        </p:nvPicPr>
        <p:blipFill>
          <a:blip r:embed="rId1"/>
          <a:stretch/>
        </p:blipFill>
        <p:spPr>
          <a:xfrm>
            <a:off x="4349880" y="1130400"/>
            <a:ext cx="4151160" cy="320040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7" descr=""/>
          <p:cNvPicPr/>
          <p:nvPr/>
        </p:nvPicPr>
        <p:blipFill>
          <a:blip r:embed="rId2"/>
          <a:stretch/>
        </p:blipFill>
        <p:spPr>
          <a:xfrm>
            <a:off x="826920" y="4572000"/>
            <a:ext cx="8317080" cy="2286000"/>
          </a:xfrm>
          <a:prstGeom prst="rect">
            <a:avLst/>
          </a:prstGeom>
          <a:ln w="0">
            <a:noFill/>
          </a:ln>
        </p:spPr>
      </p:pic>
      <p:sp>
        <p:nvSpPr>
          <p:cNvPr id="898" name="Title 1"/>
          <p:cNvSpPr/>
          <p:nvPr/>
        </p:nvSpPr>
        <p:spPr>
          <a:xfrm>
            <a:off x="246240" y="2476440"/>
            <a:ext cx="381132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Darba dienu apmaksas aprēķins tiek veikts automātiski pēc dalībvalsts un darba dienu skaita ievadīšanas </a:t>
            </a:r>
            <a:r>
              <a:rPr b="1" lang="lv-LV" sz="1800" spc="-1" strike="noStrike">
                <a:solidFill>
                  <a:srgbClr val="002060"/>
                </a:solidFill>
                <a:latin typeface="Verdana"/>
              </a:rPr>
              <a:t>saskaņā ar Nordplus PI likmēm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(Rokasgrāmata, 51.lp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9" name="Straight Arrow Connector 9"/>
          <p:cNvCxnSpPr/>
          <p:nvPr/>
        </p:nvCxnSpPr>
        <p:spPr>
          <a:xfrm>
            <a:off x="3187440" y="2044440"/>
            <a:ext cx="4229640" cy="8643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00" name="Straight Arrow Connector 12"/>
          <p:cNvCxnSpPr/>
          <p:nvPr/>
        </p:nvCxnSpPr>
        <p:spPr>
          <a:xfrm>
            <a:off x="3811320" y="3708360"/>
            <a:ext cx="4849920" cy="1473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Title 1"/>
          <p:cNvSpPr/>
          <p:nvPr/>
        </p:nvSpPr>
        <p:spPr>
          <a:xfrm>
            <a:off x="804960" y="4894200"/>
            <a:ext cx="3811320" cy="174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ēc  visas informācijas ievadīšanas Excel veidlapa automātiski aprēķina kopējo budžetu. Tas jāieraksta Espresso budžeta sadaļā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2" name="Picture 2" descr=""/>
          <p:cNvPicPr/>
          <p:nvPr/>
        </p:nvPicPr>
        <p:blipFill>
          <a:blip r:embed="rId1"/>
          <a:stretch/>
        </p:blipFill>
        <p:spPr>
          <a:xfrm>
            <a:off x="244440" y="149400"/>
            <a:ext cx="8744040" cy="2263680"/>
          </a:xfrm>
          <a:prstGeom prst="rect">
            <a:avLst/>
          </a:prstGeom>
          <a:ln w="0">
            <a:noFill/>
          </a:ln>
        </p:spPr>
      </p:pic>
      <p:sp>
        <p:nvSpPr>
          <p:cNvPr id="903" name="Title 1"/>
          <p:cNvSpPr/>
          <p:nvPr/>
        </p:nvSpPr>
        <p:spPr>
          <a:xfrm>
            <a:off x="804960" y="2755800"/>
            <a:ext cx="3811320" cy="120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ēc  apmeklējamās valsts, pasākuma veida un braucēju skaita ievadīšanas tiek automātiski aprēķināts starptautisko braucienu budžet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4" name="Straight Arrow Connector 9"/>
          <p:cNvCxnSpPr/>
          <p:nvPr/>
        </p:nvCxnSpPr>
        <p:spPr>
          <a:xfrm flipV="1">
            <a:off x="4349880" y="672840"/>
            <a:ext cx="4388040" cy="2404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905" name="Picture 3" descr=""/>
          <p:cNvPicPr/>
          <p:nvPr/>
        </p:nvPicPr>
        <p:blipFill>
          <a:blip r:embed="rId2"/>
          <a:stretch/>
        </p:blipFill>
        <p:spPr>
          <a:xfrm>
            <a:off x="4616280" y="3254400"/>
            <a:ext cx="4527720" cy="3603600"/>
          </a:xfrm>
          <a:prstGeom prst="rect">
            <a:avLst/>
          </a:prstGeom>
          <a:ln w="0">
            <a:noFill/>
          </a:ln>
        </p:spPr>
      </p:pic>
      <p:cxnSp>
        <p:nvCxnSpPr>
          <p:cNvPr id="906" name="Straight Arrow Connector 14"/>
          <p:cNvCxnSpPr/>
          <p:nvPr/>
        </p:nvCxnSpPr>
        <p:spPr>
          <a:xfrm flipV="1">
            <a:off x="3841920" y="3796560"/>
            <a:ext cx="4629600" cy="1097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7" descr=""/>
          <p:cNvPicPr/>
          <p:nvPr/>
        </p:nvPicPr>
        <p:blipFill>
          <a:blip r:embed="rId1"/>
          <a:stretch/>
        </p:blipFill>
        <p:spPr>
          <a:xfrm>
            <a:off x="719280" y="961920"/>
            <a:ext cx="8421480" cy="5181840"/>
          </a:xfrm>
          <a:prstGeom prst="rect">
            <a:avLst/>
          </a:prstGeom>
          <a:ln w="0">
            <a:noFill/>
          </a:ln>
        </p:spPr>
      </p:pic>
      <p:sp>
        <p:nvSpPr>
          <p:cNvPr id="908" name="Title 1"/>
          <p:cNvSpPr/>
          <p:nvPr/>
        </p:nvSpPr>
        <p:spPr>
          <a:xfrm>
            <a:off x="1657440" y="493560"/>
            <a:ext cx="718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lv-LV" sz="2000" spc="-1" strike="noStrike">
                <a:solidFill>
                  <a:srgbClr val="002060"/>
                </a:solidFill>
                <a:latin typeface="Verdana"/>
              </a:rPr>
              <a:t>Bankas rekvizī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Title 1"/>
          <p:cNvSpPr/>
          <p:nvPr/>
        </p:nvSpPr>
        <p:spPr>
          <a:xfrm>
            <a:off x="4664160" y="2163600"/>
            <a:ext cx="3206520" cy="200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Ja projektu atbalstīs, grantu pārskaitīs uz šo kon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Konts var būt jebkurā bankā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Title 1"/>
          <p:cNvSpPr/>
          <p:nvPr/>
        </p:nvSpPr>
        <p:spPr>
          <a:xfrm>
            <a:off x="4930920" y="5719680"/>
            <a:ext cx="3206520" cy="113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Organizācijas iekšējais identifikators (ja tādu finanšu vadības sistēma izma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1" name="Straight Arrow Connector 11"/>
          <p:cNvCxnSpPr/>
          <p:nvPr/>
        </p:nvCxnSpPr>
        <p:spPr>
          <a:xfrm flipH="1" flipV="1">
            <a:off x="1866600" y="5380920"/>
            <a:ext cx="3458160" cy="762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Picture 7" descr=""/>
          <p:cNvPicPr/>
          <p:nvPr/>
        </p:nvPicPr>
        <p:blipFill>
          <a:blip r:embed="rId1"/>
          <a:stretch/>
        </p:blipFill>
        <p:spPr>
          <a:xfrm>
            <a:off x="3243240" y="3103560"/>
            <a:ext cx="5619600" cy="3705120"/>
          </a:xfrm>
          <a:prstGeom prst="rect">
            <a:avLst/>
          </a:prstGeom>
          <a:ln w="0">
            <a:noFill/>
          </a:ln>
        </p:spPr>
      </p:pic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70c0"/>
                </a:solidFill>
                <a:latin typeface="Verdana"/>
                <a:ea typeface="Verdana"/>
              </a:rPr>
              <a:t>Nordplus video materiāli</a:t>
            </a:r>
            <a:br>
              <a:rPr sz="2000"/>
            </a:br>
            <a:r>
              <a:rPr b="1" lang="lv-LV" sz="2000" spc="-1" strike="noStrike">
                <a:solidFill>
                  <a:srgbClr val="0070c0"/>
                </a:solidFill>
                <a:latin typeface="Verdana"/>
                <a:ea typeface="Verdana"/>
              </a:rPr>
              <a:t>Espresso sistēmas lietošanas instrukcija Nordplus Jauniešu programmai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277920" y="2049480"/>
            <a:ext cx="8408880" cy="1054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https://viaa.gov.lv/lat/nordplus/nordplus_informativie_izdevumi/#vide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itle 1"/>
          <p:cNvSpPr/>
          <p:nvPr/>
        </p:nvSpPr>
        <p:spPr>
          <a:xfrm>
            <a:off x="-266760" y="3743280"/>
            <a:ext cx="259092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  <a:ea typeface="Verdana"/>
              </a:rPr>
              <a:t>Aicinā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  <a:ea typeface="Verdana"/>
              </a:rPr>
              <a:t>noskatītie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Straight Arrow Connector 5"/>
          <p:cNvCxnSpPr/>
          <p:nvPr/>
        </p:nvCxnSpPr>
        <p:spPr>
          <a:xfrm>
            <a:off x="1758960" y="4188960"/>
            <a:ext cx="164520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2" name="Picture 6" descr=""/>
          <p:cNvPicPr/>
          <p:nvPr/>
        </p:nvPicPr>
        <p:blipFill>
          <a:blip r:embed="rId1"/>
          <a:stretch/>
        </p:blipFill>
        <p:spPr>
          <a:xfrm>
            <a:off x="2289240" y="971640"/>
            <a:ext cx="6245280" cy="2419200"/>
          </a:xfrm>
          <a:prstGeom prst="rect">
            <a:avLst/>
          </a:prstGeom>
          <a:ln w="0">
            <a:noFill/>
          </a:ln>
        </p:spPr>
      </p:pic>
      <p:sp>
        <p:nvSpPr>
          <p:cNvPr id="91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0F6AB5E-DBD7-48C1-9135-DC67A7DF9A6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itle 1"/>
          <p:cNvSpPr/>
          <p:nvPr/>
        </p:nvSpPr>
        <p:spPr>
          <a:xfrm>
            <a:off x="100080" y="2928960"/>
            <a:ext cx="2232000" cy="27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ff0000"/>
                </a:solidFill>
                <a:latin typeface="Verdana"/>
              </a:rPr>
              <a:t>Obligāti jāpievieno budžets un parakstītas visu partneru un koordinatora  apliecinājuma vēstule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5" name="Straight Arrow Connector 6"/>
          <p:cNvCxnSpPr/>
          <p:nvPr/>
        </p:nvCxnSpPr>
        <p:spPr>
          <a:xfrm flipV="1">
            <a:off x="2371320" y="2928600"/>
            <a:ext cx="2823480" cy="19850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Title 1"/>
          <p:cNvSpPr/>
          <p:nvPr/>
        </p:nvSpPr>
        <p:spPr>
          <a:xfrm>
            <a:off x="0" y="1943280"/>
            <a:ext cx="247644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irms iesniegšanas jāpārbauda vai ir pievienoti visi pielikumi ut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Sistēma nepieļauj iesniegt daļēji aizpildītu pieteikum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7" name="Straight Arrow Connector 5"/>
          <p:cNvCxnSpPr/>
          <p:nvPr/>
        </p:nvCxnSpPr>
        <p:spPr>
          <a:xfrm>
            <a:off x="2025360" y="4282920"/>
            <a:ext cx="1873800" cy="9612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pic>
        <p:nvPicPr>
          <p:cNvPr id="918" name="Picture 6" descr=""/>
          <p:cNvPicPr/>
          <p:nvPr/>
        </p:nvPicPr>
        <p:blipFill>
          <a:blip r:embed="rId1"/>
          <a:stretch/>
        </p:blipFill>
        <p:spPr>
          <a:xfrm>
            <a:off x="2911320" y="468360"/>
            <a:ext cx="5408640" cy="3397320"/>
          </a:xfrm>
          <a:prstGeom prst="rect">
            <a:avLst/>
          </a:prstGeom>
          <a:ln w="0">
            <a:noFill/>
          </a:ln>
        </p:spPr>
      </p:pic>
      <p:pic>
        <p:nvPicPr>
          <p:cNvPr id="919" name="Picture 7" descr=""/>
          <p:cNvPicPr/>
          <p:nvPr/>
        </p:nvPicPr>
        <p:blipFill>
          <a:blip r:embed="rId2"/>
          <a:stretch/>
        </p:blipFill>
        <p:spPr>
          <a:xfrm>
            <a:off x="4052880" y="3686040"/>
            <a:ext cx="50911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Verdana"/>
                <a:ea typeface="Verdana"/>
              </a:rPr>
              <a:t>Kā tiek vērtēts projekta pieteikums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1" name=""/>
          <p:cNvGraphicFramePr/>
          <p:nvPr/>
        </p:nvGraphicFramePr>
        <p:xfrm>
          <a:off x="1076400" y="1844640"/>
          <a:ext cx="7453080" cy="4383000"/>
        </p:xfrm>
        <a:graphic>
          <a:graphicData uri="http://schemas.openxmlformats.org/drawingml/2006/table">
            <a:tbl>
              <a:tblPr/>
              <a:tblGrid>
                <a:gridCol w="590400"/>
                <a:gridCol w="5580000"/>
                <a:gridCol w="1282680"/>
              </a:tblGrid>
              <a:tr h="2430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000" spc="-1" strike="noStrike">
                          <a:solidFill>
                            <a:srgbClr val="000000"/>
                          </a:solidFill>
                          <a:latin typeface="Arial-BoldMT"/>
                          <a:ea typeface="Calibri"/>
                        </a:rPr>
                        <a:t>Relev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Ran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 what extent does the project comply with the overall Nordplus objectives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 what extent does the project comply with the general framework o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Nordplus Adult and its actions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 what extent does the project involve adult education and learning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 what extent is the projected targeted a specified group of adult learners or/and educators and staff engaged in adult education and learning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i="1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tal points Relev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0-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000" spc="-1" strike="noStrike">
                          <a:solidFill>
                            <a:srgbClr val="000000"/>
                          </a:solidFill>
                          <a:latin typeface="Arial-BoldMT"/>
                          <a:ea typeface="Calibri"/>
                        </a:rPr>
                        <a:t>Project objectives and cont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 aims of the project and the approach chosen to achieve them are clear and realist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 planned activities are relevant for the project in question and cover the whole project peri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Budget is well described and realist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i="1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tal points Project objectives and cont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0-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Verdana"/>
                <a:ea typeface="Verdana"/>
              </a:rPr>
              <a:t>Kā tiek vērtēts projekta pieteikum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3" name=""/>
          <p:cNvGraphicFramePr/>
          <p:nvPr/>
        </p:nvGraphicFramePr>
        <p:xfrm>
          <a:off x="1778040" y="1273320"/>
          <a:ext cx="7159680" cy="4898880"/>
        </p:xfrm>
        <a:graphic>
          <a:graphicData uri="http://schemas.openxmlformats.org/drawingml/2006/table">
            <a:tbl>
              <a:tblPr/>
              <a:tblGrid>
                <a:gridCol w="566640"/>
                <a:gridCol w="5359320"/>
                <a:gridCol w="1233720"/>
              </a:tblGrid>
              <a:tr h="2206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000" spc="-1" strike="noStrike">
                          <a:solidFill>
                            <a:srgbClr val="000000"/>
                          </a:solidFill>
                          <a:latin typeface="Arial-BoldMT"/>
                          <a:ea typeface="Calibri"/>
                        </a:rPr>
                        <a:t>Organisation and implementation capac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re is a clear and realistic overall plan for implementing the proj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re is an appropriate balance between the roles and tasks of the different participants in terms of their involvement in the activities to be carried o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Measures have been planned to ensure effective communication and cooperation between the participating institu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 expected impact and benefits of the project on participating institutions and individual participants are clear and well defi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i="1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tal points Organisation and implementation capac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0-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000" spc="-1" strike="noStrike">
                          <a:solidFill>
                            <a:srgbClr val="000000"/>
                          </a:solidFill>
                          <a:latin typeface="Arial-BoldMT"/>
                          <a:ea typeface="Calibri"/>
                        </a:rPr>
                        <a:t>Dissemin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re are descriptions of expected results on different lev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Depending on activity and sub-programme, there is a plan for spreading positive results from the cooperation through websites or publications through appropriate channels, to whom and wh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re is a common project website (can be part of partner institution websit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re are plans for how to exploit the results among the participating institutions on a long-term bas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i="1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tal points Dissemination and utilisation of resul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0-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000" spc="-1" strike="noStrike">
                          <a:solidFill>
                            <a:srgbClr val="000000"/>
                          </a:solidFill>
                          <a:latin typeface="Arial-BoldMT"/>
                          <a:ea typeface="Calibri"/>
                        </a:rPr>
                        <a:t>Total number of poi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 txBox="1"/>
          <p:nvPr/>
        </p:nvSpPr>
        <p:spPr>
          <a:xfrm>
            <a:off x="1393560" y="116676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Jautājumu gadījumā lūdzu sazinā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Skype: linards.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frank.krohn@siu.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5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Semināra mērķ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1804680" y="1252440"/>
            <a:ext cx="7078680" cy="3805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 algn="just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600" spc="-1" strike="noStrike">
                <a:solidFill>
                  <a:srgbClr val="002060"/>
                </a:solidFill>
                <a:latin typeface="Calibri"/>
                <a:ea typeface="Verdana"/>
              </a:rPr>
              <a:t>Pievērst projektu sagatavotāju uzmanību būtiskākajiem tehniskajiem un  saturiskajiem jautājumiem projekta pieteikuma sagatavošanas un iesniegšanas procesā Nordplus elektroniskajā sistēmā Espresso https://espresso.diku.no/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2060"/>
                </a:solidFill>
                <a:latin typeface="Calibri"/>
                <a:ea typeface="Verdana"/>
              </a:rPr>
              <a:t>Uzsvari prezentācijā balstās uz novērojumiem 2020.gada projektu pieteikumu izvērtēšanas procesā, kā arī uz iepriekš saņemtajiem projektu iesniedzēju jautājumiem 2019. un 2020. gadā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4" name="Picture 2" descr=""/>
          <p:cNvPicPr/>
          <p:nvPr/>
        </p:nvPicPr>
        <p:blipFill>
          <a:blip r:embed="rId1"/>
          <a:srcRect l="0" t="0" r="0" b="23658"/>
          <a:stretch/>
        </p:blipFill>
        <p:spPr>
          <a:xfrm>
            <a:off x="985680" y="4917960"/>
            <a:ext cx="760284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Vispārīgā informācija par Espresso sistē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1778040" y="1252440"/>
            <a:ext cx="710568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Espresso sistēmas uzturētājs ir Norvēģijas Augstākās izglītības kvalitātes paaugstināšanas un starptautiskās sadarbības aģentūra  DIKU  (</a:t>
            </a:r>
            <a:r>
              <a:rPr b="0" i="1" lang="nn-NO" sz="3000" spc="-1" strike="noStrike">
                <a:solidFill>
                  <a:srgbClr val="002060"/>
                </a:solidFill>
                <a:latin typeface="Calibri"/>
                <a:ea typeface="Verdana"/>
              </a:rPr>
              <a:t>Direktoratet for internasjonalisering og kvalitetsutvikling i høgare utdanning</a:t>
            </a: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https://diku.n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Picture 1" descr=""/>
          <p:cNvPicPr/>
          <p:nvPr/>
        </p:nvPicPr>
        <p:blipFill>
          <a:blip r:embed="rId1"/>
          <a:stretch/>
        </p:blipFill>
        <p:spPr>
          <a:xfrm>
            <a:off x="5762520" y="4641840"/>
            <a:ext cx="27529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am ir jābūt zināmam  projekta pieteikuma iesniegšanas brīdī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1758600" y="1775880"/>
            <a:ext cx="7124760" cy="3038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Kurā apakšprogrammā (</a:t>
            </a:r>
            <a:r>
              <a:rPr b="0" i="1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Junior, Adult, Horisontal...</a:t>
            </a: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) paredzēts iesniegt projektu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Kas būs projekta partneri?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Projekta ideja – ko un kāpēc plānots darīt, kādi būs iespējamie rezultāti un ietekm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2"/>
          <p:cNvSpPr/>
          <p:nvPr/>
        </p:nvSpPr>
        <p:spPr>
          <a:xfrm>
            <a:off x="3699000" y="266760"/>
            <a:ext cx="5040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800" spc="-1" strike="noStrike">
                <a:solidFill>
                  <a:srgbClr val="1f4e79"/>
                </a:solidFill>
                <a:latin typeface="Calibri"/>
              </a:rPr>
              <a:t> </a:t>
            </a:r>
            <a:r>
              <a:rPr b="0" i="1" lang="lv-LV" sz="2800" spc="-1" strike="noStrike">
                <a:solidFill>
                  <a:srgbClr val="1f4e79"/>
                </a:solidFill>
                <a:latin typeface="Calibri"/>
              </a:rPr>
              <a:t>Nordplus Rokasgrāmata 2021</a:t>
            </a:r>
            <a:r>
              <a:rPr b="0" lang="lv-LV" sz="2800" spc="-1" strike="noStrike">
                <a:solidFill>
                  <a:srgbClr val="1f4e79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1f4e79"/>
                </a:solidFill>
                <a:latin typeface="Calibri"/>
              </a:rPr>
              <a:t> </a:t>
            </a:r>
            <a:r>
              <a:rPr b="0" lang="lv-LV" sz="2800" spc="-1" strike="noStrike">
                <a:solidFill>
                  <a:srgbClr val="1f4e79"/>
                </a:solidFill>
                <a:latin typeface="Calibri"/>
              </a:rPr>
              <a:t>42. – 53. lpp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6"/>
          <p:cNvSpPr/>
          <p:nvPr/>
        </p:nvSpPr>
        <p:spPr>
          <a:xfrm>
            <a:off x="600120" y="6359400"/>
            <a:ext cx="77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  <a:ea typeface="Arial"/>
              </a:rPr>
              <a:t>https://www.nordplusonline.org/how-to-apply/handboo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3" name="Picture 2" descr=""/>
          <p:cNvPicPr/>
          <p:nvPr/>
        </p:nvPicPr>
        <p:blipFill>
          <a:blip r:embed="rId1"/>
          <a:srcRect l="0" t="0" r="0" b="3114"/>
          <a:stretch/>
        </p:blipFill>
        <p:spPr>
          <a:xfrm>
            <a:off x="574560" y="266760"/>
            <a:ext cx="3124440" cy="414324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6" descr=""/>
          <p:cNvPicPr/>
          <p:nvPr/>
        </p:nvPicPr>
        <p:blipFill>
          <a:blip r:embed="rId2"/>
          <a:stretch/>
        </p:blipFill>
        <p:spPr>
          <a:xfrm>
            <a:off x="5103720" y="1380960"/>
            <a:ext cx="3635640" cy="48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CE959C2-4CFE-4056-8B5E-3959BBE0B42F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6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8732880" cy="5194440"/>
          </a:xfrm>
          <a:prstGeom prst="rect">
            <a:avLst/>
          </a:prstGeom>
          <a:ln w="0">
            <a:noFill/>
          </a:ln>
        </p:spPr>
      </p:pic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208080" y="0"/>
            <a:ext cx="8935920" cy="1233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 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https://www.nordplusonline.org/how-to-apply/guidelines/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https://espresso.si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0" name="Picture 2" descr=""/>
          <p:cNvPicPr/>
          <p:nvPr/>
        </p:nvPicPr>
        <p:blipFill>
          <a:blip r:embed="rId1"/>
          <a:stretch/>
        </p:blipFill>
        <p:spPr>
          <a:xfrm>
            <a:off x="2490840" y="2160720"/>
            <a:ext cx="5838840" cy="3316320"/>
          </a:xfrm>
          <a:prstGeom prst="rect">
            <a:avLst/>
          </a:prstGeom>
          <a:ln w="0">
            <a:noFill/>
          </a:ln>
        </p:spPr>
      </p:pic>
      <p:sp>
        <p:nvSpPr>
          <p:cNvPr id="811" name="Left Arrow 6"/>
          <p:cNvSpPr/>
          <p:nvPr/>
        </p:nvSpPr>
        <p:spPr>
          <a:xfrm rot="1692600">
            <a:off x="7089480" y="4576320"/>
            <a:ext cx="1720800" cy="552600"/>
          </a:xfrm>
          <a:prstGeom prst="leftArrow">
            <a:avLst>
              <a:gd name="adj1" fmla="val 50000"/>
              <a:gd name="adj2" fmla="val 5448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itle 1"/>
          <p:cNvSpPr/>
          <p:nvPr/>
        </p:nvSpPr>
        <p:spPr>
          <a:xfrm>
            <a:off x="0" y="2984400"/>
            <a:ext cx="25909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  <a:ea typeface="Verdana"/>
              </a:rPr>
              <a:t>Reģistrācija Espress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D</cp:lastModifiedBy>
  <cp:lastPrinted>2019-09-03T09:59:12Z</cp:lastPrinted>
  <dcterms:modified xsi:type="dcterms:W3CDTF">2021-01-15T16:51:56Z</dcterms:modified>
  <cp:revision>239</cp:revision>
  <dc:subject/>
  <dc:title>PowerPoint Presentation</dc:title>
</cp:coreProperties>
</file>