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dt" idx="2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ftr" idx="22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 type="sldNum" idx="23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E2CA8BD-7585-4301-98A4-42F396078EE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CB5E3D5-10FB-4EDA-9782-BEFDE0EF1A3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8182D4D-39C3-4002-B8C0-4B189AE58CC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5B34-AC9E-4C1F-8E86-DC9DE5C5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1D86-CD7F-4D5F-88E8-61FCB418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BF5EBC-CE1B-4EFF-A7DD-69833C40B08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975B98-1489-4F70-8EA5-9B2C4BC9899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589B36-4E52-4BEF-8C9C-7EDC919BE1A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6BBBE6-973B-423A-AD02-5184EED58F6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7E9F9D-1ACD-470D-9CA7-E1A1D0AC9D3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6D22BE-8960-40CF-A96D-0FDBCAE9C7C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1AF840-C98D-4276-A52D-D95F8A0251F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DF3487-3CC5-4CCE-B073-78DE7D73106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7C0784-48C2-482B-B686-02AD5EEF9B3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D5580F-B54E-4C96-AB9C-E4ABCEBAF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ACB9-1716-4459-8110-019622A2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00766C-9DFE-4AF7-9C19-15586B0A03D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34CED0-D8CE-49AF-9867-ADA260E5349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C14B4C-D910-4105-8E0F-FD80DE33C3D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B2AA26-4EDF-47C7-A148-47BF33A8080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24EA54-B181-4A98-876B-CA7BCC03D49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1E5CB9-4F14-4733-AA5F-24FB198F4D8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1DDC42-8E46-4128-939A-D870C426262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370244-BD5A-400E-A1B5-1694409F5E7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C5CF58-C084-4D1B-A6F4-D39FD0DBA2B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DCB148-7FF0-4C34-AC9B-42010DED2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F0E3-7E29-40B5-861E-D22255B7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82F11C-D58A-4798-A442-48E054FADBA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97B40-C4C1-49DB-8F6A-DB93A32C5AD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41148-83EC-4381-93D8-578806145FE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32F41-693A-4237-AF0D-5960DDBB72E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A4F16-A876-4E15-8A88-60A862E3548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643EE-0C55-4D45-871F-098E5E2455B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E0D46-BDA0-4C56-87E6-5E0C21E92A4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AFD9B-B180-4992-9278-99520F0038E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E72B3-D618-437A-8FE9-156989CDEA3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95690-3C6A-4D67-B14D-87EE863551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CD8A1-C63B-44FE-887D-BFFB5F1982F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6376B-3536-405D-BF5D-761C9A86174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C0C4C-D98E-4EEF-9809-EBCD82E0C85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5BDB77-31DA-4B3B-91A4-30020C04D4A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7F7DA8-5E4D-4D04-A306-59BACD0F8E5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EFD51B-BD74-4B10-98C8-A1C691D8CD9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7C2323-A98D-4EF3-BD3B-0BD980AA976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3BCE52-566E-449E-9596-7CDCE7D6A0D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97C964-AEA6-4CFC-A116-F3872892F6E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F5A9B7-3C91-4460-8D29-D693C895E1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44CA5F-FB97-4BB6-9823-EA238BA80E1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28BD17-8D91-49B6-8B5E-A6F02E2F8FA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C952DD-CEAB-4195-802E-EE30AAE9716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EA0B5E-8E92-4A47-97AA-39C9770EFFC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CCB9CB-8440-491C-B5C5-1BD43BA0390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8D539D-0971-42C0-AA3C-577527356B9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DB1EAC-F9CD-445D-9668-80E71F43A83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A48583-CF43-4E7F-8046-D2BBCB4818B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685527-C8E6-4A53-A5BC-123DD8F8DAE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CDB327-AA43-495D-8A1F-B5E4349B51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8A94D1-2C61-4155-A71E-D90BD686425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D6C76F-6B1A-458A-9A6C-E6E6F115D49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A7C625-D977-42F8-958C-902AE3E8BE8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ACABB6-BC4B-4EBC-B4A0-66EBD69DF8A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CF556-84BA-43DB-A365-9332D464AAA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F3FEAC-2A11-4663-985B-E0CB5F6F9C7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6299AF-2F03-49F6-8F0E-2FA2A7F2DFD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878B3-DA81-4FAB-9C70-F519370138F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147E5-ACC4-4C2F-8EBA-DA39EAF5F8A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27757-48EA-4482-95D8-811E43452E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266FD-66EF-406E-8922-3CD58AAF3FC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1B4C9-BA06-48C9-907D-7CAFD57A3B2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C1291-AF43-4EDF-A168-07A6405A624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8AC64-2434-4C3C-81A2-194807A427F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09C67-CB5A-45B8-80B8-AB315ACB09C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0A247-3577-4D13-AE83-753B6F8ED99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C0DE2-55C9-42C7-9D31-F3BBEAC71F7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FB76E-3290-4EB6-80EF-C77673B9E2E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C966C-A397-40D4-A143-53157328139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3B7B97-77B5-4185-A2DC-C383A72EF6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761FA0-2D0B-444F-A70B-ED89A01C34A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401ECF-3B38-4025-8F35-18C50F9134D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7F6F86-F923-4C7D-9ABB-899BF7E6DD1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0DA2CC-20F3-44D2-B611-D008A34DE3C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F8DE21-FE02-45C1-95CB-FD12A2B2CE2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E66DF8-A6FB-484F-B53B-96FAB801C78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789175-503B-441F-A57E-4DF23852143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4AA2A3-9DA1-4BE1-838F-ECC1F2548B3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0071E6-87E7-428C-B8B1-CE4936052F0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0D33CB-5490-4666-AC7B-9BAF7C2546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F5B025-DEE1-41FD-BB12-9DB5438C617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5DA5F8-480F-4DD2-ADA6-476D885DF51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23BEF7-7A75-4BB0-9D8A-EB0D2D3B246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AF6262-E757-478F-B89F-90C078CDD68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20EBF1-AEA2-4F57-9DD1-88AC35401EF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A0A021-48CF-4381-8FD9-601F49D807B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8D704D-CAD9-463D-AC35-3E4E8F0D89C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7AADFB-4A73-428D-B5F0-B7299D664F0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E21DE1-FA3A-41E4-8F37-988F4BD0175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23724C-E78A-4596-8E55-D0A42C561C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E8AAFE-7DEC-4B08-831F-4898367CAFA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044660-429F-49DA-A482-9053BD2DE92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D22B14-DC0A-4D25-82E0-CEA9A19676B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CD27-BE63-46C8-B697-212C12C8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442CEE-2B8E-45B9-9A50-EC88F819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707DD5-EEF2-4BF9-9B29-892937CE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6EE864-A7EC-4205-8246-45BBA8A7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90C536-7024-4E86-8508-97B83C5D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E6ED96-6BB4-43ED-9F53-0D5574D9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6EDA5D-3F67-4136-A209-2001A43C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D480D3-08DA-4A37-A8AC-02782DDF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C6A54C-C7D6-4E59-90BC-35D25243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8278B7-F64D-4528-8FAC-53C8576D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809979-CDE2-40D6-860D-DAD5E0EB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10F0EB-2905-41B6-9AEE-96A20BEE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2906B1-F52E-4D49-BA5B-025EA488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7D79F-8FA9-4247-AC5E-058747153A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8A552-2C69-4B1A-B454-8711DE0BD9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401A2-EE9E-4159-8F0D-FD5143166E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AF389-D781-4B08-8DDA-2DA4D5E5BB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2AE96-57F7-42AB-899F-B0F6F031B5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F86B-8134-42B5-9DFF-F0BADBB6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66BC6-7D56-4740-934D-B15C082A11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84372-CA92-4D21-8A40-FC51A39053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85FE4-3D90-466D-88F7-079280B717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F9A43-DE6B-4C30-A27D-D0F0C0B128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FB03C-AA8F-46A2-9315-4224298FB7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71C08-A279-4178-A45C-C18FDF9ABAD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EB259-4870-4B13-B9BF-551C251E788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6E730-BDDD-48E6-80D8-15EB0ED191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9020B-3F85-43E7-92B6-EE5174DAB2A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9BEDC-422B-4051-A8D9-4CE6A5D15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DF6B-9E89-423B-B58F-0FAECAF1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864A2-09FB-4FCD-95B6-45CCFFC3195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944E4-FAE2-4168-A56E-7B2A69A5BE0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41D99-6A68-448F-9EAB-CEB98565126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019A5-F9A9-41C9-9FA5-6392F6B5C00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2B789-1577-4595-A867-6297575A12E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E7543-052D-427B-953B-3C028B2D1A3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5A821-8F5A-4A7F-B6F6-94E90A38EF8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1A9E7-233A-472B-A061-11C6C9DE136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992AF-7A55-40F3-B22F-D592D284D84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612D-D4F6-4EA3-B7B8-CE3229090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8CF8-111F-479D-89B4-77201CF0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F7A0-9E9F-440D-8653-C1ADAC7F85A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B825-EC7B-43AE-97E6-2C44B7C076E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C8F1-E72D-41C2-8B22-32938B1B029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EDA0-010F-45E1-BBB3-CC5933C1F85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E1E1-EDD9-45FF-B306-29F32E8F96E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8BFD-8FE9-4AF9-902C-CD761ECA254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C69C-C59A-4ABA-8E75-4425662267B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3D92-CB28-4914-A26F-FD70663BA17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159F-2570-4BA1-8A17-6AAD1C25F5B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3146-2E98-492C-BFF2-41007AEC5F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CE4C-2AC8-428F-8FCF-99F845DD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F892-A32F-4E7D-8624-43B9CF9C11B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7653D7-8350-43D0-AD53-A75B143C479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CDB4B1-FDA9-4CDD-AAE6-2D0E6508ACE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35E82E-3D3E-4CC1-B0D1-2188850F170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D8AC58-2196-4CE4-9AD3-E9DE6393885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4AE9DC-C7DA-47D5-BA10-9D3853B2F41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761D19-3067-4A20-878A-5161E5BBD28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1B653B-50C4-4FA3-B3BF-DE41CB28185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B64334-C75E-4899-A242-42F6B8B584C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89E52B-1E71-4336-B7DC-079CC7AE1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119D-01A6-4715-9C29-83D21436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622179-A06A-4881-8AF7-2F123C7A59E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A6DB7B-38A9-43EB-B686-0472C13EE7A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144DF0-A92E-4223-8036-B2DA318BF9F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FECFE0-BACC-46C9-8AD7-056D9731C69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D220E-49AE-492D-A204-E2BB7C5273D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DD4EFE-E2E6-415B-B14A-0331E16019A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728933-96D4-4B09-B634-B3C890D12E4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96E43-78DA-4C50-A484-427E8AD6CAD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A47E6-01D8-4984-918F-F8D1F52B382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13102-CEFB-491F-939F-07A083E88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34DD-1851-4667-8767-5931F217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BE9ECC-6DA5-4916-949F-CAD7AB515D0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393DD-48BD-48E0-AEB8-EA211AD3478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9E2C7E-D6DD-4734-B85A-54E74F076C3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D2FBC4-26E5-4AB4-883E-3C5D067D458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F70918-37A9-4433-B0CB-D041A422524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77FD5-2B5A-4309-80F7-832B65D1895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9B5AE-3897-42F7-B5B4-DDE1BA5DAA7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22DED-A681-460C-8A78-88E5B719AA0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0088B-D7A8-4BC1-B494-8A9E65DA71A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576A5-2F94-4548-8E30-94DFC3218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E396-F627-4D4C-AD43-DF5BC982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0F005-BD77-4A04-9864-8AEB37BFF11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82887-CE43-40FE-BE68-A80AE7B854C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95F30-69B3-46C2-913A-3D572F88ACE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A9BE5-265D-480B-803B-E059C1AEF18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765B8-081A-43D0-9F44-9D9E331E6EE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E07E1-9D5C-4712-968E-0BEDE9F8328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008E8-653B-4B9B-9811-4D31369A891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E7B5C1-7157-441D-ABF5-CD31D800A63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043D1C-4EE2-40F1-892F-B2D8A91248B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D78CC9-2BC1-4600-8B9B-30F80B0B7D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A73920F-7C68-49E0-94B3-372CF1761A0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A1B5DFC-DC7C-49A9-81D6-B53B458E5E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2C87F45-F669-41B8-AB19-30F58AD2270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94842E6-72EA-4FD2-99F5-042670AACDC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93F77FB-743C-410B-8300-050D55FD526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BEBDCCE-5793-4BDC-9B34-2D6C0486D63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52C3FF2-CC0A-48BB-BB25-CD68A7DD494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603AE37-579A-46E0-AB01-9FC6F622C6C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4094FE4-82E3-4AC0-9265-AD3510A4503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AD5EC20-BE78-4F09-9269-AE6A2A34C9DD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E9404D5-0713-478C-9858-00FD9F9A1C94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26C51BC-DDED-460B-9996-6A958020029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87F45DF-9B13-4AF4-B52C-4D4AEE0A030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31AF6BD-3800-47CE-8D4A-173BD977FD6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3C1E6E4-3571-4771-AC22-E611C09A885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4CC59C1-BDFA-4A95-BA84-036449DBE01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076BE8F-E6DF-4F5B-9097-CC706F7A420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E52DABE-ACDB-4C45-95B2-2EA4C847583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33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Jauniešu izglītības, Pieaugušo izglītības un Ziemeļvalstu valodu projektu sagatavošana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2238480" y="40888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7.septembr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79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 programmas kop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ējā statist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 txBox="1"/>
          <p:nvPr/>
        </p:nvSpPr>
        <p:spPr>
          <a:xfrm>
            <a:off x="484200" y="2182320"/>
            <a:ext cx="5330880" cy="460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http://statistikk.nordplusonline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Picture 1" descr=""/>
          <p:cNvPicPr/>
          <p:nvPr/>
        </p:nvPicPr>
        <p:blipFill>
          <a:blip r:embed="rId2"/>
          <a:stretch/>
        </p:blipFill>
        <p:spPr>
          <a:xfrm>
            <a:off x="268200" y="3243240"/>
            <a:ext cx="84628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19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4" name=""/>
          <p:cNvGraphicFramePr/>
          <p:nvPr/>
        </p:nvGraphicFramePr>
        <p:xfrm>
          <a:off x="1082520" y="2300400"/>
          <a:ext cx="7755120" cy="320508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2 (7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5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5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20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8" name=""/>
          <p:cNvGraphicFramePr/>
          <p:nvPr/>
        </p:nvGraphicFramePr>
        <p:xfrm>
          <a:off x="1082520" y="2300400"/>
          <a:ext cx="7755120" cy="350676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5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7 (6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9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aziņojums par 2021. gada sagatavošanas vizīšu konkurs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1235160" y="1692000"/>
            <a:ext cx="7526160" cy="463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https://www.nordplusonline.org/news-call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" descr=""/>
          <p:cNvPicPr/>
          <p:nvPr/>
        </p:nvPicPr>
        <p:blipFill>
          <a:blip r:embed="rId2"/>
          <a:stretch/>
        </p:blipFill>
        <p:spPr>
          <a:xfrm>
            <a:off x="1736640" y="2360520"/>
            <a:ext cx="6310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1994040" y="1530000"/>
            <a:ext cx="6767280" cy="4800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ētas, lai potenciālie projektu iesniedzēji tiktos ar potenciālajiem partneriem (uz projekta iesniegšanas laiku parteriem jābūt zināmiem!), sāktu plānot projektu un gatavotu projekta pieteikumu. Jābūt skaidrai projekta idej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us sagatavošanas vizītēm iespējams iesniegt tikai </a:t>
            </a:r>
            <a:r>
              <a:rPr b="1" i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Nordplus Junior, Nordplus Adult un Nordplus Nordic Language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pakšprogrammā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u iesniegšanas termiņš </a:t>
            </a:r>
            <a:r>
              <a:rPr b="0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– </a:t>
            </a:r>
            <a:r>
              <a:rPr b="1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2021.gada 1.oktobris, plkst. 23.59.  pēc Norvēģijas lai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s ir jāaizpilda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ngļu valod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kumi jāaizpilda un jāiesniedz, izmantojot tiešsaistes sistēmu </a:t>
            </a:r>
            <a:r>
              <a:rPr b="0" i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Espresso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: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https://espresso.siu.no/espresso/login?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Picture 2" descr=""/>
          <p:cNvPicPr/>
          <p:nvPr/>
        </p:nvPicPr>
        <p:blipFill>
          <a:blip r:embed="rId1"/>
          <a:stretch/>
        </p:blipFill>
        <p:spPr>
          <a:xfrm>
            <a:off x="158760" y="457200"/>
            <a:ext cx="912168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211120" y="380880"/>
            <a:ext cx="64753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2123640" y="1590480"/>
            <a:ext cx="647532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ē piedalās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ne mazāk kā divas izglītības iestādes/organizācijas no divām dažādām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Nordplus programmas valstī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maksimālais ilgums ir 5 diena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, ieskaitot ceļā pavadīto laiku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Maksimāli viena sagatavošanas vizīte ar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maksimums 2 dalībniekiem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no katras organizācijas/valst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ēm Nordplus sedz 100% ceļa izdevumus un uzturēšanās izdevumus saskaņā ar likmē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 īstenojama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no 2021.gada 1.novembra līdz 2022. gada 1.februārim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(ja plānots iesniegt projektu 2022. gada projektu konkursam)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, vai līdz 2021./2022.mācību gada beigā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897200" y="1506600"/>
            <a:ext cx="6789600" cy="461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Uzņemošai institūcijai nekādi izdevumi saistībā ar sagatavošanas vizītēm netiek segti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ā iekļaujams detalizēts vizītes darba plāns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schedule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ā norādāmi konkrēti vizītes sasniedzamie mērķi attiecībā uz nākotnē plānoto projektu (kādi ir vizītes sagaidāmie rezultāti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am jāpievieno organizācijas paraksttiesīgās personas parakstīta Nodomu vēstule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Letter of Intent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) par koordinatoru un par katru partneri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Letter of Intent 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izveido 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Espresso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 sistēmā, aizpildot pieteikuma veidlapu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itle 1"/>
          <p:cNvSpPr/>
          <p:nvPr/>
        </p:nvSpPr>
        <p:spPr>
          <a:xfrm>
            <a:off x="2266920" y="493560"/>
            <a:ext cx="60958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b7d91"/>
                </a:solidFill>
                <a:latin typeface="Verdana"/>
              </a:rPr>
              <a:t>Detalizēti apakšprogrammu apraksti pieejami Nordplus Rokasgrāmatā (IV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2"/>
          <p:cNvSpPr/>
          <p:nvPr/>
        </p:nvSpPr>
        <p:spPr>
          <a:xfrm>
            <a:off x="485640" y="2503440"/>
            <a:ext cx="39402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</a:rPr>
              <a:t>Katru gadu pirms projektu konkursa tiek publicēta rokasgrāmatas atjaunotā vers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</a:rPr>
              <a:t>2021.gada Nordplus Rokasgrāmata (angļu valodā) pieejama: 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https://www.nordplusonline.org/how-to-apply/handbook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6" name="Picture 2" descr=""/>
          <p:cNvPicPr/>
          <p:nvPr/>
        </p:nvPicPr>
        <p:blipFill>
          <a:blip r:embed="rId1"/>
          <a:stretch/>
        </p:blipFill>
        <p:spPr>
          <a:xfrm>
            <a:off x="5784840" y="1795320"/>
            <a:ext cx="28735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V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Box 9"/>
          <p:cNvSpPr/>
          <p:nvPr/>
        </p:nvSpPr>
        <p:spPr>
          <a:xfrm>
            <a:off x="846000" y="4124160"/>
            <a:ext cx="20178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700" spc="-1" strike="noStrike">
                <a:solidFill>
                  <a:srgbClr val="002060"/>
                </a:solidFill>
                <a:latin typeface="Calibri"/>
                <a:ea typeface="Calibri"/>
              </a:rPr>
              <a:t>Nordplus Rokasgrāmata (2021.) par sagatavošanas vizītēm, 18.lpp; 44.lpp , 64.lpp, 65 lpp., 72.lp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Picture 2" descr=""/>
          <p:cNvPicPr/>
          <p:nvPr/>
        </p:nvPicPr>
        <p:blipFill>
          <a:blip r:embed="rId1"/>
          <a:stretch/>
        </p:blipFill>
        <p:spPr>
          <a:xfrm>
            <a:off x="1952640" y="1189080"/>
            <a:ext cx="4826160" cy="29350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" descr=""/>
          <p:cNvPicPr/>
          <p:nvPr/>
        </p:nvPicPr>
        <p:blipFill>
          <a:blip r:embed="rId2"/>
          <a:stretch/>
        </p:blipFill>
        <p:spPr>
          <a:xfrm>
            <a:off x="5280120" y="3538440"/>
            <a:ext cx="34812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1703520" y="1252440"/>
            <a:ext cx="744048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Ziemeļu Ministru padomes programma Ziemeļvalstu un Baltijas valstu sadarbībai izglītības jomā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5 apakšprogramm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Jaunieš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Augstākās izglītīb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Pieaugušo izglītīb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Horizontāl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Ziemeļvalstu valod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Oficiālais portāls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https://www.nordplusonline.org/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Informācija VIAA portālā latvisk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https://www.viaa.gov.lv/lv/nordplu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V) - finansēju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773360" y="1506600"/>
            <a:ext cx="7161120" cy="4857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5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Ceļa izdevumi  (abos virzienos)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Verdana"/>
              </a:rPr>
              <a:t>tiek finansēti šādā apmērā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Uz Islandi un Fēru salām –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66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Uz Dāniju, Igauniju, Somiju, Ālandu salām, Norvēģiju, Zviedriju, Lietuvu -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33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Ceļa izdevumi savā  valstī, ja pārsniedz 500 km – 150 eur 1 dalībniekam. (uz Latviju nav attiecinām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Uzturēšanās izdevumi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tiek finansēti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7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pmērā par 1 diennakti 1 dalībniekam.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a veidlap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ā budžeta aprēķini notiek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utomātisk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, ievadot brauciena dalībnieku skaitu, dienu skaitu un apmeklējamo vals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168640" y="380880"/>
            <a:ext cx="6518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Jauniešu apakšpro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072880" y="1289160"/>
            <a:ext cx="6613560" cy="4836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</a:t>
            </a:r>
            <a:r>
              <a:rPr b="1" lang="lv-LV" sz="2000" spc="-1" strike="noStrike">
                <a:solidFill>
                  <a:srgbClr val="0b7d91"/>
                </a:solidFill>
                <a:latin typeface="Calibri"/>
                <a:ea typeface="Verdana"/>
              </a:rPr>
              <a:t> –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kolēni/audzēkņi, skolotāji/pasniedzēji, administrācijas darbinie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</a:t>
            </a:r>
            <a:r>
              <a:rPr b="0" lang="lv-LV" sz="2000" spc="-1" strike="noStrike">
                <a:solidFill>
                  <a:srgbClr val="454547"/>
                </a:solidFill>
                <a:latin typeface="Calibri"/>
                <a:ea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pirmsskol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sākumskola/pamatskola/vidussk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profesionālās izglītīb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kultūras skolas (mūzikas un mākslas skolas), kas īsteno valsts apstiprinātu program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! Cita veida iestādes, kas ir saistītas ar mērķa grupas apmācību, bet neīsteno valsts apstiprinātas mācību programmas, var piedalīties kā partn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0000"/>
              </a:lnSpc>
              <a:buClr>
                <a:srgbClr val="000000"/>
              </a:buClr>
              <a:buSzPct val="45000"/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!! Kā projekta </a:t>
            </a:r>
            <a:r>
              <a:rPr b="1" lang="lv-LV" sz="20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iesniedzēji/koordinatori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ar būt tikai formālās izglītības iestādes (tas ir – bērnudārzi, skolas, profesionālās izglītības iestādes, mūzikas un mākslas skolas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, kas īsteno valsts apstiprinātas mācību program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apakš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1976040" y="1417320"/>
            <a:ext cx="70023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1. Mobilitā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klašu apmaiņa (no 1 līdz 3 nedēļā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vidusskolu skolēnu apmaiņa un profesionālās izglītības skolu audzēkņu darba prakse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skolotāju un pedagoģiskā personāla apmaiņa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2.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dministratīvas tikšanās projekta aktivitāšu plānošanai un īstenošanai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ttīstības projekti un citas aktivitātes, kas vērstas uz pedagoģisko un didaktisko metožu attīstīšanu un pilnveidi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3. Sadarbības tīk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dministratīvās tikšanās, lai dibinātu un attīstītu skolu sadarbības tīkl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sabiedrības informēšanas aktivitātes un projektu rezultātu izplatīšan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apakš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1993680" y="1349280"/>
            <a:ext cx="6692760" cy="4840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 izglītības iestāde no citas programmas dalībvals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rojektiem un sadarbības tīkliem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 izglītības iestādes no dažādām programmas dalībvalstīm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 100%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 - 100% 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no piešķirtā finansējuma saskaņā ar plānotajām vienības izmaksā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tīkliem un projektiem kopš 2021. gada līdzfinansējuma apjoms </a:t>
            </a:r>
            <a:r>
              <a:rPr b="1" lang="lv-LV" sz="20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nav noteikts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2" descr=""/>
          <p:cNvPicPr/>
          <p:nvPr/>
        </p:nvPicPr>
        <p:blipFill>
          <a:blip r:embed="rId1"/>
          <a:stretch/>
        </p:blipFill>
        <p:spPr>
          <a:xfrm>
            <a:off x="4308480" y="1647720"/>
            <a:ext cx="4282920" cy="138600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3" descr=""/>
          <p:cNvPicPr/>
          <p:nvPr/>
        </p:nvPicPr>
        <p:blipFill>
          <a:blip r:embed="rId2"/>
          <a:stretch/>
        </p:blipFill>
        <p:spPr>
          <a:xfrm>
            <a:off x="4408560" y="3127320"/>
            <a:ext cx="4487760" cy="227484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2"/>
          <p:cNvSpPr/>
          <p:nvPr/>
        </p:nvSpPr>
        <p:spPr>
          <a:xfrm>
            <a:off x="4857840" y="5649840"/>
            <a:ext cx="3776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a apraksts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24. – 25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411280" y="423720"/>
            <a:ext cx="6485040" cy="94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Jauniešu Sadarbības projektu un tīkl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7" name="Picture 3" descr=""/>
          <p:cNvPicPr/>
          <p:nvPr/>
        </p:nvPicPr>
        <p:blipFill>
          <a:blip r:embed="rId3"/>
          <a:stretch/>
        </p:blipFill>
        <p:spPr>
          <a:xfrm>
            <a:off x="109440" y="1652760"/>
            <a:ext cx="3992760" cy="2474640"/>
          </a:xfrm>
          <a:prstGeom prst="rect">
            <a:avLst/>
          </a:prstGeom>
          <a:ln w="0">
            <a:noFill/>
          </a:ln>
        </p:spPr>
      </p:pic>
      <p:sp>
        <p:nvSpPr>
          <p:cNvPr id="858" name="Rectangle 2"/>
          <p:cNvSpPr/>
          <p:nvPr/>
        </p:nvSpPr>
        <p:spPr>
          <a:xfrm>
            <a:off x="358920" y="4363920"/>
            <a:ext cx="37796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Jauniešu apakšpr.  sadarbības projektu pieteikumu veidlapa, pieejama https://espresso.diku.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198520" y="380880"/>
            <a:ext cx="60962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ieaugušo izglītības apakšprogramma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1728360" y="1671120"/>
            <a:ext cx="7110360" cy="4659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 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ir visi un jebkurš pieaugušo izglītībā iesaistītais (formālā, neformālā, vispārējā, profesionālā izglītība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206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izglītības iestāde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, kas iesaistītas vai nodarbojas ar pieaugušo izglītības nodrošināšanu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206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organizācija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, kas nodarbojas ar pieaugušo izglītības īstenošanu (asociācijas, uzņēmumi, nevalstiskās organizācijas, un tml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ff0000"/>
                </a:solidFill>
                <a:latin typeface="Calibri"/>
                <a:ea typeface="Verdana"/>
              </a:rPr>
              <a:t>!!!</a:t>
            </a:r>
            <a:r>
              <a:rPr b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 Pieaugušo izglītības programmas projekta iesniedzējs var nebūt izglītības iestāde, bet projektā jābūt skaidri norādītam, kā projekta iesniedzējs saistīts ar pieaugušo izglītību, ko un kā izglītojamie iegūs no projekta īstenošan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apakš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2080800" y="1611000"/>
            <a:ext cx="6605640" cy="4614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2060"/>
                </a:solidFill>
                <a:latin typeface="Calibri"/>
                <a:ea typeface="Verdana"/>
              </a:rPr>
              <a:t>1. Mobilitā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augušo izglītotāju un cita pedagoģiskā personāla tālākizglītība (no 5 dienām līdz 1 gad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augušo audzēkņu apmaiņa (no 5 dienām līdz 1 gada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2060"/>
                </a:solidFill>
                <a:latin typeface="Calibri"/>
                <a:ea typeface="Verdana"/>
              </a:rPr>
              <a:t>2. Sadarbības projek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tematisko tīklu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projekti, kas paredz administratīvas tikšanās, lai dibinātu un attīstītu sadarbības tīklu pieaugušo izglītības sfērā, sabiedrības informēšanas aktivitātes, projekta rezultātu izplatīšan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attīstības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, kas paredz jaunu moduli, kursu, mācību metožu izveid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plānošanas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, kas paredz iestrādes jaunu projektu izstrād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izglītības projektu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2211120" y="1531800"/>
            <a:ext cx="6475320" cy="483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 organizācija no citas programmas dalībvalsts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 organizācijas no dažādām programmas dalībvalstīm.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 100%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 100%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no piešķirtā finansējuma saskaņā ar plānotajām vienības izmaksā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966600" y="1547640"/>
            <a:ext cx="8002440" cy="3262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27000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Vienības izmaks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Projekta vadības, īstenošanas un publicitātes izmaksa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fiksēta summa projekta koordinatoram </a:t>
            </a: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3000 EUR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, projekta partneriem – </a:t>
            </a: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1000 EU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Projekta (starptautiskās) tikšanā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ceļa un uzturēšanās izdevumi projektā iesaistīto partneru dalībai plānošanas, projekta koordinēšanas sanāksmēm, semināriem, mācību kursiem saskaņā ar noteiktajām likmēm ceļa un uzturēšanās izdevumi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3"/>
          <p:cNvSpPr/>
          <p:nvPr/>
        </p:nvSpPr>
        <p:spPr>
          <a:xfrm>
            <a:off x="1770120" y="511200"/>
            <a:ext cx="69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ieaugušo izglītības sadarbības projekt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1" name="Picture 4" descr=""/>
          <p:cNvPicPr/>
          <p:nvPr/>
        </p:nvPicPr>
        <p:blipFill>
          <a:blip r:embed="rId1"/>
          <a:srcRect l="3218" t="7703" r="1798" b="5770"/>
          <a:stretch/>
        </p:blipFill>
        <p:spPr>
          <a:xfrm>
            <a:off x="2752560" y="4700520"/>
            <a:ext cx="5642280" cy="1819440"/>
          </a:xfrm>
          <a:prstGeom prst="rect">
            <a:avLst/>
          </a:prstGeom>
          <a:ln w="0">
            <a:noFill/>
          </a:ln>
        </p:spPr>
      </p:pic>
      <p:sp>
        <p:nvSpPr>
          <p:cNvPr id="872" name="Rectangle 2"/>
          <p:cNvSpPr/>
          <p:nvPr/>
        </p:nvSpPr>
        <p:spPr>
          <a:xfrm>
            <a:off x="201600" y="5310360"/>
            <a:ext cx="23860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s 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51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966600" y="1593360"/>
            <a:ext cx="8002440" cy="2311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27000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Vienības izmaks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Izstrādes darb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darba apmaksai, kas ieguldītas projekta ietvaros paredzētā produkta radīšanai (izglītojošie materiāli, mācību programmas, metodes, u.c.), saskaņā ar noteiktajām likmēm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1770120" y="511200"/>
            <a:ext cx="69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ieaugušo izglītības sadarbības projekt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Picture 4" descr=""/>
          <p:cNvPicPr/>
          <p:nvPr/>
        </p:nvPicPr>
        <p:blipFill>
          <a:blip r:embed="rId1"/>
          <a:stretch/>
        </p:blipFill>
        <p:spPr>
          <a:xfrm>
            <a:off x="2614680" y="3659040"/>
            <a:ext cx="6218280" cy="2330640"/>
          </a:xfrm>
          <a:prstGeom prst="rect">
            <a:avLst/>
          </a:prstGeom>
          <a:ln w="0">
            <a:noFill/>
          </a:ln>
        </p:spPr>
      </p:pic>
      <p:sp>
        <p:nvSpPr>
          <p:cNvPr id="877" name="Rectangle 2"/>
          <p:cNvSpPr/>
          <p:nvPr/>
        </p:nvSpPr>
        <p:spPr>
          <a:xfrm>
            <a:off x="291960" y="4402080"/>
            <a:ext cx="20862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s 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51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rogrammas mērķ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2055600" y="1236600"/>
            <a:ext cx="6630840" cy="488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stiprināt un attīstīt Ziemeļvalstu un Baltijas valstu izglītības institūciju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sadarbību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izglītības jomā, veicinot zināšanu ieguvi, apmaiņu un sadarbības tīklu veidošanu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uzlabot un ieviest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jauninājumu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Ziemeļvalstu un Baltijas valstu izglītības sistēmā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sniegt ieguldījumu kvalitatīvā un inovatīvā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mūžizglītība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attīstībā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veicināt Ziemeļvalstu kultūru un valodu apguvi, kā arī savstarpējo Ziemeļvalstu un Baltijas valstu valodu un kultūru izpratni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Ziemeļvalstu valodu apakšprogramma</a:t>
            </a:r>
            <a:br>
              <a:rPr sz="2500"/>
            </a:b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2028600" y="1331640"/>
            <a:ext cx="7027560" cy="4794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Programmas mērķgru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visi ieinteresētie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Ziemeļvalstu valodu apguvē, mācīšanā, izplatīšan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     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Ziemeļvalstu valodas </a:t>
            </a: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– dāņu, somu, norvēģu, zviedru, sāmu, islandiešu, fēriešu, grenlandiešu valoda, zīmju valoda (ziemeļvalstu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tbalstāmās aktivitātes (līdz 3 gadie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mācību metožu un materiālu veidošana Ziemeļvalstu valodu apguvei, mācī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sadarbība skolu mācību programmu attīstībai, iekļaujot tajās Ziemeļvalstu  valodu apguv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rojekti, kas vērsti uz sabiedrības informēšanu par projekta rezultāt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konferences, seminār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rojekti, kas vērsti uz terminoloģijas izstrādi un vārdnīcu sagatavošanu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ublikācij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attīstības projekti un citas aktivitātes, kas vērstas uz pedagoģisko un didaktisko metožu attīstīšanu un pilnvei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214720" y="380880"/>
            <a:ext cx="64720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Ziemeļvalstu valodu projektu dalībnieki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2490480" y="1626840"/>
            <a:ext cx="61959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Projekta iesniedzējs un sadarbības 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irmsskolas izglītības iestād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amatskola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vidusskol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rofesionālās izglītības iestād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augstskola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zinātniskās institūcij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nevalstiskās organizācij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rivātuzņēmum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Projekta iesniedzējs + </a:t>
            </a: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1 sadarbības partneris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no divām dažādām programmas dalībvalstī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Nordplus programmas finansējums -  līdz 75%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 no aktivitāšu izmaksām, 25% - projekta īstenotāju līdzfinansējum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Pieteikumu var iesniegt arī </a:t>
            </a: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angļu valodā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241360" y="365040"/>
            <a:ext cx="6273720" cy="689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</a:rPr>
              <a:t>Ziemeļvalstu valodu projektu finansējums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1855800" y="1279080"/>
            <a:ext cx="6905520" cy="5025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Tiešie izdevum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ceļa un uzturēšanās izdevumi, telpu noma semināriem, materiālu drukāšana semināriem, samaksa vieslektoriem, specifisku darbu izpildītāji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administratīvās izmaksas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</a:rPr>
              <a:t>līdz 5% 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no </a:t>
            </a:r>
            <a:r>
              <a:rPr b="0" i="1" lang="lv-LV" sz="2000" spc="-1" strike="noStrike">
                <a:solidFill>
                  <a:srgbClr val="254061"/>
                </a:solidFill>
                <a:latin typeface="Calibri"/>
              </a:rPr>
              <a:t>Nordplus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 finansējuma projekta koordinēšanas nodrošināšanai (pamatojošie dokumenti nav nepieciešam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</a:rPr>
              <a:t>Projektā iesaistītajiem darbiniekiem - samaksa par darbu, kas ir ieguldīts projekta izglītības rezultātu/produktu radīšanā 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(mācību programma, mācību līdzekļi, mācību metodes ut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Picture 2" descr=""/>
          <p:cNvPicPr/>
          <p:nvPr/>
        </p:nvPicPr>
        <p:blipFill>
          <a:blip r:embed="rId1"/>
          <a:stretch/>
        </p:blipFill>
        <p:spPr>
          <a:xfrm>
            <a:off x="1490760" y="1712880"/>
            <a:ext cx="7653240" cy="3576600"/>
          </a:xfrm>
          <a:prstGeom prst="rect">
            <a:avLst/>
          </a:prstGeom>
          <a:ln w="0">
            <a:noFill/>
          </a:ln>
        </p:spPr>
      </p:pic>
      <p:sp>
        <p:nvSpPr>
          <p:cNvPr id="887" name="Rectangle 2"/>
          <p:cNvSpPr/>
          <p:nvPr/>
        </p:nvSpPr>
        <p:spPr>
          <a:xfrm>
            <a:off x="136440" y="2739960"/>
            <a:ext cx="14493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Budžeta sadaļa projekta pieteikuma veidlapā, Espresso sistēma https://espresso.siu.no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241360" y="365040"/>
            <a:ext cx="6273720" cy="689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</a:rPr>
              <a:t>Ziemeļvalstu valodu projektu finansējums (I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095880" cy="621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nformācijas avot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1782720" y="861840"/>
            <a:ext cx="7361280" cy="5477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Programmas oficiālā mājas lapa,  – www.nordplusonline.org, projektu piemēri - https://www.nordplusonline.org/projects/project-stories/ 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Tiešsaistes sistēma </a:t>
            </a:r>
            <a:r>
              <a:rPr b="0" i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(pieteikumu aizpildīšana un iesniegšana) – http://espresso.siu.no/espres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VIAA mājas lapa – sadaļa “Nordplus”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Partneru meklēšan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ordplus partneru meklēšanas datu bāze https://www.nordplusonline.org/projects/partner-search/#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Skolu izglītības sektorā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Twinning: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https://www.etwinning.net/en/pub/index.htm 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choolgateway: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https://login.schoolgateway.com/0/auth/log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ieaugušo izglītības sektorā: </a:t>
            </a: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EPALE: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https://ec.europa.eu/epale/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http://www.muzizglitiba.lv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Kontaktinformā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hkdir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386080" y="380880"/>
            <a:ext cx="63007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2900" spc="-1" strike="noStrike">
                <a:solidFill>
                  <a:srgbClr val="0b7d91"/>
                </a:solidFill>
                <a:latin typeface="Verdana"/>
                <a:ea typeface="Verdana"/>
              </a:rPr>
              <a:t>Nordplus </a:t>
            </a:r>
            <a:r>
              <a:rPr b="1" lang="lv-LV" sz="2900" spc="-1" strike="noStrike">
                <a:solidFill>
                  <a:srgbClr val="0b7d91"/>
                </a:solidFill>
                <a:latin typeface="Verdana"/>
                <a:ea typeface="Verdana"/>
              </a:rPr>
              <a:t>dalībvalstis un aktivitā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4138560" y="1417320"/>
            <a:ext cx="454824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Dalībvals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Ziemeļvalstis un Baltijas valsti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: Dānija (arī Grenlande un Fēru salas), Somija, (arī Ālandu salas), Islande, Norvēģija, Zviedrija, Latvija, Lietuva un Igaunij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Atbalstu piešķir šādiem projektu veidi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Mobilitātē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Proje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Sadarbības tīkl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  </a:t>
            </a: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Sagatavošanas vizītes </a:t>
            </a:r>
            <a:r>
              <a:rPr b="0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ir viens no mobilitātes projektu veidiem</a:t>
            </a: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Picture 3" descr=""/>
          <p:cNvPicPr/>
          <p:nvPr/>
        </p:nvPicPr>
        <p:blipFill>
          <a:blip r:embed="rId1"/>
          <a:stretch/>
        </p:blipFill>
        <p:spPr>
          <a:xfrm>
            <a:off x="8568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2" descr=""/>
          <p:cNvPicPr/>
          <p:nvPr/>
        </p:nvPicPr>
        <p:blipFill>
          <a:blip r:embed="rId2"/>
          <a:stretch/>
        </p:blipFill>
        <p:spPr>
          <a:xfrm>
            <a:off x="264960" y="1916280"/>
            <a:ext cx="35038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sagatavošanas vizītes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2012760" y="1252440"/>
            <a:ext cx="6870600" cy="217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Sniedz iespēju </a:t>
            </a:r>
            <a:r>
              <a:rPr b="1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tikties potenciālā projekta partneriem pieteikumu sagatavošanai Jauniešu, Pieaugušo izglītības un Ziemeļvalstu valodu 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apakšprogrammā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2" descr=""/>
          <p:cNvPicPr/>
          <p:nvPr/>
        </p:nvPicPr>
        <p:blipFill>
          <a:blip r:embed="rId2"/>
          <a:stretch/>
        </p:blipFill>
        <p:spPr>
          <a:xfrm>
            <a:off x="0" y="4168800"/>
            <a:ext cx="9212400" cy="175716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4" descr=""/>
          <p:cNvPicPr/>
          <p:nvPr/>
        </p:nvPicPr>
        <p:blipFill>
          <a:blip r:embed="rId3"/>
          <a:stretch/>
        </p:blipFill>
        <p:spPr>
          <a:xfrm>
            <a:off x="77760" y="2076480"/>
            <a:ext cx="18813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1828440" y="992160"/>
            <a:ext cx="7094520" cy="5160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2.gada Nordplus projektu konkursu plānots izsludināt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gada 1.novembrī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(paredzamais projektu iesniegšanas termiņš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2022.gada 1.februāri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- 2022. gada konkursos projekti tiek aicināti  uzsvērt </a:t>
            </a:r>
            <a:r>
              <a:rPr b="1" lang="lv-LV" sz="2200" spc="-1" strike="noStrike">
                <a:solidFill>
                  <a:srgbClr val="009a00"/>
                </a:solidFill>
                <a:latin typeface="Calibri"/>
                <a:ea typeface="Verdana"/>
              </a:rPr>
              <a:t>vides, ilgtspējīgas attīstības, zaļās  ekonomikas un ar to saistīto inovāciju attīstību.</a:t>
            </a:r>
            <a:r>
              <a:rPr b="1" lang="ru-RU" sz="2200" spc="-1" strike="noStrike">
                <a:solidFill>
                  <a:srgbClr val="009a00"/>
                </a:solidFill>
                <a:latin typeface="Calibri"/>
                <a:ea typeface="Verdana"/>
              </a:rPr>
              <a:t> </a:t>
            </a:r>
            <a:r>
              <a:rPr b="0" lang="ru-RU" sz="2200" spc="-1" strike="noStrike">
                <a:solidFill>
                  <a:srgbClr val="009a00"/>
                </a:solidFill>
                <a:latin typeface="Calibri"/>
                <a:ea typeface="Verdana"/>
              </a:rPr>
              <a:t>(</a:t>
            </a:r>
            <a:r>
              <a:rPr b="0" lang="en-US" sz="2200" spc="-1" strike="noStrike">
                <a:solidFill>
                  <a:srgbClr val="009a00"/>
                </a:solidFill>
                <a:latin typeface="Calibri"/>
                <a:ea typeface="Verdana"/>
              </a:rPr>
              <a:t>“Enhancing Educational Cooperation for a Greener Future” 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Galvenais dokuments projektu sagatavotājiem  - </a:t>
            </a:r>
            <a:r>
              <a:rPr b="1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2022. gada Nordplus rokasgrāmata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tiks publicēta Nordplus oficiālajā mājas lapā pēc  2022. gada konkursa izsludināšan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gada Nordplus rokasgrāmata (angļu valodā) pieejama: https://www.nordplusonline.org/How-to-apply/HANDBOOK#pdf_fr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u kopsavilkums programmas oficiālajā portālā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2344680" y="2371320"/>
            <a:ext cx="6354720" cy="426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64960" indent="-264960" algn="just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 gadā no visām 8 programmas dalībvalstīm tika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iesniegt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331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projektu pieteikumi ar kopējo pieprasīto grantu 14, 84 milj. 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 gadā kopumā 8 programmas dalībvalstīs tika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apstiprināt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256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kumi (77%) ar kopējo piešķirto grantu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8,59 milj. 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Detalizēta informācija par 2021. gada projektu konkursa rezultātiem pieejama Nordplus programmas oficiālajā portālā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https://www.nordplusonline.org/news/nordplus-overview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5" descr="A picture containing text, indoor, person&#10;&#10;Description automatically generated"/>
          <p:cNvPicPr/>
          <p:nvPr/>
        </p:nvPicPr>
        <p:blipFill>
          <a:blip r:embed="rId2"/>
          <a:stretch/>
        </p:blipFill>
        <p:spPr>
          <a:xfrm>
            <a:off x="190440" y="2446200"/>
            <a:ext cx="23004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5587A06-7499-4055-AB87-E940936A111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21.gada projektu konkursa  rezultāti </a:t>
            </a:r>
            <a:r>
              <a:rPr b="1" lang="lv-LV" sz="28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244440" y="1963800"/>
          <a:ext cx="8745480" cy="3740040"/>
        </p:xfrm>
        <a:graphic>
          <a:graphicData uri="http://schemas.openxmlformats.org/drawingml/2006/table">
            <a:tbl>
              <a:tblPr/>
              <a:tblGrid>
                <a:gridCol w="1249560"/>
                <a:gridCol w="1249200"/>
                <a:gridCol w="1249200"/>
                <a:gridCol w="1249560"/>
                <a:gridCol w="1378080"/>
                <a:gridCol w="1120680"/>
                <a:gridCol w="1249200"/>
              </a:tblGrid>
              <a:tr h="13204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akšprogram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ējais iesniegtais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jektu pieteikum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ējais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finansētais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atoru </a:t>
                      </a:r>
                      <a:r>
                        <a:rPr b="1" lang="lv-LV" sz="16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iesniegto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atoru </a:t>
                      </a:r>
                      <a:r>
                        <a:rPr b="1" lang="lv-LV" sz="16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finansēto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 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%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no kopējā finansēto projektu ska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</a:tr>
              <a:tr h="605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26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5147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 (22 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97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 (8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68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(10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8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Valo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(4,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7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6 (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9</a:t>
                      </a: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 147 73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itle 1"/>
          <p:cNvSpPr/>
          <p:nvPr/>
        </p:nvSpPr>
        <p:spPr>
          <a:xfrm>
            <a:off x="2292480" y="473040"/>
            <a:ext cx="62420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Verdana"/>
              </a:rPr>
              <a:t>Nordplus programmas atbalstīto projektu skaits un piešķirtais finansējums Latvijas organizācijām 2008. – 202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Placeholder 3"/>
          <p:cNvSpPr/>
          <p:nvPr/>
        </p:nvSpPr>
        <p:spPr>
          <a:xfrm flipV="1" rot="10800000">
            <a:off x="0" y="5979960"/>
            <a:ext cx="9144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Kopumā visās Nordplus apakšprogrammās no 2008. līdz 2021. gadam apstiprināti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497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Latvijas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iesniedzēju (koordinatoru) projekti par kopējo summu ~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9 miljoni eiro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Chart 4" descr=""/>
          <p:cNvPicPr/>
          <p:nvPr/>
        </p:nvPicPr>
        <p:blipFill>
          <a:blip r:embed="rId1"/>
          <a:stretch/>
        </p:blipFill>
        <p:spPr>
          <a:xfrm>
            <a:off x="158760" y="1652760"/>
            <a:ext cx="886284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16T10:27:40Z</cp:lastPrinted>
  <dcterms:modified xsi:type="dcterms:W3CDTF">2021-09-07T10:35:50Z</dcterms:modified>
  <cp:revision>226</cp:revision>
  <dc:subject/>
  <dc:title>PowerPoint Presentation</dc:title>
</cp:coreProperties>
</file>