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2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0C93798-0359-4DFB-8F2D-5F94C206BD2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BF86A4B-65F9-4C8D-AF4B-9A21A7B59E9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020C19C-83DC-4C01-B0D9-A32DF15742B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3B9-1702-4951-BAA4-1989094C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EC05-319D-4BD1-9D7C-037B7DEA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5E368F-3E9D-4770-91C7-F5DBDFA1BBB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8916FA-7928-43EA-B57A-3BDB676DFB2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33EE4F-8586-44FD-A1F0-284CF10488A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53B570-4561-41FD-882A-CA10E1FA88F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4CEE12-83BC-4C82-A444-D50EBF8E533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8D3A6A-785A-4C44-ACAB-7474934BC79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05F78E-99CB-450A-824F-6CA3B411EC9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818A7D-2E52-433C-925E-F23DFC6FD04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1C82E4-E3ED-4625-AE86-7F4EC2BC345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6A8E1-652A-46D4-80E8-C5CBA8342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C38-1C55-42F7-9EC1-C158D85B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E27286-86F4-4698-BF9A-DC5B28AB296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854F3F-6F67-4FFB-B64F-85D4ACBE4F8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FA2D70-F83F-4C5E-A36F-6A0BC3E219F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250BDE-0B2F-466C-AB1B-B48231A2C6B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7DCD0A-07E3-4924-A4BD-8631DD0F3B0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8078AE-4BAD-4B92-B0BB-9ED12822AF4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8B3A78-BBE9-41E4-AAA4-8CA4FAB3A2D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6FA286-AF1A-4961-83CC-481A72A5C71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E9B19B-1328-474F-9515-C2226842DF7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392EFA-FA69-453A-903F-706F06233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7506-3327-42F5-B82C-F3DD96CD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15A684-A687-475E-930E-75940AFB459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1D4FF-AE00-49B2-9B3C-77022DA4AC6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7EA35-7F96-4E69-99E5-A1C0EACFC33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3AD26-234F-4889-B812-4C3BFEE04F0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95EEC-03B4-4E92-97F0-3369C6C82A6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8760C-875A-4D15-AF91-FA229ADD3BC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52297-7170-43AA-A826-ADF040971D5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4D330-D561-4539-9977-82F12B7127A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C1040-16A4-4428-8300-AC3BE74CA5A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96058-BFB2-4777-951C-D693B8ADF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922EB-BD06-43BA-89BA-A3E73DB3DF5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4A76D-2FD6-479A-9E2C-A81988021C6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9EDBE-93C6-44FB-AD57-61E0DB76852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44F472-7A08-4915-8D66-977C4FE2D79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26833C-CB1C-40D7-A708-2AE75C4335E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C51F44-47CB-44B8-8D34-16D185DFF65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E69222-3DE6-4664-A5C5-B04F654B940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EF204C-D9EC-4BE6-9EFB-45BBF0AA057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B208E8-8E41-46AB-91F3-B7109CFF99C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3109B1-2C0F-4388-B4C4-C0018A0241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07AF88-4E1B-48E0-A875-665EC4742D1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C13D8A-8BC8-4B1C-9B73-032DBF54D97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2C26E3-8399-4024-B848-3168D29533C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EF99C3-9CE2-4A4E-BD39-A58E2EB9C28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C8D069-B481-47F5-AA16-C3A7F920DA9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CB914-46A4-419B-91F3-C32B4B16D45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C42D12-6CA8-4FAC-A7DA-45378134B6F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4529AE-FB5C-4EF3-A983-69C9A73004C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23A607-A9D7-4AA7-A635-423CA35EC60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3168A6-0F1E-44BC-8DAA-0688AF275F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92563B-251B-4647-ABA4-7D1266DEF58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F79D38-6F7B-42E7-B837-8D8CE6ABB9E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D1DDDC-B078-4D16-A1E2-48BDEA9B86B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AB428-CCF7-430C-AC79-0DA7B183679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94348-739F-45AD-B98B-7766E67F392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25F76-FA9C-4A47-A00F-2B0DD19FA66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E7679F-C17F-4A20-8842-66418E085D7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611A3-198F-4098-8F72-A44E17DD5B4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9FA11-06C7-4E59-A758-10C78A58860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09DA9-8463-455B-A165-9DEB165FC3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D6AEA-CE7E-43FA-9BB0-455A6EFE3FF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A9F78-93C1-422C-A91B-44A87CF8832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8A3AC-0F2F-4FAA-B824-164AF0D62F6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34454-7CD2-46D3-8028-BB2FB189C89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99D57-54E0-4397-A02D-DBE846CA92A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A9F24-B3A7-4DCF-AE5C-B8D8E441573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ABD6A-ABDD-4703-A1A0-0C0EB1C360D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1BF8C-BF5A-44D8-8E8E-BAEDE6777F2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A4008-A59E-4C09-BDCF-4FE13FBB2FE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D1E869-9096-4B2B-AEBE-34041543F9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F5D425-E813-43E4-BAD0-C95CC7132B5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F58FF4-E2A0-4AD1-AD08-DB3FA078EA2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9BC9FB-0543-45A5-84D1-5B8ED067F31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9873F3-21F5-4D1C-90DF-01F1617C01D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DF64EA-2DDD-46AD-A552-3DBF3C2A075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C4699C-47DB-45BE-91B6-3393E071AB4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D4C537-5887-4ED5-A9DC-8BF0542C017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5BEF52-9DE4-45B8-B099-22BAE6801BC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FA1378-6423-4A06-BB9A-75905F348A0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20248C-A629-488F-96E9-A0DB2124AA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030E03-7C54-4162-9AB2-197CBBCB839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A8C644-0B03-4E34-A045-011802DC0F1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A66A7B-92CC-4EE7-9B33-A09DA1D7CCB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71BA3-84AE-4567-A5B9-B9A634702C7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5A272E-2A32-476B-A0F9-367A8940638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C5D08A-69EA-49FC-8C18-B04A3C70B01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B3F7D-2A0A-464A-9E87-1286201B67B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0DA51F-E85E-4ACC-A7D4-BF83C977BE9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E3A48-4036-4C19-8971-0F5596FE9B6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D62B1E-098A-455E-A5E5-6F9014C656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A7099-9E18-4669-9075-1F2E6330FB5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54DD79-BC8D-4D86-9BEE-A8DAE3A1FD6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5782B3-5A0B-4199-BDCA-E616593F625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7CD-5F72-4056-A7E8-22D1E230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FCEA03-AEA2-4279-9059-585A8452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CF53F1-677C-4387-9707-A7397293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8767EE-63D9-41B1-8810-0201F25B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E933D0-919E-456D-B800-BD72CE0F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3405A5-0D9D-4123-8D7A-AEAE6B08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54E6B0-5EB8-45E5-91AD-B1EAE53F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3083F6-DA9D-41C9-BD94-301666EE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520A70-3DA4-4505-B827-607B9E1E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FA49E4-B623-406B-9533-A7A75CAF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53B936-A647-42B2-BC3C-5D1A61F7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395625-857A-4A4C-90CD-A01967C2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7C2015-6073-4BDC-BBCC-C49CA343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E3431-50EE-40F6-9F5B-17D4D5BB6E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D7FF0-B28B-4FB1-A136-2150EEE49D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3F91C-65FD-4145-9D8D-5010B9488B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3C3EB-A8BB-401A-85EA-1656120474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48D9B-5D5F-4D40-BCB7-2062F59DBD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54F-DFC8-4235-A074-13C331F8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EED63-CA74-4148-BA34-F11F23DEC1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CA4D5-569F-4066-B616-C90B958C18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61840-B306-46C3-A918-BAD5F8B448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4E1E6-00D8-454D-8199-2AAACAECE5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C1F0D-9A29-4EDE-B7CE-99A7839BEA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EB581-429B-410E-B3C3-4BF4AC595F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AE595-0F38-461E-AE86-BE79B06548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E4B96-B359-4A3A-9825-FE57F75CEDF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BD109-07F9-43AF-8992-7884FD55D5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34FA3-FBF2-46AC-A000-1EBC3A230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1AF-EA1C-406E-8D03-EE8C49A9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C9DE6-C863-46CE-A48E-1691363B59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6EB55-A2A7-4334-B651-1E551C980E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AA64E-882A-43E7-9601-4105C3F6AB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0106C-B4EA-4046-BF07-367239B736D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628E7-839E-4F7B-A9B8-CAE4263705A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7A64A-2408-43B3-AB1A-CD45FDC44E1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EBF46-6613-43DF-AA73-DE568C9A90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B8200-31F0-4CEF-9A53-7F5E60F58A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8A718-23CF-4D46-9F1E-19211FAABFA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553F-2365-40A0-BD2D-3AF54F929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E41-A7F1-4052-B842-209C3455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C0FD-E9DE-494B-856E-3543124A199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9D54-F897-4A14-8A7D-16648C2EBFA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9668-7E49-4808-BD87-10F47B79614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A2D3-012C-427C-80FE-04CD7BEFAB8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9583-4150-4488-8D93-DF68E6BB5C1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81DD-7DDF-4EA2-ABB9-F2C8684224B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7685-514D-4E64-8A1C-5DE2EA5A0BB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C9E7-BF68-4AA8-ADBE-AA67844AA4D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A50D-163E-4B3D-B8D4-B9AE0C770C2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2741-4D03-4E9C-9279-130EA6026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C3E-9766-40C2-B2D9-BA57891A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CF0E-BFF3-44C8-A954-0EE10B5592B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218036-073E-4025-AEC8-396BFE45667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04A877-1BC8-429C-854E-A18F2B1B319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EB0B38-0A4D-4335-B372-2AA669A7CDC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3B3FBF-A879-4DBE-B263-65E7B486FF0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E86D89-F43F-4886-8A9E-2818F77E316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5B2C2B-3174-4F09-A53C-C626B4C9B3D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0514C0-C5C8-4DF4-BC2F-5F72E4DC63C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AB4C76-1AA4-4510-8AED-67049AB7AAD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9DCCF8-0A10-4B4C-A217-D101ACE63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C413-2C98-42FD-9235-9E1097E5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371726-8071-4936-BF55-9186FC5A419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89AFC5-3504-4664-8550-A89B5ADA231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9D601D-731F-4787-94BB-F9DB1941838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E5E91-1D31-4784-8E20-C5BFFC2F4E2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C69A2-CE11-43F8-930F-866BB27A97F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BAB9D-DEAF-4A21-BF78-EF92D5CFE52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71A9E-284B-4100-A5A9-16CB4B737B8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364DF-B2FE-4649-8442-86809BA6784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9A882-CCDD-48AA-97F2-13C0030308E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37374-7A79-4FF4-8797-D334D3320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E270-A1DD-47E2-8385-3CE4F2AE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F29F9-40AB-45CE-8627-E6EC2F47503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67E15-E3F0-4E22-B2F2-A17DC4A07D7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28B95-4DA0-4081-9C07-C62971BA68F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49665-03E4-474C-A5EB-645068F645B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30383-AFFD-4E8F-BCD8-1CEEA2D8D17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36643-C7DE-48BE-9A3C-3909AFB4B68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F9F41-5371-4D30-B2ED-54FC6B1AED1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475E0-238E-4F28-899B-8246CCFCD1A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C0AA0-599B-4DCF-8DEA-CF737C8391A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10A5C-B1E3-4370-AEC5-7C4E1D717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2FD5-E192-4502-9E48-6952C81C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48963-883D-48D3-9675-02208724106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C13C8-909C-46D4-B5EE-EBB8AF05332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8EFDC-BE97-466A-9943-4700FF66C37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9DEB6-2337-4624-8317-C2B8ABF0753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0EEE0-83A7-4FE8-BE49-46F42BCED12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45BBC-9770-41E0-8CDF-AB50DF3CB38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12ED5-C610-4746-B483-A491005C50D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376888-7ED0-4C93-940A-C893BFB49E3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15136-5B97-4D24-A12A-CA64884C581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3705E1-E0A1-4880-BC20-8E0E34858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744C87C-1B50-4066-A4A6-19A10D53A2B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865FB76-3B26-45DC-BD83-F884C6333D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7207239-D369-4F8B-8FB9-E7C98F5D305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6078680-0EA4-4215-B70D-F0FD639ACA9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F56CD20-0188-40A8-8903-BDD91CE5463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748635C-104F-4DA3-A2F9-6D06B29F0EE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7D0E4FD-5BA2-47B7-93E6-583ECF1AA91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C9A1C6E-8BF8-4260-9FE3-FEAF017DAA5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3CAFD87-6EE1-4B19-AA93-4A16E985B03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6ADEFF7-D184-42BC-861B-96F09C3B7983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1D9DC5E-B15E-4D5B-A052-F97588503D77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55D80F3-99C1-4AFA-BF36-53E8805ED54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042747A-674D-4CCC-BAF3-2B63C6898DD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DF7374B-EEE2-4741-88B3-01830B701D6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7E50AF2-8A57-4139-885C-E25F33AC0DF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235C1E4-45C7-4539-887C-5791698D2FF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E59B8EF-6FF8-48D5-891D-DCD083D4341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1C3288F-78D6-4965-A4A4-F4C23434A94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jektu sagatavošana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79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 programmas kop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ējā statist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 txBox="1"/>
          <p:nvPr/>
        </p:nvSpPr>
        <p:spPr>
          <a:xfrm>
            <a:off x="484200" y="2182320"/>
            <a:ext cx="5330880" cy="46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http://statistikk.nordplusonline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Picture 1" descr=""/>
          <p:cNvPicPr/>
          <p:nvPr/>
        </p:nvPicPr>
        <p:blipFill>
          <a:blip r:embed="rId2"/>
          <a:stretch/>
        </p:blipFill>
        <p:spPr>
          <a:xfrm>
            <a:off x="268200" y="3243240"/>
            <a:ext cx="84628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4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5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8" name=""/>
          <p:cNvGraphicFramePr/>
          <p:nvPr/>
        </p:nvGraphicFramePr>
        <p:xfrm>
          <a:off x="1082520" y="2300400"/>
          <a:ext cx="7755120" cy="350676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7 (6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9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1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www.nordplusonline.org/news-call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" descr=""/>
          <p:cNvPicPr/>
          <p:nvPr/>
        </p:nvPicPr>
        <p:blipFill>
          <a:blip r:embed="rId2"/>
          <a:stretch/>
        </p:blipFill>
        <p:spPr>
          <a:xfrm>
            <a:off x="1736640" y="2360520"/>
            <a:ext cx="6310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 iesniegšanas termiņš </a:t>
            </a:r>
            <a:r>
              <a:rPr b="0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– </a:t>
            </a: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2021.gada 1.oktobris, plkst. 23.59.  pēc Norvēģijas la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espresso.siu.no/espresso/login?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2" descr=""/>
          <p:cNvPicPr/>
          <p:nvPr/>
        </p:nvPicPr>
        <p:blipFill>
          <a:blip r:embed="rId1"/>
          <a:stretch/>
        </p:blipFill>
        <p:spPr>
          <a:xfrm>
            <a:off x="158760" y="457200"/>
            <a:ext cx="91216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rdplus programmas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ieskaitot ceļā pavadīto laik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no katras organizācijas/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m Nordplus sedz 100% ceļa izdevumus un uzturēšanās izdevumus saskaņā ar likmē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 2021.gada 1.novembra līdz 2022. gada 1.februāri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ja plānots iesniegt projektu 2022. gada projektu konkursam)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vai līdz 2021./2022.mācību gada beig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897200" y="1506600"/>
            <a:ext cx="678960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itle 1"/>
          <p:cNvSpPr/>
          <p:nvPr/>
        </p:nvSpPr>
        <p:spPr>
          <a:xfrm>
            <a:off x="2266920" y="493560"/>
            <a:ext cx="60958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b7d91"/>
                </a:solidFill>
                <a:latin typeface="Verdana"/>
              </a:rPr>
              <a:t>Detalizēti apakšprogrammu apraksti pieejami Nordplus Rokasgrāmatā (IV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2"/>
          <p:cNvSpPr/>
          <p:nvPr/>
        </p:nvSpPr>
        <p:spPr>
          <a:xfrm>
            <a:off x="485640" y="2503440"/>
            <a:ext cx="39402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Katru gadu pirms projektu konkursa tiek publicēta rokasgrāmatas atjaunotā vers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2021.gada Nordplus Rokasgrāmata (angļu valodā) pieejama: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https://www.nordplusonline.org/how-to-apply/handbook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Picture 2" descr=""/>
          <p:cNvPicPr/>
          <p:nvPr/>
        </p:nvPicPr>
        <p:blipFill>
          <a:blip r:embed="rId1"/>
          <a:stretch/>
        </p:blipFill>
        <p:spPr>
          <a:xfrm>
            <a:off x="5784840" y="1795320"/>
            <a:ext cx="28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Box 9"/>
          <p:cNvSpPr/>
          <p:nvPr/>
        </p:nvSpPr>
        <p:spPr>
          <a:xfrm>
            <a:off x="846000" y="4124160"/>
            <a:ext cx="20178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700" spc="-1" strike="noStrike">
                <a:solidFill>
                  <a:srgbClr val="002060"/>
                </a:solidFill>
                <a:latin typeface="Calibri"/>
                <a:ea typeface="Calibri"/>
              </a:rPr>
              <a:t>Nordplus Rokasgrāmata (2021.) par sagatavošanas vizītēm, 18.lpp; 44.lpp , 64.lpp, 65 lpp., 72.lp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1"/>
          <a:stretch/>
        </p:blipFill>
        <p:spPr>
          <a:xfrm>
            <a:off x="1952640" y="1189080"/>
            <a:ext cx="4826160" cy="29350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" descr=""/>
          <p:cNvPicPr/>
          <p:nvPr/>
        </p:nvPicPr>
        <p:blipFill>
          <a:blip r:embed="rId2"/>
          <a:stretch/>
        </p:blipFill>
        <p:spPr>
          <a:xfrm>
            <a:off x="5280120" y="3538440"/>
            <a:ext cx="34812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703520" y="1252440"/>
            <a:ext cx="74404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u Ministru padomes programma Ziemeļvalstu un Baltijas valstu sadarbībai izglītības jomā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5 apakšprogramm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Jaunieš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ākās izglītīb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Pieaugušo izglītīb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Horizontāl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valod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Oficiālais portāls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nordplusonline.org/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Informācija VIAA portālā latvisk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viaa.gov.lv/lv/nordplu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Ceļa izdevumi savā  valstī, ja pārsniedz 500 km – 150 eur 1 dalībniekam. (uz Latviju nav attiecinā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apakš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! Kā projekta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1993680" y="1349280"/>
            <a:ext cx="6692760" cy="4840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- 100% 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 piešķirtā finansējuma saskaņā ar plānotajām vienības izmaksā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tīkliem un projektiem kopš 2021. gada līdzfinansējuma apjoms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av noteikts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2" descr=""/>
          <p:cNvPicPr/>
          <p:nvPr/>
        </p:nvPicPr>
        <p:blipFill>
          <a:blip r:embed="rId1"/>
          <a:stretch/>
        </p:blipFill>
        <p:spPr>
          <a:xfrm>
            <a:off x="4308480" y="1647720"/>
            <a:ext cx="4282920" cy="13860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3" descr=""/>
          <p:cNvPicPr/>
          <p:nvPr/>
        </p:nvPicPr>
        <p:blipFill>
          <a:blip r:embed="rId2"/>
          <a:stretch/>
        </p:blipFill>
        <p:spPr>
          <a:xfrm>
            <a:off x="4408560" y="3127320"/>
            <a:ext cx="4487760" cy="227484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2"/>
          <p:cNvSpPr/>
          <p:nvPr/>
        </p:nvSpPr>
        <p:spPr>
          <a:xfrm>
            <a:off x="4857840" y="5649840"/>
            <a:ext cx="3776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a apraksts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24. – 25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411280" y="423720"/>
            <a:ext cx="6485040" cy="94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Jauniešu Sadarbības projektu un tīkl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3"/>
          <a:stretch/>
        </p:blipFill>
        <p:spPr>
          <a:xfrm>
            <a:off x="109440" y="1652760"/>
            <a:ext cx="3992760" cy="247464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2"/>
          <p:cNvSpPr/>
          <p:nvPr/>
        </p:nvSpPr>
        <p:spPr>
          <a:xfrm>
            <a:off x="358920" y="4363920"/>
            <a:ext cx="3779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Jauniešu apakšpr.  sadarbības projektu pieteikumu veidlapa, pieejama https://espresso.diku.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apakš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r visi un jebkurš pieaugušo izglītībā iesaistītais (formālā, neformālā, vispārējā, profesionālā izglītība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ff0000"/>
                </a:solidFill>
                <a:latin typeface="Calibri"/>
                <a:ea typeface="Verdana"/>
              </a:rPr>
              <a:t>!!!</a:t>
            </a:r>
            <a:r>
              <a:rPr b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tematisko tīklu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lānošan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izglītības projektu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966600" y="1547640"/>
            <a:ext cx="8002440" cy="3262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vadības, īstenošanas un publicitātes izmaksa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fiksēta summa projekta koordinatoram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3000 EUR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, projekta partneriem –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1000 EU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(starptautiskās) tikšanā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ceļa un uzturēšanās izdevumi projektā iesaistīto partneru dalībai plānošanas, projekta koordinēšanas sanāksmēm, semināriem, mācību kursiem saskaņā ar noteiktajām likmēm ceļa un uzturēšanās izdevumi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1" name="Picture 4" descr=""/>
          <p:cNvPicPr/>
          <p:nvPr/>
        </p:nvPicPr>
        <p:blipFill>
          <a:blip r:embed="rId1"/>
          <a:srcRect l="3218" t="7703" r="1798" b="5770"/>
          <a:stretch/>
        </p:blipFill>
        <p:spPr>
          <a:xfrm>
            <a:off x="2752560" y="4700520"/>
            <a:ext cx="5642280" cy="1819440"/>
          </a:xfrm>
          <a:prstGeom prst="rect">
            <a:avLst/>
          </a:prstGeom>
          <a:ln w="0">
            <a:noFill/>
          </a:ln>
        </p:spPr>
      </p:pic>
      <p:sp>
        <p:nvSpPr>
          <p:cNvPr id="872" name="Rectangle 2"/>
          <p:cNvSpPr/>
          <p:nvPr/>
        </p:nvSpPr>
        <p:spPr>
          <a:xfrm>
            <a:off x="201600" y="5310360"/>
            <a:ext cx="2386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966600" y="1593360"/>
            <a:ext cx="8002440" cy="2311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Izstrādes darb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darba apmaksai, kas ieguldītas projekta ietvaros paredzētā produkta radīšanai (izglītojošie materiāli, mācību programmas, metodes, u.c.), saskaņā ar noteiktajām likmē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4" descr=""/>
          <p:cNvPicPr/>
          <p:nvPr/>
        </p:nvPicPr>
        <p:blipFill>
          <a:blip r:embed="rId1"/>
          <a:stretch/>
        </p:blipFill>
        <p:spPr>
          <a:xfrm>
            <a:off x="2614680" y="3659040"/>
            <a:ext cx="6218280" cy="233064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2"/>
          <p:cNvSpPr/>
          <p:nvPr/>
        </p:nvSpPr>
        <p:spPr>
          <a:xfrm>
            <a:off x="291960" y="4402080"/>
            <a:ext cx="208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apakš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visi ieinteresētie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     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– dāņu, somu, norvēģu, zviedru, sāmu, islandiešu, fēriešu, grenlandiešu valoda, zīmju valoda (ziemeļvalstu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konferences, seminār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ublikācij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214720" y="380880"/>
            <a:ext cx="64720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jektu dalībnieki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ama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vidusskol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zinātniskās institū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nevalstiskās organizā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ivātuzņēmum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+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1 sadarbības partneris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Nordplus programmas finansējums -  līdz 75%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 no aktivitāšu izmaksām, 25% - projekta īstenotāju līdzfinansēju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1855800" y="1279080"/>
            <a:ext cx="6905520" cy="5025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Tiešie izdevu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ceļa un uzturēšanās izdevumi, telpu noma semināriem, materiālu drukāšana semināriem, samaksa vieslektoriem, specifisku darbu izpildītāj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administratīvās izmaksas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līdz 5%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no </a:t>
            </a:r>
            <a:r>
              <a:rPr b="0" i="1" lang="lv-LV" sz="2000" spc="-1" strike="noStrike">
                <a:solidFill>
                  <a:srgbClr val="254061"/>
                </a:solidFill>
                <a:latin typeface="Calibri"/>
              </a:rPr>
              <a:t>Nordplus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 finansējuma projekta koordinēšanas nodrošināšanai (pamatojošie dokumenti nav nepieciešam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Projektā iesaistītajiem darbiniekiem - samaksa par darbu, kas ir ieguldīts projekta izglītības rezultātu/produktu radīšanā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(mācību programma, mācību līdzekļi, mācību metodes ut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2" descr=""/>
          <p:cNvPicPr/>
          <p:nvPr/>
        </p:nvPicPr>
        <p:blipFill>
          <a:blip r:embed="rId1"/>
          <a:stretch/>
        </p:blipFill>
        <p:spPr>
          <a:xfrm>
            <a:off x="1490760" y="1712880"/>
            <a:ext cx="7653240" cy="3576600"/>
          </a:xfrm>
          <a:prstGeom prst="rect">
            <a:avLst/>
          </a:prstGeom>
          <a:ln w="0">
            <a:noFill/>
          </a:ln>
        </p:spPr>
      </p:pic>
      <p:sp>
        <p:nvSpPr>
          <p:cNvPr id="887" name="Rectangle 2"/>
          <p:cNvSpPr/>
          <p:nvPr/>
        </p:nvSpPr>
        <p:spPr>
          <a:xfrm>
            <a:off x="136440" y="2739960"/>
            <a:ext cx="1449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Budžeta sadaļa projekta pieteikuma veidlapā, Espresso sistēma https://espresso.siu.n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782720" y="861840"/>
            <a:ext cx="736128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 – www.nordplusonline.org, projektu piemēri - https://www.nordplusonline.org/projects/project-stories/ 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http://espresso.siu.no/espres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projects/partner-search/#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Twinning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www.etwinning.net/en/pub/index.htm 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choolgateway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login.schoolgateway.com/0/auth/log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138560" y="1417320"/>
            <a:ext cx="454824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es </a:t>
            </a:r>
            <a:r>
              <a:rPr b="0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3" descr=""/>
          <p:cNvPicPr/>
          <p:nvPr/>
        </p:nvPicPr>
        <p:blipFill>
          <a:blip r:embed="rId1"/>
          <a:stretch/>
        </p:blipFill>
        <p:spPr>
          <a:xfrm>
            <a:off x="8568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264960" y="1916280"/>
            <a:ext cx="35038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sagatavošanas vizītes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2012760" y="1252440"/>
            <a:ext cx="6870600" cy="217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Sniedz iespēju </a:t>
            </a:r>
            <a:r>
              <a:rPr b="1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tikties potenciālā projekta partneriem pieteikumu sagatavošanai Jauniešu, Pieaugušo izglītības un Ziemeļvalstu valodu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2" descr=""/>
          <p:cNvPicPr/>
          <p:nvPr/>
        </p:nvPicPr>
        <p:blipFill>
          <a:blip r:embed="rId2"/>
          <a:stretch/>
        </p:blipFill>
        <p:spPr>
          <a:xfrm>
            <a:off x="0" y="4168800"/>
            <a:ext cx="9212400" cy="17571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4" descr=""/>
          <p:cNvPicPr/>
          <p:nvPr/>
        </p:nvPicPr>
        <p:blipFill>
          <a:blip r:embed="rId3"/>
          <a:stretch/>
        </p:blipFill>
        <p:spPr>
          <a:xfrm>
            <a:off x="77760" y="2076480"/>
            <a:ext cx="18813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828440" y="992160"/>
            <a:ext cx="7094520" cy="5160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2.gada Nordplus projektu konkursu plānots izsludināt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1.novembrī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paredzamais projektu iesniegšanas termiņš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022.gada 1.februār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- 2022. gada konkursos projekti tiek aicināti  uzsvērt </a:t>
            </a:r>
            <a:r>
              <a:rPr b="1" lang="lv-LV" sz="22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r>
              <a:rPr b="1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 </a:t>
            </a:r>
            <a:r>
              <a:rPr b="0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(</a:t>
            </a:r>
            <a:r>
              <a:rPr b="0" lang="en-US" sz="2200" spc="-1" strike="noStrike">
                <a:solidFill>
                  <a:srgbClr val="009a00"/>
                </a:solidFill>
                <a:latin typeface="Calibri"/>
                <a:ea typeface="Verdana"/>
              </a:rPr>
              <a:t>“Enhancing Educational Cooperation for a Greener Future” 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Galvenais dokuments projektu sagatavotājiem  - </a:t>
            </a:r>
            <a:r>
              <a:rPr b="1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2022. gada Nordplus rokasgrāmata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tiks publicēta Nordplus oficiālajā mājas lapā pēc  2022. gada konkursa izsludināšan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Nordplus rokasgrāmata (angļu valodā) pieejama: https://www.nordplusonline.org/How-to-apply/HANDBOOK#pdf_fr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344680" y="2371320"/>
            <a:ext cx="6354720" cy="426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no visām 8 programmas dalībvalstīm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g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331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projektu pieteikumi ar kopējo pieprasīto grantu 14, 84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kopumā 8 programmas dalībvalstīs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apstiprinā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56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(77%) ar kopējo piešķirto grantu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8,59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Detalizēta informācija par 2021. gada projektu konkursa rezultātiem pieejama Nordplus programmas oficiālajā portālā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https://www.nordplusonline.org/news/nordplus-overview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5" descr="A picture containing text, indoor, person&#10;&#10;Description automatically generated"/>
          <p:cNvPicPr/>
          <p:nvPr/>
        </p:nvPicPr>
        <p:blipFill>
          <a:blip r:embed="rId2"/>
          <a:stretch/>
        </p:blipFill>
        <p:spPr>
          <a:xfrm>
            <a:off x="190440" y="2446200"/>
            <a:ext cx="23004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FF12439-FDBA-48A2-B8E6-99DB4603DD2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21.gada projektu konkursa  rezultāti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244440" y="1963800"/>
          <a:ext cx="8745480" cy="3740040"/>
        </p:xfrm>
        <a:graphic>
          <a:graphicData uri="http://schemas.openxmlformats.org/drawingml/2006/table">
            <a:tbl>
              <a:tblPr/>
              <a:tblGrid>
                <a:gridCol w="1249560"/>
                <a:gridCol w="1249200"/>
                <a:gridCol w="1249200"/>
                <a:gridCol w="1249560"/>
                <a:gridCol w="1378080"/>
                <a:gridCol w="1120680"/>
                <a:gridCol w="1249200"/>
              </a:tblGrid>
              <a:tr h="13204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 iesnieg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jektu pieteikum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finansē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iesnieg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finansē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 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%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no kopējā finansēto projektu ska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26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514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 (22 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97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 (8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68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10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8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Val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4,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7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6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147 7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itle 1"/>
          <p:cNvSpPr/>
          <p:nvPr/>
        </p:nvSpPr>
        <p:spPr>
          <a:xfrm>
            <a:off x="2292480" y="473040"/>
            <a:ext cx="6242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Verdana"/>
              </a:rPr>
              <a:t>Nordplus programmas atbalstīto projektu skaits un piešķirtais finansējums Latvijas organizācijām 2008. – 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Placeholder 3"/>
          <p:cNvSpPr/>
          <p:nvPr/>
        </p:nvSpPr>
        <p:spPr>
          <a:xfrm flipV="1" rot="10800000">
            <a:off x="0" y="5979960"/>
            <a:ext cx="9144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Kopumā visās Nordplus apakšprogrammās no 2008. līdz 2021. gadam apstiprinā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497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Latvijas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iesniedzēju (koordinatoru) projekti par kopējo summu ~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9 miljoni eiro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Chart 4" descr=""/>
          <p:cNvPicPr/>
          <p:nvPr/>
        </p:nvPicPr>
        <p:blipFill>
          <a:blip r:embed="rId1"/>
          <a:stretch/>
        </p:blipFill>
        <p:spPr>
          <a:xfrm>
            <a:off x="158760" y="1652760"/>
            <a:ext cx="88628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1-09-07T10:35:50Z</dcterms:modified>
  <cp:revision>226</cp:revision>
  <dc:subject/>
  <dc:title>PowerPoint Presentation</dc:title>
</cp:coreProperties>
</file>