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0" y="0"/>
            <a:ext cx="68004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dt" idx="18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 type="ftr" idx="19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 type="sldNum" idx="20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6A52FDA-884E-4ABE-94EB-109D19356470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26D8B4B-5021-41C2-BBF4-8CCA15C154CB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08F2-D5F0-40D6-BB43-66F176D65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DFD4-320B-4421-9970-E05D162E0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B5953F-9F30-43BB-A26E-20280E1CFE1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A907B9-A102-4440-ABAD-B20FD2C9DE2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4C08BE-C572-4576-B999-C7DDA714276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A20C01-EE2C-4830-8E95-8CAEBEE2FF5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223364-ECA8-4B7B-9E96-8894D0A81D5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7BB752-0F8D-4DB4-9A5E-88D4C382821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1B300C-D05D-4654-9279-6E1321DC5CF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D73F8C-05EB-411E-80E2-40A89701325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9B9D48-A354-4FDC-A904-082D828212B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631ED6-910E-4E76-8498-7338D4E98D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E7AD-6DF1-4A2E-843F-795D75A8D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D1E73B-E4E4-4CF0-995F-97A4070A533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14ABE8-3EC6-46F4-87B4-440EA034EED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1C2B05-BF5B-4101-B43C-B0B552C0375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59F05A-E12A-4F21-BD2C-FD24075595E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B6CBA6-775A-4FA7-99EE-787858027E2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6C6585-1829-4534-8D88-2355C610D7E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590463-2A4E-4744-9438-01EC4DD304B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6A7D28-22CE-4DB6-813E-2D2ABC9E1C4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7959F1-2555-4CB3-9E7A-BD7381B4844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A5ADD8-A3DC-4783-BA1C-22265A11F4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B710-84ED-4EA3-A53E-C6C3C2AB7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E905CE-B8D9-47F6-BC3D-F646EB32AB3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6D72D-9B9B-42D5-B9E4-80D00CC253A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960C3-1DD4-4843-AF1C-4776A291CE0E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2E226-794B-4009-98D7-E3DE9265023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0661A-792D-44BD-B2D5-B939DCEF71D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C96A2-4377-4EE3-B14B-EB6D30A4464D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B128C-2E96-4046-A0AB-E30737828F2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EE827-C4D2-4F5C-BE1D-1107D930BAD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32BAE-581C-4D4B-BB9A-9BF52DEACBA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A4340-F8F4-4557-8500-6A6859B857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6C476-C75F-4666-BB32-8F40FD46AEC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7404B-5E3D-434B-B6C3-D1E70353C56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3CDA3-7DF7-47D4-BE24-FB5B10089B2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E96AF3-6FA0-4119-B8D9-FBA5DB513EA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DCB60A3-713A-44E7-A28F-368663F914E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0AC8B4-9367-4E6C-87A0-01C9EDF371E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3627E2-2F45-48FB-A831-11793F01ADE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68827F-551A-42D0-BC0E-41CA0F9D4AA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AB876B-352D-404E-B62F-16399A2C17FF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268C99-3BE2-476E-8424-19A01556EA3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AE0A68-379D-4F8F-8FAC-B40D524D3B0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C8B272-C25A-4707-9B8E-9AC9E58F153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D1A9EF-B5EA-49A8-8D2D-FCAFC478536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E5C027-6D53-4386-BC73-C66C13FD0848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69FA4D-5F4C-417F-B206-58744A930E54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BF5ED9-A77F-4415-A2BC-08684231F597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DF4DDB-EF43-4EF2-9149-8B1AB57BEA2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59E58E-520C-49E3-958D-04616CD5F25C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A41E85-C7FE-4F08-BC9B-A9E47822B14D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6D260B-3BE8-4B0D-A9BD-33664E32BB4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5BFC5E-2E52-4B09-B73A-9713690E5BAE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CCBC3A-617D-4D47-9591-9137F169BB7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491EAC-1CA6-40EA-B20F-E68257790A0E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8F6E04-BD92-444A-8A9E-533F72623C85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3732C6-ED98-4E1B-85B6-BABE7717F90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60D5E3-F7E2-4BA9-9117-46514024971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B3C0B7-691A-484D-98B9-6AF9B705C108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D5E02-1FB8-4ADE-8872-6BFD0F486CC1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29905-4211-4B2F-9133-9670F08F1BE7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81433-610F-4863-9E77-9DF349C16EF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F7163-C56B-4ADA-8AB8-48997670FB77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FEB80-DDEF-4300-A503-42107685CEE3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EF525-D9B8-48CB-A6CA-7213927E8DC8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DE2DE6-AF6E-41D6-9DF5-0D6550275D5D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0373E-977B-4C4B-9A10-B6418842B07C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34EAC-4D12-429B-AD3C-FA96EF7F5E83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FB26BB-08CF-4C1E-8FAB-6E029684C669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6EC74-40B0-4D8B-A460-A27BF65FAE80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3A9A9-0DC1-45B8-BF3E-6180F6CF4860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8D34B5-8C5E-4CD6-B445-6803DDABAC0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9C5F32-95C3-4129-AF2B-43E5D43B5FD9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1C714F-2E10-4B05-AA9D-5C0D80B80069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3BD966-0151-41F7-B4F1-4E87539BD0B5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2A4931-7933-4931-A822-B5C5EBD4ABC0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3014C6-78F1-42A6-BA8E-7C26CFB12DEB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044AC5-C860-4000-86BA-AA09E27C922D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AC731E-88DC-484E-B4D3-9FBBC9516585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682BB22-6A6B-47BC-BB81-113481362F7B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1BD155-0B3B-4DDC-8EE9-C5B8DF0F7612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AE78179-839F-490B-95C4-F7956353536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D777E7-C9FB-492D-88A1-538DF1A0045B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67B287-93F7-417F-A8ED-C0408B22BA72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07FB4C-4087-46A5-8EE1-CD4F4411B82A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CDE71D-3E96-4E82-BFEB-707533963408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E61FDD-9E08-47BC-B107-7471E32BC8CE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A79BB0-8347-4EBF-A016-5FFD8A2C56C5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0DACB6-F5DE-4B38-90BE-E01099623B9F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B65EB0-0428-4F2F-88C9-678138471E7D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3ECFC2-E1EA-4819-8279-B2E1FBFA50F8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2B153D-EAA8-44FE-BC90-9E56D5CC3FD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9FA2A8-54D2-450F-B806-ED7BB4F74691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82D459-E0F0-4D36-A76D-600DEBEB3076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2652D4-6444-42B9-B8BF-DA8662702E08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431F-57DE-45D3-BFE5-EDA285AC0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8254FF-FBA6-439A-867F-229A388F9CB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0098D8-0417-420F-9B6C-98E63B844CB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5915A4-DCED-43F8-B3F7-AF9F28E614F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63391F-BBDE-40B8-8B96-4C8ED74714B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807157-AC15-4247-ADF0-03927D3D4B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8CE0-C6FD-47D1-8E63-33FED09C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A2D338-D99F-4391-9475-00DE3BA34A4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8544AC-FFA1-4E49-89C3-08E53545A1C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21B56F-DAD1-499A-BF84-97887029578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D45809-F9E5-4E50-B3F8-05766DDAA72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500795-DC2D-448C-A834-2B2923D564A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CAF779-3695-4FE4-8686-2A0BDB1EB3D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A1207C-583D-423C-B004-188273E7984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A7502A-C15D-4F48-A76D-AF0D9A39066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8AC56E-7D2B-406A-B7CC-DE13551A1E3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6F8DBF-16EA-4166-ABF4-07D76644E2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FF7D-9A88-49B3-9636-080FAF41D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445161-71D7-47C2-9DB5-B0F51C7A650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883580-A638-4228-964A-80163E778C2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573DC0-EF39-4087-B8F9-BCDDCF85529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DB545B-0E31-4B9C-B473-B9AD1513489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A0C65A-F8A0-45BD-8FF7-E3472A8AA6A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796441-44CA-401E-A42D-C1FC744004B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F96666-C5FC-48CD-B21D-79FE65E5596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9CA1AC-1411-4D52-BBF7-6FC93B93E02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8EA86A-6288-401B-BD82-3E92F25B231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812A7-DF67-45C0-96EF-51AEC67E44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E8DD-0AEF-4EE1-926C-87F7F82EB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94092-4715-4952-92B3-D79F86A28DC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AF44D-C060-46CD-B515-DE97B1979D8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6FF6A-4C0C-4BEE-8726-C2D48148F0E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4DCD5-1C8C-4388-B34A-05791BA6713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0C79F-6F1C-49C0-BB9C-0D9E8354DD2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AF715-1F18-4078-9AD2-14538672501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2DCF5-0633-468F-A932-C3B7A380019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FAF09-4C10-4ABC-B967-F9EEAE96A59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E83CE-ABCD-4557-A185-7360AA934E4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11592-93A0-4B99-9E37-0CA2AD4EB6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C75D-12BD-4B08-8ED8-4D2ED3E55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42662-2972-46A6-97C9-67990C2EAC7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C74B38-1086-4F8E-8844-CED06C97437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BAC95C-82E7-43C2-83A8-13F0735A92F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552128-2D0D-4F19-B5ED-F2B60B5609E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06D042-6DE8-457F-971E-80091B6514A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FFD136-0DE4-496C-8EBC-307C76B7C2B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780056-DC72-49F3-BB0F-06F7D272F80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B6139D-B1BA-4D2C-B236-00AF3185BD3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3F3B12-053C-4481-92BB-6F5FD15CD46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E56D47-52E8-4648-83A0-F746D6A286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C9B1-11ED-4076-A6EE-40CA0921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4847EA-DA98-497C-A94D-68F439E46CB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DA41B7-F2CF-4BB6-B706-4576D4120A5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222133-BE73-47AB-8835-8283B3686F6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B9CA22-0EAF-4EEB-BE0B-F3264A6258F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72B391-1A64-4F0B-BA9C-8AB6FC93F4D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093B5E-E032-4089-97AA-4D22D7B1CCE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ACEAE5-1293-4C71-8C71-190FE1BBEAF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F7E656-53F0-4DB6-A42C-3B17F0BDE6B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F62AF7-E4F1-4AE0-AFD5-DA5F4353A8D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455111-7D9C-4C92-8186-CFC03F9729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54ED-3E65-4C36-A5CE-FF3FF351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C6E325-20F8-4E4D-A830-1494E22365B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122C43-D0BB-4C53-942B-6225C572BC0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ED5751-0DF4-486F-9B6E-AE6E39D155A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04AAEA-4BEA-4BEA-B1AE-9E2C536085C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7EF30C-91B2-4909-B404-711F7893CF7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A7893-8709-4219-B6AD-8578A3CEC54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8A11A-F3E4-474B-A316-066EE7A7A5F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82306-6BD8-4D8A-99E2-B9E5F9B1617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AACAB-9E9D-4605-BFBC-3BB65B5F605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56471-FBB4-47FE-8660-9CCFE481C7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AD39-6B9D-4305-BE2B-C92C23AB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FB592-9967-41E2-AFC1-F8B5E6B430B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A152B-4D11-4C0D-8D8D-FCF9CDAA431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57241-E04B-4135-97A7-4DADE98150B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37799-99D5-4BF9-A035-5D590258332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4EC6B-5A12-419E-9097-FB27A06A4B9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448F1-823A-4EAF-A924-79C5E484F0B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9E705-419D-47D6-852F-C14EA29AA96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95B35B-3FD5-4F3F-97EA-79B2467B29C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2FA6C3-267B-4003-BA8C-D84E595B2D8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F0F0DD-8D8F-4221-ACE7-5CC5424C41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689EFA7-DA02-4B49-98D2-DD497E4493F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A04AED8-5783-4B89-80DA-E444C32F5A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11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072CD85-1DFA-43BB-8320-CEB7E9386DF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12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7A5FC3F-3A78-4EEC-841E-AFC512D945C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sldNum" idx="13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C23B4E4-1561-465B-B2AA-05C4401AC85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sldNum" idx="1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4B4CC7F-F034-478F-9159-13AB993E9AB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sldNum" idx="1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852DCEF-7F61-4764-BB83-234161D9545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A458886-6ADE-46EB-A53E-B0D8DF30D7A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sldNum" idx="1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90E5D26-5EBA-41F2-ACD7-AA50308AFC5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2563920" y="6629400"/>
            <a:ext cx="6586560" cy="246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"/>
          <p:cNvPicPr/>
          <p:nvPr/>
        </p:nvPicPr>
        <p:blipFill>
          <a:blip r:embed="rId4"/>
          <a:stretch/>
        </p:blipFill>
        <p:spPr>
          <a:xfrm>
            <a:off x="419040" y="6141960"/>
            <a:ext cx="1714680" cy="487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1A08BE6-C945-4F1B-91ED-3908525E95A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05127F2-418E-4824-BD64-F863EF86B0C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3478F9F-AB86-4853-9DC1-BBF8BA34765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61EF258-BAE0-4E25-BF83-5F4276F7813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17A24DA-5959-40DA-9C1B-4023AD87416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97BF6BE-D2E3-468D-9CD7-12F5B4A4176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860E118-9212-4115-B7A7-F0D81B6CA00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mailto:linards.deidulis@viaa.gov.lv" TargetMode="External"/><Relationship Id="rId2" Type="http://schemas.openxmlformats.org/officeDocument/2006/relationships/hyperlink" Target="file:///linards.deidulis" TargetMode="External"/><Relationship Id="rId3" Type="http://schemas.openxmlformats.org/officeDocument/2006/relationships/hyperlink" Target="mailto:frank.krohn@hkdir.no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s://diku.no/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espresso.diku.no/espresso/login?1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espresso.diku.no/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2141640" y="991800"/>
            <a:ext cx="6316560" cy="1260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Projektu pieteikumu aizpildīšanas seminārs </a:t>
            </a:r>
            <a:br>
              <a:rPr sz="2800"/>
            </a:b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Sagatavošanas vizītēm </a:t>
            </a:r>
            <a:br>
              <a:rPr sz="26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865160" y="2887560"/>
            <a:ext cx="6818400" cy="1201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0b7d91"/>
                </a:solidFill>
                <a:latin typeface="Calibri"/>
                <a:ea typeface="Verdana"/>
              </a:rPr>
              <a:t>Vizīšu pieteikumu sagatavošana un iesniegšana Espresso sistēmā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2238480" y="3833280"/>
            <a:ext cx="5829120" cy="668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2021.gada 7. septembrī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42" name="Text Placeholder 3"/>
          <p:cNvSpPr/>
          <p:nvPr/>
        </p:nvSpPr>
        <p:spPr>
          <a:xfrm flipV="1" rot="10800000">
            <a:off x="3795840" y="5178600"/>
            <a:ext cx="486864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VIAA Izglītības atbalsta un starptautiskās sadarbības departamenta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Starptautisko sadarbības programmu nodaļas vec. proj.vad.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Linards Deidul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5" name="Picture 6" descr=""/>
          <p:cNvPicPr/>
          <p:nvPr/>
        </p:nvPicPr>
        <p:blipFill>
          <a:blip r:embed="rId1"/>
          <a:stretch/>
        </p:blipFill>
        <p:spPr>
          <a:xfrm>
            <a:off x="3510000" y="-204840"/>
            <a:ext cx="5359320" cy="394488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7" descr=""/>
          <p:cNvPicPr/>
          <p:nvPr/>
        </p:nvPicPr>
        <p:blipFill>
          <a:blip r:embed="rId2"/>
          <a:stretch/>
        </p:blipFill>
        <p:spPr>
          <a:xfrm>
            <a:off x="3117960" y="3201840"/>
            <a:ext cx="4883040" cy="3700440"/>
          </a:xfrm>
          <a:prstGeom prst="rect">
            <a:avLst/>
          </a:prstGeom>
          <a:ln w="0">
            <a:noFill/>
          </a:ln>
        </p:spPr>
      </p:pic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0" y="1943280"/>
            <a:ext cx="3268800" cy="3479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264960" indent="-17280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Noteikti jāpārliecinās, vai partneru organizācija jau iepriekš nav reģistrēta Espresso sistēmā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Angļu valodā jāizmanto tāds partneru organizācijas nosaukums, kādu organizācija lieto pati. 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8" name="Straight Arrow Connector 9"/>
          <p:cNvCxnSpPr/>
          <p:nvPr/>
        </p:nvCxnSpPr>
        <p:spPr>
          <a:xfrm flipV="1">
            <a:off x="2850840" y="1166400"/>
            <a:ext cx="4537800" cy="76896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79" name="Straight Arrow Connector 11"/>
          <p:cNvCxnSpPr/>
          <p:nvPr/>
        </p:nvCxnSpPr>
        <p:spPr>
          <a:xfrm flipV="1">
            <a:off x="3003120" y="1463040"/>
            <a:ext cx="3590280" cy="6246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sp>
        <p:nvSpPr>
          <p:cNvPr id="780" name="Left Arrow 13"/>
          <p:cNvSpPr/>
          <p:nvPr/>
        </p:nvSpPr>
        <p:spPr>
          <a:xfrm rot="16200000">
            <a:off x="5309280" y="2648160"/>
            <a:ext cx="2614680" cy="355680"/>
          </a:xfrm>
          <a:prstGeom prst="leftArrow">
            <a:avLst>
              <a:gd name="adj1" fmla="val 50000"/>
              <a:gd name="adj2" fmla="val 5448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Picture 1" descr=""/>
          <p:cNvPicPr/>
          <p:nvPr/>
        </p:nvPicPr>
        <p:blipFill>
          <a:blip r:embed="rId1"/>
          <a:stretch/>
        </p:blipFill>
        <p:spPr>
          <a:xfrm>
            <a:off x="2930400" y="-1476360"/>
            <a:ext cx="5819760" cy="8238960"/>
          </a:xfrm>
          <a:prstGeom prst="rect">
            <a:avLst/>
          </a:prstGeom>
          <a:ln w="0">
            <a:noFill/>
          </a:ln>
        </p:spPr>
      </p:pic>
      <p:sp>
        <p:nvSpPr>
          <p:cNvPr id="782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E739D79-1515-4C5D-9BC8-879B2B4891E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itle 1"/>
          <p:cNvSpPr/>
          <p:nvPr/>
        </p:nvSpPr>
        <p:spPr>
          <a:xfrm>
            <a:off x="0" y="1943280"/>
            <a:ext cx="2232000" cy="36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Īsi jāapraksta projekta iecer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un sagatavošanās vizītes noris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Aprakstiem jābūt koncentrētiem -  un vienlaikus tiem jāsniedz skaidrs priekšstats gan par projekta ieceri, gan sagatavošanās vizītes darba kārtību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4" name="Straight Arrow Connector 9"/>
          <p:cNvCxnSpPr/>
          <p:nvPr/>
        </p:nvCxnSpPr>
        <p:spPr>
          <a:xfrm flipV="1">
            <a:off x="1714320" y="2153880"/>
            <a:ext cx="3005640" cy="67392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85" name="Straight Arrow Connector 12"/>
          <p:cNvCxnSpPr/>
          <p:nvPr/>
        </p:nvCxnSpPr>
        <p:spPr>
          <a:xfrm>
            <a:off x="1866600" y="2979360"/>
            <a:ext cx="3182040" cy="12358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Picture 1" descr=""/>
          <p:cNvPicPr/>
          <p:nvPr/>
        </p:nvPicPr>
        <p:blipFill>
          <a:blip r:embed="rId1"/>
          <a:stretch/>
        </p:blipFill>
        <p:spPr>
          <a:xfrm>
            <a:off x="3286080" y="0"/>
            <a:ext cx="5857920" cy="6257880"/>
          </a:xfrm>
          <a:prstGeom prst="rect">
            <a:avLst/>
          </a:prstGeom>
          <a:ln w="0">
            <a:noFill/>
          </a:ln>
        </p:spPr>
      </p:pic>
      <p:sp>
        <p:nvSpPr>
          <p:cNvPr id="787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53EB125-3289-4479-874F-EF11B48D0A4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8" name="Straight Arrow Connector 9"/>
          <p:cNvCxnSpPr/>
          <p:nvPr/>
        </p:nvCxnSpPr>
        <p:spPr>
          <a:xfrm flipH="1">
            <a:off x="7325640" y="3835080"/>
            <a:ext cx="762840" cy="927720"/>
          </a:xfrm>
          <a:prstGeom prst="straightConnector1">
            <a:avLst/>
          </a:prstGeom>
          <a:ln w="38160">
            <a:solidFill>
              <a:srgbClr val="c0504d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89" name="Title 1"/>
          <p:cNvSpPr/>
          <p:nvPr/>
        </p:nvSpPr>
        <p:spPr>
          <a:xfrm>
            <a:off x="0" y="1943280"/>
            <a:ext cx="308628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Jāieraksta dati – apmeklējamā valsts,  braucēju skaits (maks.2 personas)  un brauciena ilgums (maks. 5 dienas, ieskaitot ceļ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0" name="Picture 2" descr=""/>
          <p:cNvPicPr/>
          <p:nvPr/>
        </p:nvPicPr>
        <p:blipFill>
          <a:blip r:embed="rId2"/>
          <a:stretch/>
        </p:blipFill>
        <p:spPr>
          <a:xfrm>
            <a:off x="4572000" y="4762440"/>
            <a:ext cx="383220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68DA7E0-9CB2-4209-92E6-ED64F93E690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itle 1"/>
          <p:cNvSpPr/>
          <p:nvPr/>
        </p:nvSpPr>
        <p:spPr>
          <a:xfrm>
            <a:off x="0" y="1943280"/>
            <a:ext cx="22320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Pieprasīto budžetu sistēma aprēķina automātiski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3" name="Picture 1" descr=""/>
          <p:cNvPicPr/>
          <p:nvPr/>
        </p:nvPicPr>
        <p:blipFill>
          <a:blip r:embed="rId1"/>
          <a:stretch/>
        </p:blipFill>
        <p:spPr>
          <a:xfrm>
            <a:off x="2752560" y="216000"/>
            <a:ext cx="5781960" cy="5972040"/>
          </a:xfrm>
          <a:prstGeom prst="rect">
            <a:avLst/>
          </a:prstGeom>
          <a:ln w="0">
            <a:noFill/>
          </a:ln>
        </p:spPr>
      </p:pic>
      <p:sp>
        <p:nvSpPr>
          <p:cNvPr id="794" name="Title 1"/>
          <p:cNvSpPr/>
          <p:nvPr/>
        </p:nvSpPr>
        <p:spPr>
          <a:xfrm>
            <a:off x="100080" y="4184640"/>
            <a:ext cx="223200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Obligāti jāpievieno partnera apliecinājuma vēstul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5" name="Straight Arrow Connector 6"/>
          <p:cNvCxnSpPr/>
          <p:nvPr/>
        </p:nvCxnSpPr>
        <p:spPr>
          <a:xfrm>
            <a:off x="2371320" y="4913280"/>
            <a:ext cx="2366280" cy="7200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061A4D5-66EA-49D7-82DB-23122817214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Title 1"/>
          <p:cNvSpPr/>
          <p:nvPr/>
        </p:nvSpPr>
        <p:spPr>
          <a:xfrm>
            <a:off x="0" y="1943280"/>
            <a:ext cx="2332080" cy="30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2060"/>
                </a:solidFill>
                <a:latin typeface="Verdana"/>
              </a:rPr>
              <a:t>! Ja sagatavošanas vizītes pieteikums tiks atbalstīts, šie bankas rekvizīti </a:t>
            </a:r>
            <a:r>
              <a:rPr b="1" lang="lv-LV" sz="1700" spc="-1" strike="noStrike">
                <a:solidFill>
                  <a:srgbClr val="002060"/>
                </a:solidFill>
                <a:latin typeface="Verdana"/>
              </a:rPr>
              <a:t>tiks ietverti līgumā </a:t>
            </a:r>
            <a:r>
              <a:rPr b="0" lang="lv-LV" sz="1700" spc="-1" strike="noStrike">
                <a:solidFill>
                  <a:srgbClr val="002060"/>
                </a:solidFill>
                <a:latin typeface="Verdana"/>
              </a:rPr>
              <a:t>un </a:t>
            </a:r>
            <a:r>
              <a:rPr b="1" lang="lv-LV" sz="1700" spc="-1" strike="noStrike">
                <a:solidFill>
                  <a:srgbClr val="002060"/>
                </a:solidFill>
                <a:latin typeface="Verdana"/>
              </a:rPr>
              <a:t>uz norādīto kontu </a:t>
            </a:r>
            <a:r>
              <a:rPr b="0" lang="lv-LV" sz="1700" spc="-1" strike="noStrike">
                <a:solidFill>
                  <a:srgbClr val="002060"/>
                </a:solidFill>
                <a:latin typeface="Verdana"/>
              </a:rPr>
              <a:t>tiks pārskaitīts piešķirtais finansējums.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8" name="Picture 1" descr=""/>
          <p:cNvPicPr/>
          <p:nvPr/>
        </p:nvPicPr>
        <p:blipFill>
          <a:blip r:embed="rId1"/>
          <a:stretch/>
        </p:blipFill>
        <p:spPr>
          <a:xfrm>
            <a:off x="2604960" y="895320"/>
            <a:ext cx="576288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lv-LV" sz="2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800" name="Title 1"/>
          <p:cNvSpPr/>
          <p:nvPr/>
        </p:nvSpPr>
        <p:spPr>
          <a:xfrm>
            <a:off x="0" y="1943280"/>
            <a:ext cx="2476440" cy="42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Iespēja aplūkot/lejuplādēt projekta pieteikum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Verdana"/>
              </a:rPr>
              <a:t>Atgādinājums par   prasībām, kuras neievērojot, pieteikums netiks izskatīts</a:t>
            </a: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(vismaz 2 organizācijas no 2 dažādām valstīm; apliecinājuma vēstules no katras iesaistītās organizācija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1" name="Straight Arrow Connector 8"/>
          <p:cNvCxnSpPr/>
          <p:nvPr/>
        </p:nvCxnSpPr>
        <p:spPr>
          <a:xfrm>
            <a:off x="1714680" y="2827080"/>
            <a:ext cx="762480" cy="4244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802" name="Straight Arrow Connector 11"/>
          <p:cNvCxnSpPr/>
          <p:nvPr/>
        </p:nvCxnSpPr>
        <p:spPr>
          <a:xfrm>
            <a:off x="1956960" y="5151240"/>
            <a:ext cx="762840" cy="10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pic>
        <p:nvPicPr>
          <p:cNvPr id="803" name="Picture 1" descr=""/>
          <p:cNvPicPr/>
          <p:nvPr/>
        </p:nvPicPr>
        <p:blipFill>
          <a:blip r:embed="rId1"/>
          <a:stretch/>
        </p:blipFill>
        <p:spPr>
          <a:xfrm>
            <a:off x="2793960" y="380880"/>
            <a:ext cx="6045120" cy="55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itle 1"/>
          <p:cNvSpPr/>
          <p:nvPr/>
        </p:nvSpPr>
        <p:spPr>
          <a:xfrm>
            <a:off x="0" y="1943280"/>
            <a:ext cx="247644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Pirms iesniegšanas sistēma pārbauda, vai ir aizpildītas visas pieteikuma sadaļas un nepieļauj iesniegt daļēji aizpildītu pieteikum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5" name="Picture 1" descr=""/>
          <p:cNvPicPr/>
          <p:nvPr/>
        </p:nvPicPr>
        <p:blipFill>
          <a:blip r:embed="rId1"/>
          <a:stretch/>
        </p:blipFill>
        <p:spPr>
          <a:xfrm>
            <a:off x="2705040" y="0"/>
            <a:ext cx="5829480" cy="65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 txBox="1"/>
          <p:nvPr/>
        </p:nvSpPr>
        <p:spPr>
          <a:xfrm>
            <a:off x="1587240" y="1049400"/>
            <a:ext cx="7132680" cy="475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60360" indent="-3603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3200" spc="-1" strike="noStrike">
                <a:solidFill>
                  <a:srgbClr val="0b7d91"/>
                </a:solidFill>
                <a:latin typeface="Calibri"/>
                <a:ea typeface="Verdana"/>
              </a:rPr>
              <a:t>Jautājumu gadījumā lūdzu sazinā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 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Nordplus</a:t>
            </a: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 program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tālr. 67830837, 29554403 (GSM, WhatsAp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2000" spc="-1" strike="noStrike" u="sng">
                <a:solidFill>
                  <a:srgbClr val="0000ff"/>
                </a:solidFill>
                <a:uFillTx/>
                <a:latin typeface="Arial"/>
                <a:ea typeface="Verdana"/>
                <a:hlinkClick r:id="rId1"/>
              </a:rPr>
              <a:t>linards.deidulis@viaa.gov.l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Skype: 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Arial"/>
                <a:ea typeface="Verdana"/>
                <a:hlinkClick r:id="rId2"/>
              </a:rPr>
              <a:t>linards.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Espresso sistēmas administrators Norvēģij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Frank Krohn: 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Arial"/>
                <a:ea typeface="Verdana"/>
                <a:hlinkClick r:id="rId3"/>
              </a:rPr>
              <a:t>frank.krohn@hkdir.no</a:t>
            </a: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7" name="Picture 3" descr=""/>
          <p:cNvPicPr/>
          <p:nvPr/>
        </p:nvPicPr>
        <p:blipFill>
          <a:blip r:embed="rId4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Vispārīgā informā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4" name="Content Placeholder 1" descr=""/>
          <p:cNvPicPr/>
          <p:nvPr/>
        </p:nvPicPr>
        <p:blipFill>
          <a:blip r:embed="rId1"/>
          <a:stretch/>
        </p:blipFill>
        <p:spPr>
          <a:xfrm>
            <a:off x="1865160" y="981000"/>
            <a:ext cx="7010640" cy="501192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683320" y="4871880"/>
            <a:ext cx="2752560" cy="112428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2" descr=""/>
          <p:cNvPicPr/>
          <p:nvPr/>
        </p:nvPicPr>
        <p:blipFill>
          <a:blip r:embed="rId4"/>
          <a:stretch/>
        </p:blipFill>
        <p:spPr>
          <a:xfrm>
            <a:off x="5722920" y="3594240"/>
            <a:ext cx="315612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1828800" y="1252440"/>
            <a:ext cx="722304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2500" spc="-1" strike="noStrike" u="sng">
                <a:solidFill>
                  <a:srgbClr val="0000ff"/>
                </a:solidFill>
                <a:uFillTx/>
                <a:latin typeface="Verdana"/>
                <a:ea typeface="Verdana"/>
                <a:hlinkClick r:id="rId1"/>
              </a:rPr>
              <a:t>https://espresso.diku.no/espresso/login?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9" name="Picture 2" descr=""/>
          <p:cNvPicPr/>
          <p:nvPr/>
        </p:nvPicPr>
        <p:blipFill>
          <a:blip r:embed="rId2"/>
          <a:stretch/>
        </p:blipFill>
        <p:spPr>
          <a:xfrm>
            <a:off x="2490840" y="2160720"/>
            <a:ext cx="5838840" cy="3316320"/>
          </a:xfrm>
          <a:prstGeom prst="rect">
            <a:avLst/>
          </a:prstGeom>
          <a:ln w="0">
            <a:noFill/>
          </a:ln>
        </p:spPr>
      </p:pic>
      <p:sp>
        <p:nvSpPr>
          <p:cNvPr id="750" name="Left Arrow 6"/>
          <p:cNvSpPr/>
          <p:nvPr/>
        </p:nvSpPr>
        <p:spPr>
          <a:xfrm rot="1692600">
            <a:off x="7089480" y="4576320"/>
            <a:ext cx="1720800" cy="552600"/>
          </a:xfrm>
          <a:prstGeom prst="leftArrow">
            <a:avLst>
              <a:gd name="adj1" fmla="val 50000"/>
              <a:gd name="adj2" fmla="val 54481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1"/>
              </a:rPr>
              <a:t>https://espresso.diku.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3" name="Picture 1" descr=""/>
          <p:cNvPicPr/>
          <p:nvPr/>
        </p:nvPicPr>
        <p:blipFill>
          <a:blip r:embed="rId2"/>
          <a:stretch/>
        </p:blipFill>
        <p:spPr>
          <a:xfrm>
            <a:off x="2205000" y="1995480"/>
            <a:ext cx="5969160" cy="34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32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6" name="Picture 2" descr=""/>
          <p:cNvPicPr/>
          <p:nvPr/>
        </p:nvPicPr>
        <p:blipFill>
          <a:blip r:embed="rId1"/>
          <a:stretch/>
        </p:blipFill>
        <p:spPr>
          <a:xfrm>
            <a:off x="2540160" y="1066680"/>
            <a:ext cx="6343560" cy="5397480"/>
          </a:xfrm>
          <a:prstGeom prst="rect">
            <a:avLst/>
          </a:prstGeom>
          <a:ln w="0">
            <a:noFill/>
          </a:ln>
        </p:spPr>
      </p:pic>
      <p:sp>
        <p:nvSpPr>
          <p:cNvPr id="757" name="Left Arrow 6"/>
          <p:cNvSpPr/>
          <p:nvPr/>
        </p:nvSpPr>
        <p:spPr>
          <a:xfrm rot="1692600">
            <a:off x="7183080" y="4373280"/>
            <a:ext cx="1720800" cy="552240"/>
          </a:xfrm>
          <a:prstGeom prst="leftArrow">
            <a:avLst>
              <a:gd name="adj1" fmla="val 50000"/>
              <a:gd name="adj2" fmla="val 54516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Kam ir jābūt zināmam  sagatavošanas vizītes pieteikuma iesniegšanas brīdī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2012760" y="1775880"/>
            <a:ext cx="6870600" cy="4316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Kādā apakšprogrammā (</a:t>
            </a:r>
            <a:r>
              <a:rPr b="0" i="1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Junior, Adult, Languages</a:t>
            </a: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) paredzēts iesniegt projekt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Kas būs projekta partneri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Projekta ideja – ko un kāpēc plānots darīt, kādi būs iespējamie rezultāti un ietek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Sagatavošanas vizītes paredzamā darba kārtīb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0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lv-LV" sz="2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pic>
        <p:nvPicPr>
          <p:cNvPr id="763" name="Picture 7" descr=""/>
          <p:cNvPicPr/>
          <p:nvPr/>
        </p:nvPicPr>
        <p:blipFill>
          <a:blip r:embed="rId2"/>
          <a:stretch/>
        </p:blipFill>
        <p:spPr>
          <a:xfrm>
            <a:off x="-755640" y="-44280"/>
            <a:ext cx="10963440" cy="60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66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C274B1E-0F94-4237-81BE-5B07DC6DC64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 type="title"/>
          </p:nvPr>
        </p:nvSpPr>
        <p:spPr>
          <a:xfrm>
            <a:off x="-360" y="1943280"/>
            <a:ext cx="2590920" cy="3141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Iesniegums jāsagatavo un jāiesniedz tiešsaistē,   aizpildot elektronisko pieteikuma veidlapu.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8" name="Picture 1" descr=""/>
          <p:cNvPicPr/>
          <p:nvPr/>
        </p:nvPicPr>
        <p:blipFill>
          <a:blip r:embed="rId1"/>
          <a:stretch/>
        </p:blipFill>
        <p:spPr>
          <a:xfrm>
            <a:off x="2590920" y="0"/>
            <a:ext cx="6018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9" name="Picture 2" descr=""/>
          <p:cNvPicPr/>
          <p:nvPr/>
        </p:nvPicPr>
        <p:blipFill>
          <a:blip r:embed="rId1"/>
          <a:stretch/>
        </p:blipFill>
        <p:spPr>
          <a:xfrm>
            <a:off x="3898800" y="406440"/>
            <a:ext cx="4524480" cy="6340320"/>
          </a:xfrm>
          <a:prstGeom prst="rect">
            <a:avLst/>
          </a:prstGeom>
          <a:ln w="0">
            <a:noFill/>
          </a:ln>
        </p:spPr>
      </p:pic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0" y="1943280"/>
            <a:ext cx="3268800" cy="2768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Nepieciešams ievadīt informāciju par savu un partneru organizāciju Nordplus datubāzē (ja tās vēl nav reģistrētas datu bāzē!)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Abām organizācijām sistēma ģenerē apliecinājuma vēstules, kuras jāparaksta attiecīgo organizāciju/iestāžu paraksttiesīgajām personām, jāieskanē un jāpievieno pieteikumam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EE76569-68F9-4E09-9853-71BD1EF3217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2" name="Straight Arrow Connector 8"/>
          <p:cNvCxnSpPr/>
          <p:nvPr/>
        </p:nvCxnSpPr>
        <p:spPr>
          <a:xfrm flipV="1">
            <a:off x="3098520" y="2082960"/>
            <a:ext cx="1600920" cy="3366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73" name="Straight Arrow Connector 10"/>
          <p:cNvCxnSpPr/>
          <p:nvPr/>
        </p:nvCxnSpPr>
        <p:spPr>
          <a:xfrm flipV="1">
            <a:off x="3098520" y="2082600"/>
            <a:ext cx="3005640" cy="6732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74" name="Straight Arrow Connector 12"/>
          <p:cNvCxnSpPr/>
          <p:nvPr/>
        </p:nvCxnSpPr>
        <p:spPr>
          <a:xfrm flipV="1">
            <a:off x="2819160" y="2082240"/>
            <a:ext cx="4966200" cy="16038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Linards Deidulis</cp:lastModifiedBy>
  <cp:lastPrinted>2019-09-03T09:59:12Z</cp:lastPrinted>
  <dcterms:modified xsi:type="dcterms:W3CDTF">2021-09-07T10:03:46Z</dcterms:modified>
  <cp:revision>147</cp:revision>
  <dc:subject/>
  <dc:title>PowerPoint Presentation</dc:title>
</cp:coreProperties>
</file>