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153071-8F03-4467-993F-1B140240820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7FBD65-01AD-43C1-A73C-CF14DE298DD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CDB-D4AF-4FC0-AE94-F1AF1D76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7C1-837E-4824-8693-560F9D91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697955-C2AC-449E-8164-730D6A32524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C146AD-3A5C-43B9-8C25-5A047719C7A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4B395E-592A-4989-89E2-041FE03F71D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187BC9-A2C2-48F7-9C6A-7AE678E54FC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69BC97-711B-43A7-BAAB-8A60933901D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B83242-6B62-4E52-B859-65D9C56A4D2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0E3EE2-B021-4190-8D02-72CAFDF39DA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1A6F8B-CB87-4A4E-B0FE-C960F04AAED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87546F-E16D-45F0-BEF4-F8ED833E961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7B38BC-971F-4036-A3EF-A03E16816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172-2AE4-4E96-9495-40CCE754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A6599-69B2-49CF-9C39-5EEDBC2C36C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D2A2E8-4FFD-4A27-96F4-264B59BFE25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A554B-0962-4023-B6D9-70342494919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BD1974-7648-4302-A008-BE851581DCE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907AB-AAB1-4A65-BCE6-B0E21527834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CF645A-4949-4B1A-8978-30A6174F63B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A7FD1-22DF-47F3-A171-3916CA06318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1371F3-FCB4-4E09-862F-CCA6811FBAB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40218D-B521-452B-B4D4-1E02B5C18E9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482EE1-B4A3-41FA-B68F-CBCB68E04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905-6481-44A9-8866-D46BCBF5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1AB027-6B6C-4E89-9153-E4406883E08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7A87B-8EF8-4D98-AF1B-58FC3CE1381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82A30-F8CB-4DDA-9368-8B1475D1613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1500A-6C64-4BEA-A6A5-34946CE304D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9A8C8-D894-47DB-ABE7-B7F5DBD3A5C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40D27-3EF1-4F07-8F2D-48E33E89202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BDB88-3CCB-4CF8-B8AA-0B62361CB7C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3795D-0173-464A-8C38-00AC09A0395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6DD1B-A8A9-4BA1-BC43-E098581D049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72027-2A79-40EE-AC5D-914D5D165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BF6A0-C384-4E85-9831-421B917DF56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03186-0ED7-4E72-924E-BB28D4BFDAB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2687D-447F-4841-82BB-C352B6353CF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4A2409-97B4-4907-A4FA-41ADB6BC3CD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8EE84B-374E-4046-B051-F12C61A35A6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D6AE5D-530E-46E0-B9A2-2E30F46C9A4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DB8355-C33D-4901-ACF4-D444390892B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A2C067-45C4-419A-9EF3-1324B1BE329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87AFF6-5F46-45C6-AFE7-DA0AB6DBFF9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72086F-A0B3-4D29-BC49-4EAC5FAC2C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E482FC-1BD0-46F8-AE88-7EC37A058BC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1E339D-2090-4ED8-A315-B4BF9982799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D428B0-3368-4166-9458-A97DBCD6C5A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1D46B0-3EA4-4AB0-A5B1-65D1F48A23B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61681E-8F80-44CA-9047-55A0C1303CC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0F5A7E-5AFA-4394-A73D-7563CE4C272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533CC-A35E-4379-AC21-CD2358809DB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7AFFE-306A-43E0-AFD8-ADA3F4E5E14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128D1-BCEF-409C-AB2D-6D37C9E34B0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D3EE9-8834-42E4-8BEA-F654947B3E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EA234-EE87-47F5-AC0B-78A921AC979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CF8FE-4ABA-458E-8CDA-A80DA784DB6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D8467-6D0E-4376-AECB-F1CD8FF8EAF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AA13A-0F6F-4177-8E96-AE32299D2E4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CC7555-B740-4AB9-8253-4FCE5D89655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3AC20-D0F0-43C2-83F9-1B38970AE4E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75058-887C-4F2B-9141-F604404318F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5CEE5-BC1A-4542-83DD-9EED517D04D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99309-19DA-4C70-9CEA-F71A81227B9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5074F-7FDA-4060-BFAE-BA4A434C03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26635-F74C-4120-8297-3AFF416F576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C0830-BD79-4673-9BFB-A5858DC38D6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AB958-4FBC-4A42-8C08-EB843AD7696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C8B5B-DAC5-4C05-81F6-2516F3DB532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A94AE-4267-45DD-93B2-8C82EE81894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E0778-D2E7-43A7-B6CD-8D238746680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BE34A-660D-474C-A229-FF9374201DE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087AA-1640-4872-A28C-3B5E690B222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E1E7E-BD18-4FBD-8C82-991D7B37AAA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F1186C-70C0-4F17-A261-FA63730154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97FF32-F143-497C-B83E-6D51E8AA09A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80816C-4B7F-4311-BFF8-E3FED77B8EF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0E4C63-99C0-4256-A996-0D2702CE7E4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385983-11E4-4199-B6DE-ACE004C8BB7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CDA3D5-5F1B-44E9-90EF-E9DE4E7A304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25CD93-43DC-43DE-9DD4-2E1CCCE5898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DBEF4F-3183-4D73-B670-5F14647AE7A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236644-DD8C-4319-BCFF-65FE7943934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64D0C9-6533-4BC1-8508-469ADE1F181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484BC9-BC69-4F64-A819-9B798A7AB7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D3E36C-7568-4847-89FF-12F2483ED2B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A3D9E-A569-4FEC-89B2-1F66E408A1E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DEECB4-02A4-4D78-8E9B-3DEBB9AC8E7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2FC25-BBED-43CA-BFFB-F58AB6848F2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636401-D4BD-4B75-8A27-BA14B657D54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0EF98-265B-45ED-BC4C-C902D0F5BA4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353E6-9B8D-4339-AB47-CD1250971F0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4F240-A711-4354-8BFD-0BFE52176BE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913AE-090A-481A-80E1-761BA9BA682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342248-D764-4AD6-B2CA-3462C9A7F1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3F21D-0053-400E-9E22-E3517A4D366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A58DA-C992-4646-B8D5-F4D9ACA81AA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CB4F5-6177-4B82-8897-BACD2C9851A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923-D031-4DB0-BF94-317F96D9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D860F-5787-4D6A-A00E-7642A74D68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DE865-B48A-49D0-B08D-8156550CB5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4F5DC-3A1A-4C07-875F-2A80223CDE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BBF33-976B-4645-990D-15520EF501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ECAE9-736B-4D65-91C9-CA13B39933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7B1-9E93-4B86-A457-D1E56A83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D3755-79A9-4741-8488-4CCF794B9F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7BD99-1400-4873-B9CE-D3DADC1467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AD89D-9CF2-4294-811C-F7882FB7C1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2BF51-4C4C-4547-886F-54B9753D99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A81CE-8330-457E-8B1F-194A32A38E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8AA2D-AE22-44E6-9A5E-21547987BA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E7DC8-3802-4EFC-964D-4C5E781716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5E062-5370-4ED8-8D5D-9CC069175D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C8AB7-B370-44A2-AB8D-E4E008E698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D360B-8AC9-415F-A537-825D6E87E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667-F22E-446E-9D14-9078BCFA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FA146-B55E-4E5F-B6E8-F34997DBD3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D23A6-9199-4866-A670-E7B91CD5FF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8E699-8DC9-4D6E-9BAA-5AD40C0315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0023E-2967-40B5-9F97-3C2D452319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A6C35-53F9-4A41-B892-AB28C1D804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64544-CBA8-43DC-A2B9-A4FA68761C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5A4A8-09B3-48EE-87EB-FD70A64D84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E238A-C418-45C6-89BF-5DA8086BC5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7A36D-0473-4F4C-BE3F-0E43E6A5E61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A34C-9C3F-4636-9A74-C7B9E10FC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98D-CB76-4E1B-847C-202C3D6E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9374-42EB-4E46-982C-B2551254A79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C0EC-5AD6-4C07-BFC5-65569C6B9B2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4448-C000-406D-A930-1307A9A4339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8300-4D46-4647-A96F-6082DD66F65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63A1-C9B8-4AD4-B7D9-329155AFDF8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3541-A82B-41CC-9A97-DD06553DB0E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3A8D-2F5D-4DC3-AB45-CD46B028778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DC67-9D59-418A-AA09-34B287AEE96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BEEC-F83B-471D-9346-090EA68A309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BA28-A987-43C7-AFFF-0B8B98978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B59-B384-4E74-8E2D-1F7A0D06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C204-19C9-48F2-A3D7-D27BD3EC84A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157894-D763-48A7-8B6C-5C98881E949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B182F9-ADBE-4487-B64F-A826033B46A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CE36C2-C9F3-41CE-9D29-6538388336C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72589E-66EC-43F9-8182-E16F3AD1B8B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FC5673-E427-4B51-A3C4-B209AE55BF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E2F07B-15EA-410C-9058-5CF82517B19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E70083-8FBE-458F-BF9D-AC8F4E1A903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2C6329-A16D-432C-8B16-2B92319B430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1B71F9-D65C-4E0E-A6AD-7F6D03518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EEB5-73D6-4097-B393-498607DF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B9C3B7-AE15-4755-A345-F166B7B667F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120BEF-2ABD-4D19-B8D4-D611F1E9BF8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839480-86CD-47D0-A33C-0134571D079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4427F-943F-4EC8-8299-9435A1C1DF6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71E0E-1BC1-440A-AB49-3408B8C1D09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E375F-5E9A-4D5A-ABBA-5ED78F2E54B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F9D95-A820-412F-866E-D0E0FF5EC22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E7706-4087-48C7-8A6B-54411B0CDFF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20912-0640-4DFD-B185-42A40F96306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F2F43-F13A-4DE3-A9D6-033D0D07E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EE2-E284-42C3-B966-BA566DEA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5A372-FCAA-4F39-9782-BBDCFE3F6BD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1F3A9-F42F-477A-8219-FF0605BB3E3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A3C92-59AF-45C1-9462-9BD841539EA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FBDA6-6E28-432A-9AC2-68362FCCFC5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9CDE0-83A4-4BB5-9982-8B36A195191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42F57-B060-4F35-BF68-6CBFCB34695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9DCA2-8AE4-43AF-9584-1646DD1B5A1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32BD-D296-4C0F-BAE9-B57405370FF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BE8CB-3A7F-487F-B8DA-797C1EDBABD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1C9A6-7879-470E-8383-D6BA804B2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561-252E-4B43-8D6B-7BAE3565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0A6F2-C785-4F6F-B463-21151E62087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FDE0-1DA3-4E16-8131-0814E4599D0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9B3BB-19A4-4475-91F2-73827FD971C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11801-3555-4E1D-A288-0DBA491541F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1C89A-B693-4E5A-B34F-4C896195637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D4328-E74C-485E-825B-A4ABB3DD97B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008CF-AEE5-477F-88E7-C426C76333C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CB9DF8-0671-4C85-BD22-166AB2AFE76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5EA1A-0822-4E04-AAB1-FCB4D156FFB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928DB3-91E4-41F1-85E4-25D4EB4A5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E3DE10A-86E0-42B4-9927-855D90AAFCC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58333B9-0234-4602-9560-35EB8CD16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1034671-DBAB-4089-95E3-9F77E855C9E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1FB9D33-406B-48F7-9F5A-928EFF23599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B60DCBA-C53C-4E09-8ADC-20E07D1176F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AF17849-2709-46E6-BAAC-5CD39E6DF6D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D15A60-0374-49E0-934F-8302A1893E5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D6C032B-3641-4C6C-A81F-D88F163FEB3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6740FC-31BC-4A84-8472-1CD82B277EF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328EAB-F017-43A1-89AE-963B91D846F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BA33B4E-3897-4F50-9E45-F3616467736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37AC44-A88F-4C6B-8E9D-0903544863D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88E879-6F07-4DC0-8826-90E7215C1AE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3D0C673-4B8D-457B-BC91-16D38743F03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81A819A-D287-4383-A05B-5FE67534076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54BA0C-D5A6-413A-9483-83788AC17B1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hkdir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diku.no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diku.no/espresso/login?1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diku.n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 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86226E5-02B1-419F-8E16-FA6F3A116C9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28A1661-4FE7-47F7-89D3-D4966CB5137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9B2D34A-F9BE-406F-B8E7-DEE16D03B31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D59DD58-788B-4D6E-BE15-F15B4760E6E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hkdir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Content Placeholder 1" descr=""/>
          <p:cNvPicPr/>
          <p:nvPr/>
        </p:nvPicPr>
        <p:blipFill>
          <a:blip r:embed="rId1"/>
          <a:stretch/>
        </p:blipFill>
        <p:spPr>
          <a:xfrm>
            <a:off x="1865160" y="981000"/>
            <a:ext cx="7010640" cy="5011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83320" y="4871880"/>
            <a:ext cx="2752560" cy="11242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" descr=""/>
          <p:cNvPicPr/>
          <p:nvPr/>
        </p:nvPicPr>
        <p:blipFill>
          <a:blip r:embed="rId4"/>
          <a:stretch/>
        </p:blipFill>
        <p:spPr>
          <a:xfrm>
            <a:off x="5722920" y="3594240"/>
            <a:ext cx="31561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2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50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Picture 1" descr=""/>
          <p:cNvPicPr/>
          <p:nvPr/>
        </p:nvPicPr>
        <p:blipFill>
          <a:blip r:embed="rId2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7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763" name="Picture 7" descr=""/>
          <p:cNvPicPr/>
          <p:nvPr/>
        </p:nvPicPr>
        <p:blipFill>
          <a:blip r:embed="rId2"/>
          <a:stretch/>
        </p:blipFill>
        <p:spPr>
          <a:xfrm>
            <a:off x="-755640" y="-44280"/>
            <a:ext cx="1096344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85F10B-4CDC-496F-B91B-9D5583B7DDF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0942C6F-1716-4137-8851-90D961E5A50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1-09-07T10:03:46Z</dcterms:modified>
  <cp:revision>147</cp:revision>
  <dc:subject/>
  <dc:title>PowerPoint Presentation</dc:title>
</cp:coreProperties>
</file>