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10.png" ContentType="image/png"/>
  <Override PartName="/ppt/media/image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42E8FEF-E15F-4D67-AF08-14A51A12867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B2E1082-2B69-4396-BF6B-01B0D313A4F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0BB5E28-694B-4A6D-B192-7BAAE1E4E5A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446-D53E-4CAB-903A-7127278D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2F3C-7723-4449-856D-D276D975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1B657E-4160-4F51-849E-69065AEB27A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7787A8-EE3B-4A20-A2E7-D332FFB527D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9A4737-7F39-4DDF-89B4-493BDE2AF2D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996D9A-CEF4-4CE1-BD79-1F2B61EF63C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806A21-58C4-4DE1-8C4D-620E7B90814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B2458A-02B1-4C0C-9331-317536A513D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757370-DE4C-4D7F-A0CF-33FC0ABE3A5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88C5B4-BB9E-4A16-B76E-2601832CF11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29D6E7-931B-4A21-896C-63615F68DD9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FBF35C-075F-41E5-B0A8-186C894F4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4FE-AB3D-49CA-98D5-9CBF5F32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613488-F185-417A-AA84-80A61AAD336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451080-35B2-49A0-96C4-52AEBE8BF2E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F06AA1-D58D-4A7E-9EBA-0435550E52A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637F53-C032-40B8-BE64-9D5BDCB7999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B11BC6-ADF3-4506-AB76-95E26D28444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A8DBEC-8C7C-4D88-B048-10A65AB9586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7DC9EC-ECBC-4DF9-846A-19DCD9EDBFF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212F74-CAE9-4427-A433-2204D9B97A4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5FD34A-C177-4737-9B48-CEAE7F619E8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D38AE8-B7F6-40F6-8C6A-B3841C819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5A8-7F65-47E6-8760-AF912994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CBC0F6-4A66-4D32-80C2-0E4EBEA5DBE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051DF-5F26-442B-A3AE-B1EF32461EA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29950-A299-4461-A850-6164057BA77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6A625-D8CC-48AC-86A6-6F70CEB7EA7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C6174-2ACA-4763-98A4-7AF5B34EB8E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72E8D-0CDE-4A4D-9CDC-3F10CD949A8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BAC4B-7940-4F45-A851-DC57347D343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4F64C-F42F-4FCB-8D09-359BD118ED3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34577-0BA3-4B9B-9DBA-14AD3D9A1E5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291A9-D91D-4B87-9C0E-5253200DC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D8AE1-5EF0-4E9E-A50C-7E9DA7C2C1E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57D3C-DE07-4870-9211-D07258A100B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F2E16-736D-48C5-8280-3994166EB5D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53A108-CAC4-4DF8-B76E-8AD6D1F1FCB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B1E694-3855-48A1-BD89-74000F0161B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D6D248-192A-4A9E-9EDA-C6F787A1B94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50061F-5371-457F-8ADD-096EB9BC90B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3213FC-96D6-48CD-85F8-E914860C170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488A13-AE5A-44B0-A12A-55EA9A77A0A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234BBD-94BB-4044-8D0D-0B0E03D5EB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709BCF-496E-41EB-8774-C7FEB9413D5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6F6B5C-5DF8-45BD-9752-2CE5E2D5DDC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59E2FE-A3A6-4EC9-8571-D4910907464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158803-45E4-4E34-AA66-683461A97FE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CAB7D1-C457-45C1-A6C5-3E4A2415583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78E2D4-088C-4200-A97A-2D94324F192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C09294-73AE-408F-8150-30A07C6FEBA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699EA1-9020-4BE8-8A7D-846F8D4BCA1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45550D-49CE-41C8-AED8-F94C895B8ED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0A943A-7118-412C-B321-D3661F5B17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FAE2A8-D6E9-4443-9639-2F5CAC6A892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1CDA64-DC49-41D0-B403-75B3DFF59EF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CB9399-16D7-4C69-9D7F-9C3F60D8FEC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50F22C-A9EF-41DE-B969-859D4ADFB45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652EE9-1420-4AD2-8354-1CEB1C1245A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501F3B-7B11-48B8-8EB4-8EEAA9A4D89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CA47C1-C1AB-46C0-ADB4-19261025EE5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7B2CA-51D2-44CA-A112-F95D1BD6D05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3BC86-70CD-4DD3-85AB-FBD7BC0CF3C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50E5C-FF87-48A3-ADCB-F21E084DD8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9F4D9-2592-4109-8F74-BA0A58965ED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EFDA9-2F17-4A83-9446-15A5410F3BB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B13C1-9D30-4651-9C2C-57A7B29EF35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7DF22-6E7B-4AF2-8737-E6DC383F0C4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2B7EE-8676-4879-82D1-B7B5C603749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02E91-1E24-4583-923E-95FA201A251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F48D6-9158-4CB9-BC8E-74085C54943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F215E-97D6-4E48-8C97-AE4079061B2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7FEF4-5A13-46AF-B033-D46014AC2B3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973814-E15F-4CAC-8FF9-136429F893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2C55DF-D97E-404B-A177-10546A19364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E55270-C358-4940-B7FA-BDFD04299BA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DFA810-C3CA-40B7-A25B-6B845285019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C26EB3-9C09-4A21-9E66-0018EAD6845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F254D0-0AC9-49D1-A42E-8EAF6E5AE0D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9ECD17-D169-4821-AF8F-EFF3B338434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63942A-F7F2-4AA0-865F-B1B6DD96EA3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0F122E-744B-4982-B31F-547FB9C431B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84BCD8-AC97-43E3-8A9F-8BC9DEF1854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1EC0AC-3161-40CD-ADF6-58ADA2DC65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AFB8DF-6F61-406A-B4BF-BDD9D84BA28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AD7978-8E59-438B-A975-DDA95CE69CA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C335DA-8189-4EE8-8073-8AF73D098D3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AD2AFF-3D7A-4239-93D2-C27D997663F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38B52C-90B1-4893-B1A1-1AF6DD6F864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635140-3767-4738-916A-2AC5720ACD6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9041A7-B8E2-4C97-9EF2-19A327B5F3B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6D062-1757-4AB6-9012-6F284846B28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669FB-6004-4B00-92EB-E5F68D2F945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E9B4F-7439-43BE-9436-E482822963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954DFB-EAF3-427D-B5B4-2EC4EBA9685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1FA98A-DF00-47C1-A425-71CFDC673BD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51D87-461D-4ECC-9925-6B04B53635C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FE1F-7B49-4331-83CA-615317A9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B6123-1B75-4624-A54B-BC1C1E9A30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9CB41-5CD1-4DCE-9008-B60A532499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61E24-5B3F-4F52-96F0-BCB434F9D8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B3118-36DF-42AF-8D64-8DCCB06FC0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35724-2970-4422-A8DA-957887939D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E047-DC82-4D50-BA25-D4E80FE2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ABF20-D493-431D-9E4A-55F3EFB79A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0DD1F-17FC-4BE7-BFA7-B2307E82AE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82238-A723-4F49-93EF-5A986F173D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86CC3-7111-4266-8CC0-3BFB1E3FE6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BAC4B-4D2A-4C05-8CA6-84DBC7D100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736C3-B636-4F1A-8892-040CBE7D11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53DE8-F0B1-48A9-B231-572408C987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092DF-A2B1-44B5-94D1-325D807376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982C6-6254-4F4A-8980-9F54BBA2AE5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5D636-1D6F-4A9A-9134-C3F53048C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539-8438-495C-BEEB-A5AE5334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618B2-3560-4163-9CB8-3CAF87341F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B9FB0-9C38-4326-9259-72B148703E1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24109-504B-46B5-9E2E-2A7239821E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B0930-A95E-474D-A93B-8FF0ED68FB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0B10A-C88F-4A6C-A573-F2E8889C86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A00F0-F710-4AFD-BB2C-57DA692754C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9C2EA-CBF4-43AE-BDD1-A830F70CE4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A9D81-4A6B-442D-92FD-AC185D2B2D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964DF-4869-442F-9200-D2BB7929691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FB54-7D04-41AB-8306-531BD5465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383-0A26-46F1-AF53-713D099B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05D8-B9B4-4C6A-899F-AEEBBEE8BD5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E72D-13BE-48B2-AEBF-F6D88DC40BC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D15A-BFE7-4889-9A82-62937FCCF0A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550A-6A64-40FE-8A82-F841902ADA2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A125-FC9D-460B-8E4E-E5909AD0CA0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CE44-E759-4D51-B3DD-BE41F7137A3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B164-2FD4-4BA4-A025-38B08A4B0AF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788B-4EED-4286-9BC3-265A079C752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2E88-C60E-44BF-8774-E3809B933F3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EE6B-F6E0-4254-A107-356D3B8EB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F8CB-758A-4C79-8658-A8D92CB9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6D83-399C-4191-8207-A8EE933F2A0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08856E-E771-4639-9794-46F00B791AB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AA9B76-F10B-4737-9466-EAAD63CBA8E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6539F5-2E64-41C0-A6C0-29913698027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EC50D9-4A55-4412-B7E5-5F700132A2C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BB620E-433C-45D6-943D-1C340C76CB5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09FD49-440A-4383-A215-930CDCD8D2D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DF657F-F83F-4C22-8D40-1520CB75470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CB8BF6-C2BC-463A-908D-FC3F4ECF301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4B80A2-64F3-41C4-AB9E-25BEDD6FD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FA5-B2B0-4E5C-8C9E-28361F83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C4A96A-4D75-4C01-9E0C-AB5B3A82D95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E0313C-1857-406C-BC52-75B53D43965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A66E71-D669-4FDC-9718-AA228CF5BD6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61ED8-D939-4D29-924D-6F782451C70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4B681-5FCE-44B0-BF13-E2BEEC7ED43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365C8-E51D-4EDC-B941-1A1918EBE96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817C4C-FFFC-4171-9472-9BEC14C110B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078A6-C597-4AE5-A3A1-DE70C46200C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FBE3D-BB0E-4BAC-9689-0D56F5E527F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0CDFB-9CA8-46FE-B5B5-2303761CC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8EA-E26A-4B7F-8146-A34833F2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99724-DD49-4782-BC36-A869FBF50AC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7D628-C630-4DC2-97BA-00C40C55EFF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BEA82-8F7C-4C04-8133-644C425814B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BB6CE-C72D-4321-9519-45A6236E1E7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DC7B9-6651-4D45-9D30-1BEEE9B8760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1EAC7-442E-406D-B1E0-114DDE6330E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AF815-66FE-4028-B903-962404F58C1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D516B-D5A6-4A94-8C06-695EF1796CB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23BFB-ECE7-4E9C-A982-37CC9728592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12589-5848-442F-858A-E1900264E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1D2-4085-4F87-A42D-6120BDFB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E5397-E42E-4237-A4BB-67F95E05F56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68F0D-9C19-4D05-99E3-5D65CD7D275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2328B-0EF6-459B-B9FB-5148D9EC239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9837E-99BD-455D-A0CE-5FD3A1A6281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A6239-92EB-4FA6-A1D6-81D596E9590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38B3B-D02F-453A-8D5B-0700B96C348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595FA-434D-4F73-A79B-3CF477B8B8E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65AA30-A5D7-4862-951F-2E44A046E61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BCE6AE-544D-4F17-A6D4-504A59BD7AC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E42BEB-40E8-4B94-B57A-D0FCFDC64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E57F010-894F-4D4C-9978-BC09C971DA8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305624D-0AA3-4EEE-85A1-A14278454E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8F843AA-ED7A-4E1D-9804-7109B352762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BFE3898-A686-44E5-A875-F2E6C288114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9A718D0-7931-41A8-943B-0CCBCFF185C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E423ACC-0261-44FC-A56F-FBEA5425C50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C1AACB-45F0-4C46-A70F-A22A4B11F7E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1C59F1A-6E8E-477C-A33A-1198FDDE436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BEEA7FB-2275-4FCB-B97C-7A1C6ED3C32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39E49BA-4ED8-43BD-9EEA-7C472AEE530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FBBD045-B3C0-4D9C-8DE1-97295859726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87A5A10-C86D-46E7-939B-0FB1228EE66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89CE64C-1127-41A3-81EA-B2137D2BE8B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7BF2B65-3EDB-42CD-A508-1097F9323B3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B435F5E-2C5C-438F-8344-F707A178DF0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4DA3BCB-A870-4125-A030-7010CAA05B9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sagatavo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0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šu pieteikumu sagatavošana un iesniegšana Espresso sistē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4300560"/>
            <a:ext cx="5829120" cy="666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4.gada 5. septembr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80EA384-73C3-44E2-8746-EAF61E468D5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b050"/>
                </a:solidFill>
                <a:latin typeface="Verdana"/>
                <a:ea typeface="Verdana"/>
              </a:rPr>
              <a:t>Par studiju vizītēm – jaunu projektu veidu Nordplus Jauniešu apakšprogrammā -  atsevišķs seminārs 06.09.24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Box 10"/>
          <p:cNvSpPr/>
          <p:nvPr/>
        </p:nvSpPr>
        <p:spPr>
          <a:xfrm>
            <a:off x="250920" y="3706920"/>
            <a:ext cx="346536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Calibri"/>
              </a:rPr>
              <a:t>https://www.viaa.gov.lv/lv/jaunums/aicinam-pieteikties-tiessaistes-seminaram-par-nordplus-2024-gada-studiju-vizisu-konkursu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4098960" y="2019240"/>
            <a:ext cx="44355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"/>
          <p:cNvPicPr/>
          <p:nvPr/>
        </p:nvPicPr>
        <p:blipFill>
          <a:blip r:embed="rId1"/>
          <a:stretch/>
        </p:blipFill>
        <p:spPr>
          <a:xfrm>
            <a:off x="3179880" y="1238400"/>
            <a:ext cx="5816520" cy="52387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rdplus datubāzē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pliecinājuma vēstules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, kuras jāparaksta visu projektā iesaisīt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3BD91BD-5090-4C60-BBAA-48206CB2D71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2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3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4" name="Title 1"/>
          <p:cNvSpPr/>
          <p:nvPr/>
        </p:nvSpPr>
        <p:spPr>
          <a:xfrm>
            <a:off x="259092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b7d91"/>
                </a:solidFill>
                <a:latin typeface="Verdana"/>
                <a:ea typeface="Verdana"/>
              </a:rPr>
              <a:t>Projektā iesaistītās organizācijas – koordinators un partne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"/>
          <p:cNvPicPr/>
          <p:nvPr/>
        </p:nvPicPr>
        <p:blipFill>
          <a:blip r:embed="rId1"/>
          <a:stretch/>
        </p:blipFill>
        <p:spPr>
          <a:xfrm>
            <a:off x="4673520" y="3238560"/>
            <a:ext cx="3152880" cy="32036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"/>
          <p:cNvPicPr/>
          <p:nvPr/>
        </p:nvPicPr>
        <p:blipFill>
          <a:blip r:embed="rId2"/>
          <a:stretch/>
        </p:blipFill>
        <p:spPr>
          <a:xfrm>
            <a:off x="3878280" y="-214200"/>
            <a:ext cx="5478480" cy="317160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, ja nav, tad jāpievieno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9" name="Left Arrow 13"/>
          <p:cNvSpPr/>
          <p:nvPr/>
        </p:nvSpPr>
        <p:spPr>
          <a:xfrm rot="16200000">
            <a:off x="5375160" y="2305080"/>
            <a:ext cx="1666800" cy="355320"/>
          </a:xfrm>
          <a:prstGeom prst="leftArrow">
            <a:avLst>
              <a:gd name="adj1" fmla="val 50000"/>
              <a:gd name="adj2" fmla="val 54533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6" descr=""/>
          <p:cNvPicPr/>
          <p:nvPr/>
        </p:nvPicPr>
        <p:blipFill>
          <a:blip r:embed="rId1"/>
          <a:srcRect l="0" t="0" r="4749" b="0"/>
          <a:stretch/>
        </p:blipFill>
        <p:spPr>
          <a:xfrm>
            <a:off x="611280" y="3151080"/>
            <a:ext cx="8172360" cy="253368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59056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Sagatavošanas vizītes apraks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1128600" y="1914480"/>
            <a:ext cx="70423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Rokasgrāmata, 41. lpp (pdf),  sadaļa  «The Application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"/>
          <p:cNvPicPr/>
          <p:nvPr/>
        </p:nvPicPr>
        <p:blipFill>
          <a:blip r:embed="rId1"/>
          <a:srcRect l="0" t="6166" r="0" b="0"/>
          <a:stretch/>
        </p:blipFill>
        <p:spPr>
          <a:xfrm>
            <a:off x="3218040" y="1709640"/>
            <a:ext cx="5759280" cy="4214880"/>
          </a:xfrm>
          <a:prstGeom prst="rect">
            <a:avLst/>
          </a:prstGeom>
          <a:ln w="0">
            <a:noFill/>
          </a:ln>
        </p:spPr>
      </p:pic>
      <p:sp>
        <p:nvSpPr>
          <p:cNvPr id="79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760FF76-5176-4845-A5B0-AA0A3316084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Īsi jāapraksta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paredzamā  projekta iece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Straight Arrow Connector 12"/>
          <p:cNvCxnSpPr/>
          <p:nvPr/>
        </p:nvCxnSpPr>
        <p:spPr>
          <a:xfrm>
            <a:off x="1958760" y="220932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7" descr=""/>
          <p:cNvPicPr/>
          <p:nvPr/>
        </p:nvPicPr>
        <p:blipFill>
          <a:blip r:embed="rId1"/>
          <a:srcRect l="0" t="6263" r="0" b="0"/>
          <a:stretch/>
        </p:blipFill>
        <p:spPr>
          <a:xfrm>
            <a:off x="3405240" y="933480"/>
            <a:ext cx="4903560" cy="4375080"/>
          </a:xfrm>
          <a:prstGeom prst="rect">
            <a:avLst/>
          </a:prstGeom>
          <a:ln w="0">
            <a:noFill/>
          </a:ln>
        </p:spPr>
      </p:pic>
      <p:sp>
        <p:nvSpPr>
          <p:cNvPr id="798" name="Title 1"/>
          <p:cNvSpPr/>
          <p:nvPr/>
        </p:nvSpPr>
        <p:spPr>
          <a:xfrm>
            <a:off x="0" y="1943280"/>
            <a:ext cx="2849400" cy="32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apraksta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i jābalstās uz projekta pieteikuma plānoša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mērķi, uzdevumi, rezultāti, norise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"/>
          <p:cNvPicPr/>
          <p:nvPr/>
        </p:nvPicPr>
        <p:blipFill>
          <a:blip r:embed="rId1"/>
          <a:srcRect l="0" t="8694" r="0" b="0"/>
          <a:stretch/>
        </p:blipFill>
        <p:spPr>
          <a:xfrm>
            <a:off x="3948120" y="549360"/>
            <a:ext cx="4456080" cy="3079800"/>
          </a:xfrm>
          <a:prstGeom prst="rect">
            <a:avLst/>
          </a:prstGeom>
          <a:ln w="0">
            <a:noFill/>
          </a:ln>
        </p:spPr>
      </p:pic>
      <p:sp>
        <p:nvSpPr>
          <p:cNvPr id="80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0890563-9875-439F-AA95-7F5379F80C9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9"/>
          <p:cNvCxnSpPr/>
          <p:nvPr/>
        </p:nvCxnSpPr>
        <p:spPr>
          <a:xfrm flipH="1">
            <a:off x="4258800" y="2095200"/>
            <a:ext cx="16560" cy="22658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2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8" descr=""/>
          <p:cNvPicPr/>
          <p:nvPr/>
        </p:nvPicPr>
        <p:blipFill>
          <a:blip r:embed="rId2"/>
          <a:stretch/>
        </p:blipFill>
        <p:spPr>
          <a:xfrm>
            <a:off x="3208320" y="4361040"/>
            <a:ext cx="3828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"/>
          <p:cNvPicPr/>
          <p:nvPr/>
        </p:nvPicPr>
        <p:blipFill>
          <a:blip r:embed="rId1"/>
          <a:srcRect l="0" t="0" r="0" b="76419"/>
          <a:stretch/>
        </p:blipFill>
        <p:spPr>
          <a:xfrm>
            <a:off x="4597560" y="4807080"/>
            <a:ext cx="3828960" cy="720720"/>
          </a:xfrm>
          <a:prstGeom prst="rect">
            <a:avLst/>
          </a:prstGeom>
          <a:ln w="0">
            <a:noFill/>
          </a:ln>
        </p:spPr>
      </p:pic>
      <p:sp>
        <p:nvSpPr>
          <p:cNvPr id="805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itle 1"/>
          <p:cNvSpPr/>
          <p:nvPr/>
        </p:nvSpPr>
        <p:spPr>
          <a:xfrm>
            <a:off x="100080" y="4184640"/>
            <a:ext cx="344808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u apliecinājuma vēstules (tai skaitā arī no savas organizācijas)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7" name="Straight Arrow Connector 6"/>
          <p:cNvCxnSpPr/>
          <p:nvPr/>
        </p:nvCxnSpPr>
        <p:spPr>
          <a:xfrm>
            <a:off x="2827440" y="4327200"/>
            <a:ext cx="1745280" cy="626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8" name="Picture 2" descr=""/>
          <p:cNvPicPr/>
          <p:nvPr/>
        </p:nvPicPr>
        <p:blipFill>
          <a:blip r:embed="rId2"/>
          <a:srcRect l="0" t="15722" r="0" b="0"/>
          <a:stretch/>
        </p:blipFill>
        <p:spPr>
          <a:xfrm>
            <a:off x="2749680" y="2050920"/>
            <a:ext cx="56768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Straight Arrow Connector 8"/>
          <p:cNvCxnSpPr/>
          <p:nvPr/>
        </p:nvCxnSpPr>
        <p:spPr>
          <a:xfrm>
            <a:off x="1714320" y="2827440"/>
            <a:ext cx="1410120" cy="10166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11" name="Straight Arrow Connector 11"/>
          <p:cNvCxnSpPr/>
          <p:nvPr/>
        </p:nvCxnSpPr>
        <p:spPr>
          <a:xfrm>
            <a:off x="2095200" y="502416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12" name="Picture 2" descr=""/>
          <p:cNvPicPr/>
          <p:nvPr/>
        </p:nvPicPr>
        <p:blipFill>
          <a:blip r:embed="rId1"/>
          <a:srcRect l="0" t="9362" r="0" b="0"/>
          <a:stretch/>
        </p:blipFill>
        <p:spPr>
          <a:xfrm>
            <a:off x="3124080" y="2827440"/>
            <a:ext cx="563904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87E2B53-5663-4E1C-B81B-3BD8A9260A7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itle 1"/>
          <p:cNvSpPr/>
          <p:nvPr/>
        </p:nvSpPr>
        <p:spPr>
          <a:xfrm>
            <a:off x="0" y="1943280"/>
            <a:ext cx="2332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tiks pārskaitīts piešķirtais finansējum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Pie bankas rekvizītiem – «Your reference» ir organizācijas iekšējais identifikators (ja tāds ir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  <p:cxnSp>
        <p:nvCxnSpPr>
          <p:cNvPr id="816" name="Straight Arrow Connector 2"/>
          <p:cNvCxnSpPr/>
          <p:nvPr/>
        </p:nvCxnSpPr>
        <p:spPr>
          <a:xfrm>
            <a:off x="2158560" y="4808160"/>
            <a:ext cx="5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Nordic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itle 1"/>
          <p:cNvSpPr/>
          <p:nvPr/>
        </p:nvSpPr>
        <p:spPr>
          <a:xfrm>
            <a:off x="106200" y="2120760"/>
            <a:ext cx="247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Picture 2" descr=""/>
          <p:cNvPicPr/>
          <p:nvPr/>
        </p:nvPicPr>
        <p:blipFill>
          <a:blip r:embed="rId1"/>
          <a:stretch/>
        </p:blipFill>
        <p:spPr>
          <a:xfrm>
            <a:off x="2789280" y="1290600"/>
            <a:ext cx="60451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VIAA sagatavotajiem materiāliem ir </a:t>
            </a:r>
            <a:r>
              <a:rPr b="1" lang="lv-LV" sz="2000" spc="-1" strike="noStrike" u="sng">
                <a:solidFill>
                  <a:srgbClr val="ff0000"/>
                </a:solidFill>
                <a:uFillTx/>
                <a:latin typeface="Calibri"/>
                <a:ea typeface="Verdana"/>
              </a:rPr>
              <a:t>informatīvs un paskaidrojošs raksturs</a:t>
            </a: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cējiem ir saistoši dokumenti, kas publicēti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www.nordplusonlin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Content Placeholder 1" descr=""/>
          <p:cNvPicPr/>
          <p:nvPr/>
        </p:nvPicPr>
        <p:blipFill>
          <a:blip r:embed="rId1"/>
          <a:stretch/>
        </p:blipFill>
        <p:spPr>
          <a:xfrm>
            <a:off x="2901960" y="1695600"/>
            <a:ext cx="5907240" cy="40719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" descr=""/>
          <p:cNvPicPr/>
          <p:nvPr/>
        </p:nvPicPr>
        <p:blipFill>
          <a:blip r:embed="rId2"/>
          <a:stretch/>
        </p:blipFill>
        <p:spPr>
          <a:xfrm>
            <a:off x="5924520" y="3772080"/>
            <a:ext cx="3156120" cy="957240"/>
          </a:xfrm>
          <a:prstGeom prst="rect">
            <a:avLst/>
          </a:prstGeom>
          <a:ln w="0">
            <a:noFill/>
          </a:ln>
        </p:spPr>
      </p:pic>
      <p:sp>
        <p:nvSpPr>
          <p:cNvPr id="749" name="Title 1"/>
          <p:cNvSpPr/>
          <p:nvPr/>
        </p:nvSpPr>
        <p:spPr>
          <a:xfrm>
            <a:off x="-165240" y="2860560"/>
            <a:ext cx="30164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1828800" y="1252440"/>
            <a:ext cx="722304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diku.no/espresso/login?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rcRect l="0" t="26520" r="0" b="0"/>
          <a:stretch/>
        </p:blipFill>
        <p:spPr>
          <a:xfrm>
            <a:off x="2490840" y="3040200"/>
            <a:ext cx="5838840" cy="2436840"/>
          </a:xfrm>
          <a:prstGeom prst="rect">
            <a:avLst/>
          </a:prstGeom>
          <a:ln w="0">
            <a:noFill/>
          </a:ln>
        </p:spPr>
      </p:pic>
      <p:sp>
        <p:nvSpPr>
          <p:cNvPr id="753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393560"/>
            <a:ext cx="6870600" cy="74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>
                <a:solidFill>
                  <a:srgbClr val="1f4e79"/>
                </a:solidFill>
                <a:latin typeface="Calibri"/>
                <a:ea typeface="Verdana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1" descr=""/>
          <p:cNvPicPr/>
          <p:nvPr/>
        </p:nvPicPr>
        <p:blipFill>
          <a:blip r:embed="rId1"/>
          <a:srcRect l="0" t="24891" r="0" b="0"/>
          <a:stretch/>
        </p:blipFill>
        <p:spPr>
          <a:xfrm>
            <a:off x="4025880" y="4721400"/>
            <a:ext cx="4660920" cy="20412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"/>
          <p:cNvPicPr/>
          <p:nvPr/>
        </p:nvPicPr>
        <p:blipFill>
          <a:blip r:embed="rId2"/>
          <a:stretch/>
        </p:blipFill>
        <p:spPr>
          <a:xfrm>
            <a:off x="2660760" y="2238480"/>
            <a:ext cx="4916520" cy="2036520"/>
          </a:xfrm>
          <a:prstGeom prst="rect">
            <a:avLst/>
          </a:prstGeom>
          <a:ln w="0">
            <a:noFill/>
          </a:ln>
        </p:spPr>
      </p:pic>
      <p:cxnSp>
        <p:nvCxnSpPr>
          <p:cNvPr id="758" name="Straight Arrow Connector 4"/>
          <p:cNvCxnSpPr/>
          <p:nvPr/>
        </p:nvCxnSpPr>
        <p:spPr>
          <a:xfrm>
            <a:off x="5638320" y="3633840"/>
            <a:ext cx="1080" cy="12708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267440"/>
          </a:xfrm>
          <a:prstGeom prst="rect">
            <a:avLst/>
          </a:prstGeom>
          <a:ln w="0">
            <a:noFill/>
          </a:ln>
        </p:spPr>
      </p:pic>
      <p:sp>
        <p:nvSpPr>
          <p:cNvPr id="761" name="Left Arrow 6"/>
          <p:cNvSpPr/>
          <p:nvPr/>
        </p:nvSpPr>
        <p:spPr>
          <a:xfrm rot="8365800">
            <a:off x="2230200" y="5498640"/>
            <a:ext cx="3019320" cy="530280"/>
          </a:xfrm>
          <a:prstGeom prst="leftArrow">
            <a:avLst>
              <a:gd name="adj1" fmla="val 50000"/>
              <a:gd name="adj2" fmla="val 5443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091960" y="415440"/>
            <a:ext cx="6095880" cy="776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zvēlamies apakšprogrammu, kurā iesniegsim sagatavošanas vizītes pieteikum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2" descr=""/>
          <p:cNvPicPr/>
          <p:nvPr/>
        </p:nvPicPr>
        <p:blipFill>
          <a:blip r:embed="rId2"/>
          <a:stretch/>
        </p:blipFill>
        <p:spPr>
          <a:xfrm>
            <a:off x="1541520" y="1824120"/>
            <a:ext cx="719784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5DBF56E-B1F6-4530-A7F6-F3444E9C666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590920" cy="22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2478240" y="426960"/>
            <a:ext cx="6183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F7991DF-4E8D-4143-96F7-7713E2A52A9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801880" cy="14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 – šajā gadījumā 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i («Preparatory visit») 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7" descr="A screenshot of a computer&#10;&#10;Description automatically generated"/>
          <p:cNvPicPr/>
          <p:nvPr/>
        </p:nvPicPr>
        <p:blipFill>
          <a:blip r:embed="rId1"/>
          <a:srcRect l="8189" t="15003" r="56997" b="25478"/>
          <a:stretch/>
        </p:blipFill>
        <p:spPr>
          <a:xfrm>
            <a:off x="3143160" y="228600"/>
            <a:ext cx="5391360" cy="5761080"/>
          </a:xfrm>
          <a:prstGeom prst="rect">
            <a:avLst/>
          </a:prstGeom>
          <a:ln w="0">
            <a:noFill/>
          </a:ln>
        </p:spPr>
      </p:pic>
      <p:cxnSp>
        <p:nvCxnSpPr>
          <p:cNvPr id="771" name="Straight Arrow Connector 9"/>
          <p:cNvCxnSpPr/>
          <p:nvPr/>
        </p:nvCxnSpPr>
        <p:spPr>
          <a:xfrm>
            <a:off x="2090520" y="3230640"/>
            <a:ext cx="1532520" cy="169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72" name="Title 1"/>
          <p:cNvSpPr/>
          <p:nvPr/>
        </p:nvSpPr>
        <p:spPr>
          <a:xfrm>
            <a:off x="54000" y="4772160"/>
            <a:ext cx="20368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Studiju vizīte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r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cits projektu veids (seminārs 06.09.24.)</a:t>
            </a: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Straight Arrow Connector 12"/>
          <p:cNvCxnSpPr/>
          <p:nvPr/>
        </p:nvCxnSpPr>
        <p:spPr>
          <a:xfrm>
            <a:off x="1662120" y="5106600"/>
            <a:ext cx="1961280" cy="83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23-09-06T10:38:28Z</cp:lastPrinted>
  <dcterms:modified xsi:type="dcterms:W3CDTF">2024-09-05T13:12:12Z</dcterms:modified>
  <cp:revision>179</cp:revision>
  <dc:subject/>
  <dc:title>PowerPoint Presentation</dc:title>
</cp:coreProperties>
</file>