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10.png" ContentType="image/png"/>
  <Override PartName="/ppt/media/image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7AF6143-32C2-4401-AD7E-1BA93FBF044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2AF3625-7CC1-4C7C-B51D-A202D4A932E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87DAE95-102D-4005-B805-ADE48F89811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E98-34EE-4D04-90E8-E66EA100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6F9C-3308-4EE9-A33F-9AB4C135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DC1BFD-E2AA-440A-A21A-035E47FB1BE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AA7201-5B3D-4CB1-BE91-580A128BC53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E7DB21-FF5A-4594-975F-0A48279A5CF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7A97A3-5A26-4BC0-908F-83B4FA6D015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A30E67-5D0D-4148-9607-8296817D8A8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343FF3-3900-479F-93C7-434F0C43C50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B0CA6C-1098-44A9-A63D-01B32DD6450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C4BC42-2FF0-4B10-B273-CC059A2123B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0B82C8-2676-43F5-9560-82D30AC3CD8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279FDF-3168-4859-90EE-8DB14BD1C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E763-E8A5-41FA-937B-DF0C3992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F6E78D-EC8C-4903-B01A-BB91C559D16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99AE8-CF0E-4B42-B79B-87A11140932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395299-C255-4F56-84D8-25013FCEE47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0C0162-091E-4B02-BD73-1AAF58038CC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1E5996-14EE-4941-8E51-A208FD32B6E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9B8F3D-3A00-495D-8F59-888974B1EC9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BDBCFE-C411-4491-B12E-AD6F4531196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BD7661-BC03-4B06-9C20-0897B04F81C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E70988-2128-4638-A88D-D54F6BCC4F3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90DC62-22DF-4861-BCDC-B2654AD1A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05B0-0B9F-4681-8534-0E418F20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7D3840-2B4C-4CD3-A67E-2C57E1B492F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97EB3-15B7-4D55-8EFE-D719E78EC0E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FDFD5-FCBB-456A-94E4-ECF5522A480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86B8D-C45E-455E-B3EB-E5D5307CC65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CD398-DDBF-4B86-9FF4-7E3D76442EB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C609F-ADC6-4188-A5FC-F31F01698C2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B7E6D-6D15-409D-B45B-E4B693D06BC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8F5FF-04AC-4CA8-A3FF-5AC91D27A17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126CD-ECDF-4509-BF53-B1733C972E5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31987-7767-4CCB-A378-A3D57E326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BC759-58BB-4572-8CEC-E3B09A331CA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1107E-E320-489A-A416-BBFAB246268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686D9-A309-4875-B8E8-8292B9E72D0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ACEFCF-BF28-4EA2-9F49-56C24132B14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03EA42-8B41-4DF1-815B-F990FA398C3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6750D4-F321-4850-9166-F75591B89D4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6A2AE5-E63E-40FF-B9DA-2378C8F8DAB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FCEDF7-6A2A-40FA-B5BB-13DD550AC4E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15A932-84B5-4DC4-B390-4A0197BB0CA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6A5CF0-3800-4AA2-AC22-6D3ECB3399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BAF5D5-8C0D-424A-8ADB-A390986DC77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0546AB-0FFE-4BDD-9A60-B575D8342A7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729C69-C7E8-4B33-87D5-33A546ABCCF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8B1C98-F7CD-4A68-9FE6-459E297E34E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F0FFE5-C68A-4398-88DF-6FCCA87F7EC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0C5599-0A2E-43EA-A750-518579F9CFB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80585C-9F00-44BC-B56F-9E637043A37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E8B128-87D9-4DBA-A4A0-A8A86E70447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FCB490-2667-49A1-A96E-ECEB430F351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EB8D95-D303-4201-AE81-FD20DDDF43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96E003-B4D8-42F8-8BB8-DBB9847DF8C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FA839C-0D21-4E2F-92B7-DF4BC4DFD18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141666-1D87-41AF-A7FE-3A87D87AA71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516B17-D270-4B53-AFF9-3AE5C181578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395BF3-2EDB-428A-B71A-1DDAF61EE57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E3CD1-F0F3-44A6-B4E1-393C2256089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0662F2-945B-40B5-9328-96B081524F7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E37E1-5097-47D3-BECB-FB74B12027A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9C7DD-48EA-417B-B9FA-17BFCA3BA56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4DDE1-B3E5-434D-9D28-EE993ED909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22C48-910D-4A0F-9603-6D22FEED437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3A02B-052D-4FAE-A97F-9B91BD8A135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EB5A6-6255-4782-B3AB-7FA736B2BFF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C1052-F96E-4F19-8698-2AB797C9C35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C683F-8566-47DE-B3C1-82FF44671BC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870A3-0BC0-4A88-836A-69CBE530CD8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B7EB4-B4EF-44E2-BFFC-66EA8914415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467ED-6100-4685-80AB-3BDF85AEE77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F8756-B406-44E7-962B-54C4E70AF35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B318A7-8873-4657-87AA-A39B6A9C2E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1409AA-03F9-4050-AD8D-F25CB868EAD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14DB7F-0D31-45DD-BF99-9E695F64329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C5B8B7-7446-4CD9-85DF-8018BA77BD3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2A5694-CF20-4012-8A71-AD3CF347293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022B74-C4C3-4516-9CAB-7B1EECC1F96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E91800-2FC4-4B84-B101-DD7D7D52492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D22F91-C4E1-4DF8-A3DD-A294CE72E08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AEABF9-3FB6-42B8-A4DF-634EA1A8101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BB6C95-E4BF-4098-ACD4-319B27A474E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B18508-B492-4830-811A-FC6C9F4022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5E81E8-B884-4201-AF1F-94C28F1BF3A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2B9308-15E5-4C67-B857-56B31BAB8AE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93E1B3-2E0E-4977-980B-E152D73B514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2D3966-0D3C-4E93-AD49-D1D2D558E54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3E478-7EDF-437C-856E-121CA5FB6A7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E87EBC-8F8A-4B39-BCD6-3AC73A66535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AB0A21-3DF1-4FF9-B53F-2B1613CBAB5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9B2F4A-6BB0-463C-9FC0-1EB3CAE526F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B93248-11AD-42B2-B7F1-CCDFD5C9D46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38EAC4-22EA-42EF-80DA-3F87F56463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8B1329-4797-432F-9A03-391EC72E563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749085-AB02-40F8-B844-FCD462B8422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7080E-9CE0-43B0-BA8E-33E89FDB60C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B43C-B61D-4C7F-8876-38DF06B0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86A93-23BA-4648-B21E-300DF75A02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6C1BF-8250-4B27-A579-2C7F7DC058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57115-A271-4442-B8A1-26C73B64D8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64FF0-C855-4955-BEA1-8F458906D9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DF088-115E-42BF-998F-501A9FC616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2FC-AED0-489A-B920-A57CE4DC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C7D8A-DC75-47E5-8B9E-B6A30CB592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1D13A-7A82-44C4-B150-38460E5306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7ADF3-9A56-475D-BABE-0A6B795DEF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1523E-A1CB-4F3E-994B-0BE5DE0E87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9F9BD-6A9B-4667-8FAA-1EC8C82E1F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E3BFF-BC5D-4DDD-99A7-27E9C1809C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F9A12-018A-4401-ADFD-F18A983B07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A9AB0-37A9-4621-843D-1781DA3FAB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5985E-D96A-4CCE-80A0-5D9EB5EF6FF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012CF-78E6-4BE2-AF63-60651E7BB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605-3AD6-45C4-A9A8-D7408EBA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58876-1547-433D-A615-F5D3AED693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FA2D6-2682-4832-888A-3AAB1AD89F7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EF89D-E7EF-4E97-B134-9712D3ABA5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19F25-C153-4F13-AA04-A4625621EF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F2B7B-48F6-4800-87C1-E55D6BBC32D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03E01-E699-4CF6-955D-FEDA613EDC5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A1E2E-272C-403A-B933-ECF5886346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1DA02-3BBF-4F73-8DE6-8EF844A93E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D64D8-6882-42B6-A082-9519793765C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0A8D-7478-4717-95AA-CA812FED8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950C-4D1D-4B76-90E7-768AAD90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D869-3BDB-4EB3-9E69-7211408E1C3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EAB7-2F3C-4BAC-B2CD-D1ABE4318C2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A7C8-1FE8-452A-95FB-59265585FC8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7624-F450-4E60-8391-43C0FB7154C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CAC9-BFE3-4D6F-A168-D8BA29CE27E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E515-FA51-4F4F-80A9-4FF9ECF67B0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15F5-2EDC-4424-ACC3-BF2A8286121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5063-8EC9-4E95-99C0-F65D8AEDF57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7B8F-022D-4C57-BAE3-992A20ECB64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66D5-07FA-4EE9-8EFD-89E2F382D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2CBA-016F-43BC-AD6F-3AE30ED2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7E39-8EB3-4E24-9DF9-479393783F5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1A78F1-782C-493F-91A6-BF961C0F780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8F1E24-A41C-49BC-9F8A-675F4B9BBA4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33BEEC-3380-4CB9-B24C-71B91F67B7A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EFF8C6-8EB4-491D-B7D1-5658D112B12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7584A3-BA04-4CEA-98C2-B41C7553E7B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B0616A-5868-4F24-B392-F5572C38D6E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4A396D-AC0A-49BD-9B3C-91789030640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D14DAF-9F4E-493E-A5EF-1B7D908A2C8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049917-CB94-40B9-B7CC-1C3F0FD07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318E-D99C-4A4D-9ED5-9AF6795D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800FEB-D611-40DF-B2B1-CD8DBE9B374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E00442-0872-4625-A668-B85CC9FEB17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7F5C1F-96B5-4B16-A2A8-A481BE54F6B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A80AA-183B-4EA8-99DA-EC0B1C045DC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77707-D386-48ED-8CE7-5D2774FE8A1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79A11-68FB-4274-B56B-D994DF281DB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80F3F-E3F3-4D3B-A37D-3DA0D87FD18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51C62-D571-41C0-B7A5-1351CAEA320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7939B-8068-41FF-AB5B-AACF80001C6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5CE5D-B1D3-404E-B075-47841AE28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B7E3-E6CB-4BD9-BF3A-DF8A21FF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C1EDD-BDA1-4CDD-874D-ED93BF98788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5D215-B91D-4100-ACCE-D3D8AF7179F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5BEE3-987F-4ADA-9606-7B5D5E8037A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43AA9-6C47-4A43-A586-248DB5CC426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16961-9F23-43E4-8848-BB1A1F18446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F148D-E806-4285-9EAE-2633BB39762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374D6-780C-489F-9754-CF8BFF03EF8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31E44-AE80-45DE-9B87-68F16EF6857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210E4-61A1-44D6-989F-CB6ADE58ADA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5A8E9-8BC3-41DC-B6FB-99B4C3EB9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6AE-1E5B-4FE8-82EE-5D733C3D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1B8E3-6EAD-406A-BADC-15C2D176B02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8D46A-BFBA-491F-BB5A-9C44C69125B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6A938-8FD9-4518-91C3-05AD1E83A07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CE827-EE12-4228-9EC3-AAD7150EAF7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C4A3A-DF4E-4DC9-A455-6BEF4F188A6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0D3D4-7293-442A-8A92-BB74E331E48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1597C-47C2-402A-9C51-F372613223A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D6ECE2-E3C0-4C9B-A61F-7970142494E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89A448-AE86-45C9-BDFD-72064CF82E1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ADB45B-182C-420A-BE72-46C2B6C66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5678893-71D9-4029-A05D-6AD2F4DB4D7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14B34CC-7D2A-483E-B665-3606F0BD5A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282F2B9-7E13-45E3-985A-C8AA2ACE50A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63E0C4D-C8D3-4CF0-959D-BAADCF0B81E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9F7FCE4-3C57-4CBC-8687-4F20407C99B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82D42D4-B4B5-4371-8B83-2359D7F3BD0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7BDA52B-33CB-4C8F-ACBD-0CA65579B59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D2C8414-9464-4CF3-9597-8B621F0252E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32C7F9C-3D52-4AB0-B5A5-48849F65922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3A4CF67-1516-43BE-80F2-2E64A0E0000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1192AF5-DBF8-48BD-847C-FA5CFDAA8E2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5598CE6-7DC2-4CCA-A081-13B6DE08E08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F5AE13A-D129-4925-9788-832113C1175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55EDBCD-02BA-40B5-8F54-0486FCB80DA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3616B81-B382-427F-AF3B-0C39078DED7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DFA6404-F6DA-464B-8773-51DD3593F2B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sagatavo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0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šu pieteikumu sagatavošana un iesniegšana Espresso sistē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4300560"/>
            <a:ext cx="5829120" cy="666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4.gada 5. septembr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CD33588-CB88-4995-BDA4-B38854B8ADD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b050"/>
                </a:solidFill>
                <a:latin typeface="Verdana"/>
                <a:ea typeface="Verdana"/>
              </a:rPr>
              <a:t>Par studiju vizītēm – jaunu projektu veidu Nordplus Jauniešu apakšprogrammā -  atsevišķs seminārs 06.09.24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Box 10"/>
          <p:cNvSpPr/>
          <p:nvPr/>
        </p:nvSpPr>
        <p:spPr>
          <a:xfrm>
            <a:off x="250920" y="3706920"/>
            <a:ext cx="346536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Calibri"/>
              </a:rPr>
              <a:t>https://www.viaa.gov.lv/lv/jaunums/aicinam-pieteikties-tiessaistes-seminaram-par-nordplus-2024-gada-studiju-vizisu-konkursu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4098960" y="2019240"/>
            <a:ext cx="44355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"/>
          <p:cNvPicPr/>
          <p:nvPr/>
        </p:nvPicPr>
        <p:blipFill>
          <a:blip r:embed="rId1"/>
          <a:stretch/>
        </p:blipFill>
        <p:spPr>
          <a:xfrm>
            <a:off x="3179880" y="1238400"/>
            <a:ext cx="5816520" cy="523872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rdplus datubāzē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pliecinājuma vēstules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, kuras jāparaksta visu projektā iesaisīt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4323B09-41FC-4EFA-808F-8CA2EFDAABD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2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3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4" name="Title 1"/>
          <p:cNvSpPr/>
          <p:nvPr/>
        </p:nvSpPr>
        <p:spPr>
          <a:xfrm>
            <a:off x="259092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b7d91"/>
                </a:solidFill>
                <a:latin typeface="Verdana"/>
                <a:ea typeface="Verdana"/>
              </a:rPr>
              <a:t>Projektā iesaistītās organizācijas – koordinators un partne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4" descr=""/>
          <p:cNvPicPr/>
          <p:nvPr/>
        </p:nvPicPr>
        <p:blipFill>
          <a:blip r:embed="rId1"/>
          <a:stretch/>
        </p:blipFill>
        <p:spPr>
          <a:xfrm>
            <a:off x="4673520" y="3238560"/>
            <a:ext cx="3152880" cy="320364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"/>
          <p:cNvPicPr/>
          <p:nvPr/>
        </p:nvPicPr>
        <p:blipFill>
          <a:blip r:embed="rId2"/>
          <a:stretch/>
        </p:blipFill>
        <p:spPr>
          <a:xfrm>
            <a:off x="3878280" y="-214200"/>
            <a:ext cx="5478480" cy="317160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, ja nav, tad jāpievieno.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9" name="Left Arrow 13"/>
          <p:cNvSpPr/>
          <p:nvPr/>
        </p:nvSpPr>
        <p:spPr>
          <a:xfrm rot="16200000">
            <a:off x="5375160" y="2305080"/>
            <a:ext cx="1666800" cy="355320"/>
          </a:xfrm>
          <a:prstGeom prst="leftArrow">
            <a:avLst>
              <a:gd name="adj1" fmla="val 50000"/>
              <a:gd name="adj2" fmla="val 54533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6" descr=""/>
          <p:cNvPicPr/>
          <p:nvPr/>
        </p:nvPicPr>
        <p:blipFill>
          <a:blip r:embed="rId1"/>
          <a:srcRect l="0" t="0" r="4749" b="0"/>
          <a:stretch/>
        </p:blipFill>
        <p:spPr>
          <a:xfrm>
            <a:off x="611280" y="3151080"/>
            <a:ext cx="8172360" cy="253368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59056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Sagatavošanas vizītes apraks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1128600" y="1914480"/>
            <a:ext cx="70423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Rokasgrāmata, 41. lpp (pdf),  sadaļa  «The Application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"/>
          <p:cNvPicPr/>
          <p:nvPr/>
        </p:nvPicPr>
        <p:blipFill>
          <a:blip r:embed="rId1"/>
          <a:srcRect l="0" t="6166" r="0" b="0"/>
          <a:stretch/>
        </p:blipFill>
        <p:spPr>
          <a:xfrm>
            <a:off x="3218040" y="1709640"/>
            <a:ext cx="5759280" cy="4214880"/>
          </a:xfrm>
          <a:prstGeom prst="rect">
            <a:avLst/>
          </a:prstGeom>
          <a:ln w="0">
            <a:noFill/>
          </a:ln>
        </p:spPr>
      </p:pic>
      <p:sp>
        <p:nvSpPr>
          <p:cNvPr id="79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43A6C25-2A56-4529-A487-3047C58E43A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Īsi jāapraksta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paredzamā  projekta iece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Straight Arrow Connector 12"/>
          <p:cNvCxnSpPr/>
          <p:nvPr/>
        </p:nvCxnSpPr>
        <p:spPr>
          <a:xfrm>
            <a:off x="1958760" y="220932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7" descr=""/>
          <p:cNvPicPr/>
          <p:nvPr/>
        </p:nvPicPr>
        <p:blipFill>
          <a:blip r:embed="rId1"/>
          <a:srcRect l="0" t="6263" r="0" b="0"/>
          <a:stretch/>
        </p:blipFill>
        <p:spPr>
          <a:xfrm>
            <a:off x="3405240" y="933480"/>
            <a:ext cx="4903560" cy="4375080"/>
          </a:xfrm>
          <a:prstGeom prst="rect">
            <a:avLst/>
          </a:prstGeom>
          <a:ln w="0">
            <a:noFill/>
          </a:ln>
        </p:spPr>
      </p:pic>
      <p:sp>
        <p:nvSpPr>
          <p:cNvPr id="798" name="Title 1"/>
          <p:cNvSpPr/>
          <p:nvPr/>
        </p:nvSpPr>
        <p:spPr>
          <a:xfrm>
            <a:off x="0" y="1943280"/>
            <a:ext cx="2849400" cy="32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apraksta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i jābalstās uz projekta pieteikuma plānoša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mērķi, uzdevumi, rezultāti, norise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"/>
          <p:cNvPicPr/>
          <p:nvPr/>
        </p:nvPicPr>
        <p:blipFill>
          <a:blip r:embed="rId1"/>
          <a:srcRect l="0" t="8694" r="0" b="0"/>
          <a:stretch/>
        </p:blipFill>
        <p:spPr>
          <a:xfrm>
            <a:off x="3948120" y="549360"/>
            <a:ext cx="4456080" cy="3079800"/>
          </a:xfrm>
          <a:prstGeom prst="rect">
            <a:avLst/>
          </a:prstGeom>
          <a:ln w="0">
            <a:noFill/>
          </a:ln>
        </p:spPr>
      </p:pic>
      <p:sp>
        <p:nvSpPr>
          <p:cNvPr id="80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C7AED97-EA42-4F62-8D6B-AA571773780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9"/>
          <p:cNvCxnSpPr/>
          <p:nvPr/>
        </p:nvCxnSpPr>
        <p:spPr>
          <a:xfrm flipH="1">
            <a:off x="4258800" y="2095200"/>
            <a:ext cx="16560" cy="22658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2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8" descr=""/>
          <p:cNvPicPr/>
          <p:nvPr/>
        </p:nvPicPr>
        <p:blipFill>
          <a:blip r:embed="rId2"/>
          <a:stretch/>
        </p:blipFill>
        <p:spPr>
          <a:xfrm>
            <a:off x="3208320" y="4361040"/>
            <a:ext cx="3828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"/>
          <p:cNvPicPr/>
          <p:nvPr/>
        </p:nvPicPr>
        <p:blipFill>
          <a:blip r:embed="rId1"/>
          <a:srcRect l="0" t="0" r="0" b="76419"/>
          <a:stretch/>
        </p:blipFill>
        <p:spPr>
          <a:xfrm>
            <a:off x="4597560" y="4807080"/>
            <a:ext cx="3828960" cy="720720"/>
          </a:xfrm>
          <a:prstGeom prst="rect">
            <a:avLst/>
          </a:prstGeom>
          <a:ln w="0">
            <a:noFill/>
          </a:ln>
        </p:spPr>
      </p:pic>
      <p:sp>
        <p:nvSpPr>
          <p:cNvPr id="805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itle 1"/>
          <p:cNvSpPr/>
          <p:nvPr/>
        </p:nvSpPr>
        <p:spPr>
          <a:xfrm>
            <a:off x="100080" y="4184640"/>
            <a:ext cx="344808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u apliecinājuma vēstules (tai skaitā arī no savas organizācijas)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7" name="Straight Arrow Connector 6"/>
          <p:cNvCxnSpPr/>
          <p:nvPr/>
        </p:nvCxnSpPr>
        <p:spPr>
          <a:xfrm>
            <a:off x="2827440" y="4327200"/>
            <a:ext cx="1745280" cy="626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8" name="Picture 2" descr=""/>
          <p:cNvPicPr/>
          <p:nvPr/>
        </p:nvPicPr>
        <p:blipFill>
          <a:blip r:embed="rId2"/>
          <a:srcRect l="0" t="15722" r="0" b="0"/>
          <a:stretch/>
        </p:blipFill>
        <p:spPr>
          <a:xfrm>
            <a:off x="2749680" y="2050920"/>
            <a:ext cx="56768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Straight Arrow Connector 8"/>
          <p:cNvCxnSpPr/>
          <p:nvPr/>
        </p:nvCxnSpPr>
        <p:spPr>
          <a:xfrm>
            <a:off x="1714320" y="2827440"/>
            <a:ext cx="1410120" cy="10166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11" name="Straight Arrow Connector 11"/>
          <p:cNvCxnSpPr/>
          <p:nvPr/>
        </p:nvCxnSpPr>
        <p:spPr>
          <a:xfrm>
            <a:off x="2095200" y="502416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12" name="Picture 2" descr=""/>
          <p:cNvPicPr/>
          <p:nvPr/>
        </p:nvPicPr>
        <p:blipFill>
          <a:blip r:embed="rId1"/>
          <a:srcRect l="0" t="9362" r="0" b="0"/>
          <a:stretch/>
        </p:blipFill>
        <p:spPr>
          <a:xfrm>
            <a:off x="3124080" y="2827440"/>
            <a:ext cx="563904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E333F33-431A-44F3-A49C-7809164593A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itle 1"/>
          <p:cNvSpPr/>
          <p:nvPr/>
        </p:nvSpPr>
        <p:spPr>
          <a:xfrm>
            <a:off x="0" y="1943280"/>
            <a:ext cx="23320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tiks pārskaitīts piešķirtais finansējums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Pie bankas rekvizītiem – «Your reference» ir organizācijas iekšējais identifikators (ja tāds ir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  <p:cxnSp>
        <p:nvCxnSpPr>
          <p:cNvPr id="816" name="Straight Arrow Connector 2"/>
          <p:cNvCxnSpPr/>
          <p:nvPr/>
        </p:nvCxnSpPr>
        <p:spPr>
          <a:xfrm>
            <a:off x="2158560" y="4808160"/>
            <a:ext cx="5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Nordic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itle 1"/>
          <p:cNvSpPr/>
          <p:nvPr/>
        </p:nvSpPr>
        <p:spPr>
          <a:xfrm>
            <a:off x="106200" y="2120760"/>
            <a:ext cx="247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Picture 2" descr=""/>
          <p:cNvPicPr/>
          <p:nvPr/>
        </p:nvPicPr>
        <p:blipFill>
          <a:blip r:embed="rId1"/>
          <a:stretch/>
        </p:blipFill>
        <p:spPr>
          <a:xfrm>
            <a:off x="2789280" y="1290600"/>
            <a:ext cx="60451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VIAA sagatavotajiem materiāliem ir </a:t>
            </a:r>
            <a:r>
              <a:rPr b="1" lang="lv-LV" sz="2000" spc="-1" strike="noStrike" u="sng">
                <a:solidFill>
                  <a:srgbClr val="ff0000"/>
                </a:solidFill>
                <a:uFillTx/>
                <a:latin typeface="Calibri"/>
                <a:ea typeface="Verdana"/>
              </a:rPr>
              <a:t>informatīvs un paskaidrojošs raksturs</a:t>
            </a: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cējiem ir saistoši dokumenti, kas publicēti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www.nordplusonlin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Content Placeholder 1" descr=""/>
          <p:cNvPicPr/>
          <p:nvPr/>
        </p:nvPicPr>
        <p:blipFill>
          <a:blip r:embed="rId1"/>
          <a:stretch/>
        </p:blipFill>
        <p:spPr>
          <a:xfrm>
            <a:off x="2901960" y="1695600"/>
            <a:ext cx="5907240" cy="40719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" descr=""/>
          <p:cNvPicPr/>
          <p:nvPr/>
        </p:nvPicPr>
        <p:blipFill>
          <a:blip r:embed="rId2"/>
          <a:stretch/>
        </p:blipFill>
        <p:spPr>
          <a:xfrm>
            <a:off x="5924520" y="3772080"/>
            <a:ext cx="3156120" cy="957240"/>
          </a:xfrm>
          <a:prstGeom prst="rect">
            <a:avLst/>
          </a:prstGeom>
          <a:ln w="0">
            <a:noFill/>
          </a:ln>
        </p:spPr>
      </p:pic>
      <p:sp>
        <p:nvSpPr>
          <p:cNvPr id="749" name="Title 1"/>
          <p:cNvSpPr/>
          <p:nvPr/>
        </p:nvSpPr>
        <p:spPr>
          <a:xfrm>
            <a:off x="-165240" y="2860560"/>
            <a:ext cx="30164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1828800" y="1252440"/>
            <a:ext cx="722304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diku.no/espresso/login?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1"/>
          <a:srcRect l="0" t="26520" r="0" b="0"/>
          <a:stretch/>
        </p:blipFill>
        <p:spPr>
          <a:xfrm>
            <a:off x="2490840" y="3040200"/>
            <a:ext cx="5838840" cy="2436840"/>
          </a:xfrm>
          <a:prstGeom prst="rect">
            <a:avLst/>
          </a:prstGeom>
          <a:ln w="0">
            <a:noFill/>
          </a:ln>
        </p:spPr>
      </p:pic>
      <p:sp>
        <p:nvSpPr>
          <p:cNvPr id="753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393560"/>
            <a:ext cx="6870600" cy="74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>
                <a:solidFill>
                  <a:srgbClr val="1f4e79"/>
                </a:solidFill>
                <a:latin typeface="Calibri"/>
                <a:ea typeface="Verdana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1" descr=""/>
          <p:cNvPicPr/>
          <p:nvPr/>
        </p:nvPicPr>
        <p:blipFill>
          <a:blip r:embed="rId1"/>
          <a:srcRect l="0" t="24891" r="0" b="0"/>
          <a:stretch/>
        </p:blipFill>
        <p:spPr>
          <a:xfrm>
            <a:off x="4025880" y="4721400"/>
            <a:ext cx="4660920" cy="20412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"/>
          <p:cNvPicPr/>
          <p:nvPr/>
        </p:nvPicPr>
        <p:blipFill>
          <a:blip r:embed="rId2"/>
          <a:stretch/>
        </p:blipFill>
        <p:spPr>
          <a:xfrm>
            <a:off x="2660760" y="2238480"/>
            <a:ext cx="4916520" cy="2036520"/>
          </a:xfrm>
          <a:prstGeom prst="rect">
            <a:avLst/>
          </a:prstGeom>
          <a:ln w="0">
            <a:noFill/>
          </a:ln>
        </p:spPr>
      </p:pic>
      <p:cxnSp>
        <p:nvCxnSpPr>
          <p:cNvPr id="758" name="Straight Arrow Connector 4"/>
          <p:cNvCxnSpPr/>
          <p:nvPr/>
        </p:nvCxnSpPr>
        <p:spPr>
          <a:xfrm>
            <a:off x="5638320" y="3633840"/>
            <a:ext cx="1080" cy="12708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267440"/>
          </a:xfrm>
          <a:prstGeom prst="rect">
            <a:avLst/>
          </a:prstGeom>
          <a:ln w="0">
            <a:noFill/>
          </a:ln>
        </p:spPr>
      </p:pic>
      <p:sp>
        <p:nvSpPr>
          <p:cNvPr id="761" name="Left Arrow 6"/>
          <p:cNvSpPr/>
          <p:nvPr/>
        </p:nvSpPr>
        <p:spPr>
          <a:xfrm rot="8365800">
            <a:off x="2230200" y="5498640"/>
            <a:ext cx="3019320" cy="530280"/>
          </a:xfrm>
          <a:prstGeom prst="leftArrow">
            <a:avLst>
              <a:gd name="adj1" fmla="val 50000"/>
              <a:gd name="adj2" fmla="val 5443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091960" y="415440"/>
            <a:ext cx="6095880" cy="776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zvēlamies apakšprogrammu, kurā iesniegsim sagatavošanas vizītes pieteikum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2" descr=""/>
          <p:cNvPicPr/>
          <p:nvPr/>
        </p:nvPicPr>
        <p:blipFill>
          <a:blip r:embed="rId2"/>
          <a:stretch/>
        </p:blipFill>
        <p:spPr>
          <a:xfrm>
            <a:off x="1541520" y="1824120"/>
            <a:ext cx="719784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7F5C7E8-CF39-4123-93EA-61CA818D68C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590920" cy="22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2478240" y="426960"/>
            <a:ext cx="6183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C441868-2D99-4123-B138-F7EA3B308F5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801880" cy="14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 – šajā gadījumā 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i («Preparatory visit») 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7" descr="A screenshot of a computer&#10;&#10;Description automatically generated"/>
          <p:cNvPicPr/>
          <p:nvPr/>
        </p:nvPicPr>
        <p:blipFill>
          <a:blip r:embed="rId1"/>
          <a:srcRect l="8189" t="15003" r="56997" b="25478"/>
          <a:stretch/>
        </p:blipFill>
        <p:spPr>
          <a:xfrm>
            <a:off x="3143160" y="228600"/>
            <a:ext cx="5391360" cy="5761080"/>
          </a:xfrm>
          <a:prstGeom prst="rect">
            <a:avLst/>
          </a:prstGeom>
          <a:ln w="0">
            <a:noFill/>
          </a:ln>
        </p:spPr>
      </p:pic>
      <p:cxnSp>
        <p:nvCxnSpPr>
          <p:cNvPr id="771" name="Straight Arrow Connector 9"/>
          <p:cNvCxnSpPr/>
          <p:nvPr/>
        </p:nvCxnSpPr>
        <p:spPr>
          <a:xfrm>
            <a:off x="2090520" y="3230640"/>
            <a:ext cx="1532520" cy="169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72" name="Title 1"/>
          <p:cNvSpPr/>
          <p:nvPr/>
        </p:nvSpPr>
        <p:spPr>
          <a:xfrm>
            <a:off x="54000" y="4772160"/>
            <a:ext cx="20368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Studiju vizīte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r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cits projektu veids (seminārs 06.09.24.)</a:t>
            </a: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Straight Arrow Connector 12"/>
          <p:cNvCxnSpPr/>
          <p:nvPr/>
        </p:nvCxnSpPr>
        <p:spPr>
          <a:xfrm>
            <a:off x="1662120" y="5106600"/>
            <a:ext cx="1961280" cy="83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23-09-06T10:38:28Z</cp:lastPrinted>
  <dcterms:modified xsi:type="dcterms:W3CDTF">2024-09-05T13:12:12Z</dcterms:modified>
  <cp:revision>179</cp:revision>
  <dc:subject/>
  <dc:title>PowerPoint Presentation</dc:title>
</cp:coreProperties>
</file>