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8957-F69B-4B06-91B0-27C84655C41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édération Internationale de Natation, F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490D-7578-479F-9C7B-5E0F33680EF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tauriņstils, uz muguras, brass, brīvais st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6EE8-F3F0-4BE5-978A-01BE740BD1D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garajā basein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2415-5644-4951-B155-C45B263891D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*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BAF3-1BB3-4E07-8F18-A67FE940E8F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5525-BF9C-42CF-A6FD-32BF1723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F656-4431-45EA-86F9-E13E0871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FC97-7137-4677-814D-B18C214C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55CB-BAD0-4BA6-A66E-4CE3F988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5445-4990-4183-A8EC-0358C625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2B7-7FB7-4122-AC0D-0C5CFF02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FC42-D621-43EF-955C-9168BE6B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C366-1898-46E5-97B6-2740661A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DFD1-832B-4A7D-BDAD-01970190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777F-4A51-44B6-B959-95D5FD8B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45B-1A71-4003-9AA7-AA52EDD0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9ED9-E636-4AEE-9F50-D74EF192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A1A0-FAD9-4DDC-87F3-1CB712965AF5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4652-FD53-41FC-9C61-2804709FC31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b7dee8"/>
                </a:solidFill>
                <a:latin typeface="Calibri"/>
              </a:rPr>
              <a:t>Sporta peld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s vei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mugu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riņst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162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ešanas sporta vei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ūdens sporta veids, ko starptautiski pārvalda Starptautiskā Peldēšanas federācija (), kas dibināta 1908. gad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orta sacensībās peldēšanā uzvar tas, kurš uzstāda labāko la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baseinos noteik 50-1500 metrus garās distanc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ib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peldēšanā notiek četros veidos: brīvajā stilā, uz muguras, brasā un tuariņstil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mpleksajā peldējumā ir noteikta veidu secība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īvajā stilā tiek tiek izmantots visātrākais peldēšanas veids — 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ību vēstū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iekļauta Olimpiskajās spēlē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896. gada Atēnu Olimpiskajām spēlēm vīrieš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912. gada Stokholmas Olimpiskajām spēlēm sieviet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890. gada teik rīkots Eiropas čempio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973. gada tiek rīkots Pasaules čempionāts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 citos sporta ve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odernajā pieccīņā  200 m brīvajā stilā (līdz 2000. gada Olimpiskajām spēlēm distance bija 300 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ialonā  1500 m brīvajā stilā (vidējā jeb Olimpiskā dist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Ūdenspo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1:37:20Z</dcterms:created>
  <dc:creator>User</dc:creator>
  <dc:description/>
  <dc:language>en-US</dc:language>
  <cp:lastModifiedBy>User</cp:lastModifiedBy>
  <dcterms:modified xsi:type="dcterms:W3CDTF">2017-04-15T08:45:36Z</dcterms:modified>
  <cp:revision>12</cp:revision>
  <dc:subject/>
  <dc:title>Peldēšanas veidi</dc:title>
</cp:coreProperties>
</file>