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0E5B-4ED1-4587-A40D-67BA9A1594B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Fédération Internationale de Natation, F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88E7-4B2C-4750-934D-B45F56AA4C41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tauriņstils, uz muguras, brass, brīvais st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213C-423C-43E2-AC96-7EE1E19FAEFF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garajā basein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FF6D-B808-436E-8640-2CC14D98D13A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*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701F-C33F-4A51-80EA-410D03E7DD07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8D5B-DA87-41A1-BDDD-BFF4A7C00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4BCF-EB89-482F-A412-7AFCDC38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CDDA-0CE0-4151-8D0C-B6C9CDC9F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FE6A-8EF9-46F7-B45E-6E60BF420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B111-F576-4649-BA0C-0151619D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23A4-7AA0-4867-B4C6-39121DD3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2644-BC02-48F8-A426-84813B41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B42E-8D07-466F-AEF4-B08F4845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D59C-9B5C-4965-A6D5-95F18682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5BBE-8723-4039-9F7D-3682882E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EBC3-76D3-46D8-AB7E-9BA02853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BD95-1272-4E94-9220-633B3B21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7115-5937-403A-8BAD-1051EF467298}" type="datetime">
              <a:rPr b="0" lang="lv-LV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AD86-6A4B-49F8-B957-EDCB37FADC63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b7dee8"/>
                </a:solidFill>
                <a:latin typeface="Calibri"/>
              </a:rPr>
              <a:t>Sporta peld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ēšanas veid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rauls uz krūtī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rauls uz mugur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auriņst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435640" y="1413000"/>
            <a:ext cx="27162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ešanas sporta vei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ldēšana ir ir ūdens sporta veids, ko starptautiski pārvalda Starptautiskā Peldēšanas federācija (), kas dibināta 1908. gad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porta sacensībās peldēšanā uzvar tas, kurš uzstāda labāko lai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censības baseinos noteik 50-1500 metrus garās distancē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acensiba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censības peldēšanā notiek četros veidos: brīvajā stilā, uz muguras, brasā un tuariņstil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mpleksajā peldējumā ir noteikta veidu secība 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īvajā stilā tiek tiek izmantots visātrākais peldēšanas veids — krauls uz krūtī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acensību vēstū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ldēšana ir ir iekļauta Olimpiskajās spēlē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pš 1896. gada Atēnu Olimpiskajām spēlēm vīrieš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pš 1912. gada Stokholmas Olimpiskajām spēlēm sievietē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1890. gada teik rīkots Eiropas čempion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1973. gada tiek rīkots Pasaules čempionāts 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ēšana citos sporta vei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odernajā pieccīņā  200 m brīvajā stilā (līdz 2000. gada Olimpiskajām spēlēm distance bija 300 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rialonā  1500 m brīvajā stilā (vidējā jeb Olimpiskā dist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Ūdenspo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0T11:37:20Z</dcterms:created>
  <dc:creator>User</dc:creator>
  <dc:description/>
  <dc:language>en-US</dc:language>
  <cp:lastModifiedBy>User</cp:lastModifiedBy>
  <dcterms:modified xsi:type="dcterms:W3CDTF">2017-04-15T08:45:36Z</dcterms:modified>
  <cp:revision>12</cp:revision>
  <dc:subject/>
  <dc:title>Peldēšanas veidi</dc:title>
</cp:coreProperties>
</file>