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3BE2-23E2-4A6A-B8D4-8ED0E6094C4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Fédération Internationale de Natation, F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676F-A94F-45D9-97F6-97649BBB292A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tauriņstils, uz muguras, brass, brīvais st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3C23-27B2-4A90-92D1-AF4DC90F85B1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garajā basein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62001-ACFA-4A9D-966A-13CDC3161079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*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67F1-B009-43F5-82DF-AB346AEF3E2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4B40-71FF-484E-83B3-A5E24C2C6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04CA7-FD0B-410D-9E5C-2D76F780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5223-0C6E-466C-BA0C-F58B2EDF3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2EF-58C5-4B44-AC57-9B54B4722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8738-54CB-44F3-A82D-2915AF09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F8E3D-CABF-47BD-BE2A-1BA8248D6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9E81-D0AF-4DF4-AB8D-87A0EE10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76F6B-E240-4467-B787-0B7992604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2423-E5A5-40B0-8670-EFF25632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6A7-C5FC-48D4-991D-5CAD7DA2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692-BC97-4DA7-A129-85D752789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D3C-D54A-4CBC-BC66-966CDCA4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1875-F230-4C4A-83E0-AE68EB91C206}" type="datetime">
              <a:rPr b="0" lang="lv-LV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5615-BB86-40E6-A2EC-D6A9BDFC777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b7dee8"/>
                </a:solidFill>
                <a:latin typeface="Calibri"/>
              </a:rPr>
              <a:t>Sporta peldēša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s veid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600200"/>
            <a:ext cx="4546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rauls uz mugu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auriņsti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435640" y="1413000"/>
            <a:ext cx="27162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ešanas sporta veid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ūdens sporta veids, ko starptautiski pārvalda Starptautiskā Peldēšanas federācija (), kas dibināta 1908. gad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porta sacensībās peldēšanā uzvar tas, kurš uzstāda labāko laik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baseinos noteik 50-1500 metrus garās distancē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ib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Sacensības peldēšanā notiek četros veidos: brīvajā stilā, uz muguras, brasā un tuariņstil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Kompleksajā peldējumā ir noteikta veidu secība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Brīvajā stilā tiek tiek izmantots visātrākais peldēšanas veids — krauls uz krūtī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Sacensību vēstū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Peldēšana ir ir iekļauta Olimpiskajās spēlē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896. gada Atēnu Olimpiskajām spēlēm vīrieši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</a:rPr>
              <a:t>kopš 1912. gada Stokholmas Olimpiskajām spēlēm sievietē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890. gada teik rīkots Eiropas čempionā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No 1973. gada tiek rīkots Pasaules čempionāts (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Calibri"/>
              </a:rPr>
              <a:t>Peldēšana citos sporta veid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Modernajā pieccīņā  200 m brīvajā stilā (līdz 2000. gada Olimpiskajām spēlēm distance bija 300 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Trialonā  1500 m brīvajā stilā (vidējā jeb Olimpiskā dist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Calibri"/>
              </a:rPr>
              <a:t>Ūdenspo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0T11:37:20Z</dcterms:created>
  <dc:creator>User</dc:creator>
  <dc:description/>
  <dc:language>en-US</dc:language>
  <cp:lastModifiedBy>User</cp:lastModifiedBy>
  <dcterms:modified xsi:type="dcterms:W3CDTF">2017-04-15T08:45:36Z</dcterms:modified>
  <cp:revision>12</cp:revision>
  <dc:subject/>
  <dc:title>Peldēšanas veidi</dc:title>
</cp:coreProperties>
</file>