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7E6C-A787-432E-BFE2-61E193226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43FD-616D-4D59-BD6F-013229361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6B2D-991E-46A4-85AC-CB31B62F5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391F-2E77-468A-A271-B26200814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A4097-836A-4B91-B19F-60DB7F58B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EAA86-FE24-4218-AAAD-EF402F829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40C18-8FEC-417A-8179-29246202D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3F4A1-B048-4A4C-851F-5C549F5EC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A3A35-A12B-45E6-9D6B-72B11E26B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6F812-BD65-44AD-BC95-AE7A1B36E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78287-C633-44CD-AAB0-1D54900B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A166-25F8-48BE-90FA-7A4874EE7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526FC-62D0-484C-9180-EE448C845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BE07E-144F-4A23-AC3A-667A9F176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09087-15AE-439F-92E4-20DF3DB83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7AAFD-A7BD-4A87-9F0F-FE167E8C7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5B50E-7BEB-4211-AF46-C6EA2A079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03F8-193E-4F81-A76E-237E9EFB9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37A0-0107-4FF1-A8A2-CAF021C03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2F90-BA22-4EEE-939D-62A9A9CA0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7235-6C9B-49A4-A539-5E2E2C6D2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97E4-23B7-45EF-9EC7-1A78DCC6F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396B-0FC4-436B-8758-C0F187D19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ABEE-D835-4225-B614-114FCE1C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B2660-1D17-4A72-AEEF-328F369AF3AE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https://upload.wikimedia.org/wikipedia/lv/thumb/b/b6/Stren%C4%8Du_novads_COA.png/75px-Stren%C4%8Du_novads_COA.png"/>
          <p:cNvPicPr/>
          <p:nvPr/>
        </p:nvPicPr>
        <p:blipFill>
          <a:blip r:embed="rId2"/>
          <a:stretch/>
        </p:blipFill>
        <p:spPr>
          <a:xfrm>
            <a:off x="539640" y="404640"/>
            <a:ext cx="714600" cy="876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1A0BC-A598-40B9-8121-F540AE8B1272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trencunovads.lv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alibri"/>
              </a:rPr>
              <a:t>Strenču nov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strencunovads.lv/</a:t>
            </a:r>
            <a:r>
              <a:rPr b="0" lang="lv-LV" sz="3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Content Placeholder 3" descr=""/>
          <p:cNvPicPr/>
          <p:nvPr/>
        </p:nvPicPr>
        <p:blipFill>
          <a:blip r:embed="rId1"/>
          <a:stretch/>
        </p:blipFill>
        <p:spPr>
          <a:xfrm>
            <a:off x="450720" y="1584360"/>
            <a:ext cx="824256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vada teritorija atrodas Vidzemes ziemeļaustrum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Stren&amp;ccaron;u novads"/>
          <p:cNvPicPr/>
          <p:nvPr/>
        </p:nvPicPr>
        <p:blipFill>
          <a:blip r:embed="rId1"/>
          <a:stretch/>
        </p:blipFill>
        <p:spPr>
          <a:xfrm>
            <a:off x="2627280" y="549360"/>
            <a:ext cx="4934160" cy="5000400"/>
          </a:xfrm>
          <a:prstGeom prst="rect">
            <a:avLst/>
          </a:prstGeom>
          <a:ln w="0">
            <a:noFill/>
          </a:ln>
        </p:spPr>
      </p:pic>
      <p:sp>
        <p:nvSpPr>
          <p:cNvPr id="90" name="Left Arrow 4"/>
          <p:cNvSpPr/>
          <p:nvPr/>
        </p:nvSpPr>
        <p:spPr>
          <a:xfrm rot="20580000">
            <a:off x="168120" y="3684240"/>
            <a:ext cx="2357640" cy="752400"/>
          </a:xfrm>
          <a:prstGeom prst="leftArrow">
            <a:avLst>
              <a:gd name="adj1" fmla="val 50000"/>
              <a:gd name="adj2" fmla="val 50005"/>
            </a:avLst>
          </a:prstGeom>
          <a:solidFill>
            <a:srgbClr val="e46c0a"/>
          </a:solidFill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latība km</a:t>
            </a:r>
            <a:r>
              <a:rPr b="0" lang="lv-LV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http://www.daba.gov.lv/upload/Image/Ilusracijas_IADT/DL_Seda_FOTO.jpg"/>
          <p:cNvPicPr/>
          <p:nvPr/>
        </p:nvPicPr>
        <p:blipFill>
          <a:blip r:embed="rId1"/>
          <a:stretch/>
        </p:blipFill>
        <p:spPr>
          <a:xfrm>
            <a:off x="3276720" y="3357720"/>
            <a:ext cx="4762440" cy="26762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edas purv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7786800" cy="28368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aļa teritorijas atrod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Jērcēnu pagast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lāņu pagast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abas liegums Natura 2000 teritorija, ietilpst Ziemeļvidzemes biosfēras rezervāt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http://static.panoramio.com/photos/large/11109814.jpg"/>
          <p:cNvPicPr/>
          <p:nvPr/>
        </p:nvPicPr>
        <p:blipFill>
          <a:blip r:embed="rId1"/>
          <a:stretch/>
        </p:blipFill>
        <p:spPr>
          <a:xfrm>
            <a:off x="2916360" y="2565360"/>
            <a:ext cx="5209920" cy="39052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Novada up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5"/>
          <p:cNvSpPr/>
          <p:nvPr/>
        </p:nvSpPr>
        <p:spPr>
          <a:xfrm>
            <a:off x="468360" y="1628640"/>
            <a:ext cx="7775640" cy="28371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Krāču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Nārvel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Se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Vi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01T16:03:58Z</dcterms:created>
  <dc:creator>User</dc:creator>
  <dc:description/>
  <dc:language>en-US</dc:language>
  <cp:lastModifiedBy>User</cp:lastModifiedBy>
  <dcterms:modified xsi:type="dcterms:W3CDTF">2016-11-03T10:57:27Z</dcterms:modified>
  <cp:revision>13</cp:revision>
  <dc:subject/>
  <dc:title>Viļānu novads</dc:title>
</cp:coreProperties>
</file>