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2857-EE81-4190-97D4-32FC8D1E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0D52-BE7C-4CEB-8886-09EE9198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7242-07B2-4BDA-8197-9018CB65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1194-F5DD-4531-A17A-554EFBF4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167D-C802-498B-ADEA-7FCCD479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78FC-AF08-453A-99F3-2538CF0F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D9FA-7AE6-4D6B-9E2D-A8E22AE9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C349-14CE-4BB6-92DB-371363B3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83CD-C6A4-4871-9B94-BD4CA410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031C-ADAA-4334-88B0-DBE171CD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7F22-7730-411C-B707-2EE7896E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E54E-E0FF-43AF-A098-E88013AB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1A42-4328-4288-9EE1-D9A6E927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5121-8AEC-4C5C-8695-695C7889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D5B9-6709-4154-BE96-B01A8352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C44F-37C3-4F30-BE2C-044E6135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AB77-1588-42FE-8921-52224D67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D010-27EE-4FCF-96F7-104AB4BF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FF2A-0599-4446-BA98-71FC3CEE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7443-66DC-4B00-86BE-DB8A9773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FB8-FB49-41A4-9F79-4F191A4A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2C6F-8CDD-4F8B-B203-C9E13A63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E134-8BE8-428A-B121-B01B0660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0801-5673-4D7C-BD19-3B3DB7C5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2942-0938-45D4-A237-7C66F970C89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s://upload.wikimedia.org/wikipedia/lv/thumb/b/b6/Stren%C4%8Du_novads_COA.png/75px-Stren%C4%8Du_novads_COA.png"/>
          <p:cNvPicPr/>
          <p:nvPr/>
        </p:nvPicPr>
        <p:blipFill>
          <a:blip r:embed="rId2"/>
          <a:stretch/>
        </p:blipFill>
        <p:spPr>
          <a:xfrm>
            <a:off x="539640" y="404640"/>
            <a:ext cx="714600" cy="87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129D-1E23-499B-A3ED-F8BC3ACD311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renc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Strenč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trencunovads.lv/</a:t>
            </a:r>
            <a:r>
              <a:rPr b="0" lang="lv-LV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 Vidzemes ziemeļaustru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tren&amp;ccaron;u novads"/>
          <p:cNvPicPr/>
          <p:nvPr/>
        </p:nvPicPr>
        <p:blipFill>
          <a:blip r:embed="rId1"/>
          <a:stretch/>
        </p:blipFill>
        <p:spPr>
          <a:xfrm>
            <a:off x="2627280" y="549360"/>
            <a:ext cx="4934160" cy="5000400"/>
          </a:xfrm>
          <a:prstGeom prst="rect">
            <a:avLst/>
          </a:prstGeom>
          <a:ln w="0">
            <a:noFill/>
          </a:ln>
        </p:spPr>
      </p:pic>
      <p:sp>
        <p:nvSpPr>
          <p:cNvPr id="90" name="Left Arrow 4"/>
          <p:cNvSpPr/>
          <p:nvPr/>
        </p:nvSpPr>
        <p:spPr>
          <a:xfrm rot="20580000">
            <a:off x="168120" y="3684240"/>
            <a:ext cx="235764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e46c0a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daba.gov.lv/upload/Image/Ilusracijas_IADT/DL_Seda_FOTO.jpg"/>
          <p:cNvPicPr/>
          <p:nvPr/>
        </p:nvPicPr>
        <p:blipFill>
          <a:blip r:embed="rId1"/>
          <a:stretch/>
        </p:blipFill>
        <p:spPr>
          <a:xfrm>
            <a:off x="3276720" y="3357720"/>
            <a:ext cx="4762440" cy="2676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das purv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7786800" cy="2836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ļa teritorijas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Jērcēn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lāņ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bas liegums Natura 2000 teritorija, ietilpst Ziemeļvidzemes biosfēras rezervāt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static.panoramio.com/photos/large/11109814.jpg"/>
          <p:cNvPicPr/>
          <p:nvPr/>
        </p:nvPicPr>
        <p:blipFill>
          <a:blip r:embed="rId1"/>
          <a:stretch/>
        </p:blipFill>
        <p:spPr>
          <a:xfrm>
            <a:off x="2916360" y="2565360"/>
            <a:ext cx="5209920" cy="3905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Novada up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68360" y="1628640"/>
            <a:ext cx="7775640" cy="2837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rāču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Nārve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V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0:57:27Z</dcterms:modified>
  <cp:revision>13</cp:revision>
  <dc:subject/>
  <dc:title>Viļānu novads</dc:title>
</cp:coreProperties>
</file>