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936-EA8E-488E-A188-BEB10593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BF9-75FF-4DD0-A698-3D7A976E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B213-D71D-4DCF-B3FB-97174553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231A-D5C4-431A-A276-3ADC8E81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C462-6E39-4CA6-BA72-4E9479BB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8FFB-E47E-4950-8834-1303F9FB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26B7-52E2-4180-96A9-DA4C6D74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708D-9DB7-47BE-870A-A348888E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9F4F-C443-49F3-B0F8-84ABF673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2FD1-BC87-4132-A75A-18837733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1AD1-C4A7-4B13-9A92-6EFA1DFE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BEF-AEB1-4E1B-B35E-439A5691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35DF-07B4-48D1-9648-C40F7889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4FA2-F425-4026-81C7-BA4F94ED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31E0-A0EC-4D03-BB23-46370FB0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227E-F78E-45AF-8B38-F5B02FD5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2F28-AFAF-43A4-8DFA-8ED2A6C0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3BB5-8B5F-4139-B61B-B74DF0FB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6FC-820B-4DAB-80CE-81D24179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3EFF-96C8-439A-99E1-151620FD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CEC7-6B52-4A26-BC2E-15DBD87D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988F-1F0D-4102-8E2E-91354257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9097-DDB5-4A56-BE74-1BE0B161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117-2398-4124-BC07-0CB41607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671B-5DB9-4326-BD66-93447DA4AA4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vilani.lv/images/vilanu-novads.png"/>
          <p:cNvPicPr/>
          <p:nvPr/>
        </p:nvPicPr>
        <p:blipFill>
          <a:blip r:embed="rId2"/>
          <a:stretch/>
        </p:blipFill>
        <p:spPr>
          <a:xfrm>
            <a:off x="8101080" y="189000"/>
            <a:ext cx="738000" cy="8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9D52-BE77-4F33-957B-4A220FDBCB8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la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Viļān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ilanunovads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474840"/>
            <a:ext cx="5838840" cy="5878440"/>
          </a:xfrm>
          <a:prstGeom prst="rect">
            <a:avLst/>
          </a:prstGeom>
          <a:ln w="0">
            <a:noFill/>
          </a:ln>
        </p:spPr>
      </p:pic>
      <p:sp>
        <p:nvSpPr>
          <p:cNvPr id="88" name="Left Arrow 4"/>
          <p:cNvSpPr/>
          <p:nvPr/>
        </p:nvSpPr>
        <p:spPr>
          <a:xfrm rot="19945800">
            <a:off x="347400" y="3485880"/>
            <a:ext cx="136836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gales augstienes rietumu un ziemeļrietumu nogāz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strumlatvijas zemien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ultūras piemin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vilani.lv/images/news/201401/horizontal/tsmtv9584s.jpg?v=1455621670"/>
          <p:cNvPicPr/>
          <p:nvPr/>
        </p:nvPicPr>
        <p:blipFill>
          <a:blip r:embed="rId1"/>
          <a:stretch/>
        </p:blipFill>
        <p:spPr>
          <a:xfrm>
            <a:off x="1187280" y="4292640"/>
            <a:ext cx="65534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ā atrodas vienpadsmit valsts aizsargājamie kultūras pieminekļ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ci arhitektū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ši arheoloģ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eviņi no tiem ir valsts nozī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upload.wikimedia.org/wikipedia/lv/thumb/f/fc/Malta_pie_Vi%C4%BC%C4%81niem.jpg/260px-Malta_pie_Vi%C4%BC%C4%81niem.jpg"/>
          <p:cNvPicPr/>
          <p:nvPr/>
        </p:nvPicPr>
        <p:blipFill>
          <a:blip r:embed="rId1"/>
          <a:stretch/>
        </p:blipFill>
        <p:spPr>
          <a:xfrm>
            <a:off x="4211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U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9640" y="1628640"/>
            <a:ext cx="8136000" cy="399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tas 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skā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itas mazās upītes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Kaževa, Varakļānu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trauts, Notra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erga, Lauza, u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Ezeru izvieto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0-26T09:11:09Z</dcterms:modified>
  <cp:revision>12</cp:revision>
  <dc:subject/>
  <dc:title>Viļānu novads</dc:title>
</cp:coreProperties>
</file>