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5324-0397-4BAD-A133-5DAF123CC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8C19-3B96-45F1-9BDB-72128B98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D946-387E-418C-AECD-423A27BD0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3DFA-89DC-45F0-A0B9-DD75CD0D2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558F-5D44-42D9-8D1C-07B722B1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1C59-4F3E-4B85-B582-F519E307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1934-9309-4B0A-A9BE-03D195AC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807A-4467-46EF-8D5E-1B200DEA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34BA-27D3-4EC9-92BE-29A5F6C0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B74A-A128-4F2B-9F80-5ED3AA9A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6007-7C35-4765-BD37-DD7EF598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D56C-99A6-48EE-9151-11814F7A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3DAF-29AC-4B7E-96F6-9643E5B6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EB6E-4BBA-4FE3-9AB0-90F09C61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40CE-B1BD-4A26-B082-16F77B47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7B38-4739-4881-9D44-62E385C23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EDAD-4C99-4BF6-8823-DD51799B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FBF4-9F30-4A86-BCDE-81A2691D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9F25-1EB4-4EDE-A01F-9B8B1A31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2A73-DBBA-4349-A612-CF5821CB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AF54-CEE6-4FED-94F5-E2028BE0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833F-0E64-4C8B-A614-0C36F38F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1F69-F252-4322-8EE1-5FD85823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31F3-5D7B-4133-9197-02C95D35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05EA-39B0-4C85-8C78-2E01A488767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s://upload.wikimedia.org/wikipedia/lv/thumb/b/b6/Stren%C4%8Du_novads_COA.png/75px-Stren%C4%8Du_novads_COA.png"/>
          <p:cNvPicPr/>
          <p:nvPr/>
        </p:nvPicPr>
        <p:blipFill>
          <a:blip r:embed="rId2"/>
          <a:stretch/>
        </p:blipFill>
        <p:spPr>
          <a:xfrm>
            <a:off x="539640" y="404640"/>
            <a:ext cx="714600" cy="876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E849-6BD0-4EB3-9861-3FF8A7CE1304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renc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Strenč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trencunovads.lv/</a:t>
            </a:r>
            <a:r>
              <a:rPr b="0" lang="lv-LV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 Vidzemes ziemeļaustrum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Stren&amp;ccaron;u novads"/>
          <p:cNvPicPr/>
          <p:nvPr/>
        </p:nvPicPr>
        <p:blipFill>
          <a:blip r:embed="rId1"/>
          <a:stretch/>
        </p:blipFill>
        <p:spPr>
          <a:xfrm>
            <a:off x="2627280" y="549360"/>
            <a:ext cx="4934160" cy="5000400"/>
          </a:xfrm>
          <a:prstGeom prst="rect">
            <a:avLst/>
          </a:prstGeom>
          <a:ln w="0">
            <a:noFill/>
          </a:ln>
        </p:spPr>
      </p:pic>
      <p:sp>
        <p:nvSpPr>
          <p:cNvPr id="90" name="Left Arrow 4"/>
          <p:cNvSpPr/>
          <p:nvPr/>
        </p:nvSpPr>
        <p:spPr>
          <a:xfrm rot="20580000">
            <a:off x="168120" y="3684240"/>
            <a:ext cx="2357640" cy="7524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e46c0a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www.daba.gov.lv/upload/Image/Ilusracijas_IADT/DL_Seda_FOTO.jpg"/>
          <p:cNvPicPr/>
          <p:nvPr/>
        </p:nvPicPr>
        <p:blipFill>
          <a:blip r:embed="rId1"/>
          <a:stretch/>
        </p:blipFill>
        <p:spPr>
          <a:xfrm>
            <a:off x="3276720" y="3357720"/>
            <a:ext cx="4762440" cy="2676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edas purv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7786800" cy="28368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ļa teritorijas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Jērcēnu pagas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lāņu pagas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bas liegums Natura 2000 teritorija, ietilpst Ziemeļvidzemes biosfēras rezervāt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static.panoramio.com/photos/large/11109814.jpg"/>
          <p:cNvPicPr/>
          <p:nvPr/>
        </p:nvPicPr>
        <p:blipFill>
          <a:blip r:embed="rId1"/>
          <a:stretch/>
        </p:blipFill>
        <p:spPr>
          <a:xfrm>
            <a:off x="2916360" y="2565360"/>
            <a:ext cx="5209920" cy="39052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Novada up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468360" y="1628640"/>
            <a:ext cx="7775640" cy="28371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Krāču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Nārve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e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V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1-03T10:57:27Z</dcterms:modified>
  <cp:revision>13</cp:revision>
  <dc:subject/>
  <dc:title>Viļānu novads</dc:title>
</cp:coreProperties>
</file>