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DA927-AB22-474A-9960-C2FF664B5F4F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apīram paredzētajā konteinerā drīkst mest biroja papīru, avīzes, grāmatas, kartona kastes un kārb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B4F65-062E-4623-B95C-1BC0D21385ED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7651-DFA9-45A0-8710-185483DE4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6207-14DE-49AE-A347-93EEC6228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9C4A-1F53-49B7-8424-0A263BFCC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F0B7-E43A-421A-BE59-D5A8CA99D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FFD7-67BE-4DDB-B075-C172EE107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46E4-860F-4570-8B98-4A7B4ED6E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E4BD-143C-4AF1-869D-4AF865571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1629-1062-460E-A421-2B6D9371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8770-73B3-471F-A24E-262B2387D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B7EC-926D-43DC-9C05-926A8647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A9D2-7DA6-4006-B108-7020D8AB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F2E2-10A4-4FE0-BFA7-14722DB9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53ED2-552A-4A6B-A3B7-8191D1C75BDF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apīra pārstrā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strādes cik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ār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resē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ērcēšana un smalcinā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ulpas apstrā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apīra gatav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apīra izstrādāju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6229440" y="2457360"/>
            <a:ext cx="1066680" cy="762120"/>
          </a:xfrm>
          <a:custGeom>
            <a:avLst/>
            <a:gdLst/>
            <a:ahLst/>
            <a:rect l="l" t="t" r="r" b="b"/>
            <a:pathLst>
              <a:path w="1066800" h="762000">
                <a:moveTo>
                  <a:pt x="0" y="0"/>
                </a:moveTo>
                <a:lnTo>
                  <a:pt x="714375" y="9525"/>
                </a:lnTo>
                <a:lnTo>
                  <a:pt x="876300" y="323850"/>
                </a:lnTo>
                <a:lnTo>
                  <a:pt x="1066800" y="238125"/>
                </a:lnTo>
                <a:lnTo>
                  <a:pt x="781050" y="723900"/>
                </a:lnTo>
                <a:lnTo>
                  <a:pt x="209550" y="762000"/>
                </a:lnTo>
                <a:lnTo>
                  <a:pt x="438150" y="647700"/>
                </a:lnTo>
                <a:lnTo>
                  <a:pt x="4762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6858000" y="3181320"/>
            <a:ext cx="743040" cy="809640"/>
          </a:xfrm>
          <a:custGeom>
            <a:avLst/>
            <a:gdLst/>
            <a:ahLst/>
            <a:rect l="l" t="t" r="r" b="b"/>
            <a:pathLst>
              <a:path w="742950" h="809625">
                <a:moveTo>
                  <a:pt x="0" y="295275"/>
                </a:moveTo>
                <a:lnTo>
                  <a:pt x="476250" y="0"/>
                </a:lnTo>
                <a:lnTo>
                  <a:pt x="733425" y="476250"/>
                </a:lnTo>
                <a:lnTo>
                  <a:pt x="742950" y="609600"/>
                </a:lnTo>
                <a:lnTo>
                  <a:pt x="685800" y="723900"/>
                </a:lnTo>
                <a:lnTo>
                  <a:pt x="581025" y="790575"/>
                </a:lnTo>
                <a:lnTo>
                  <a:pt x="381000" y="809625"/>
                </a:lnTo>
                <a:lnTo>
                  <a:pt x="266700" y="809625"/>
                </a:lnTo>
                <a:lnTo>
                  <a:pt x="0" y="29527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8"/>
          <p:cNvSpPr/>
          <p:nvPr/>
        </p:nvSpPr>
        <p:spPr>
          <a:xfrm>
            <a:off x="6477120" y="3886200"/>
            <a:ext cx="1028520" cy="952560"/>
          </a:xfrm>
          <a:custGeom>
            <a:avLst/>
            <a:gdLst/>
            <a:ahLst/>
            <a:rect l="l" t="t" r="r" b="b"/>
            <a:pathLst>
              <a:path w="1028700" h="952500">
                <a:moveTo>
                  <a:pt x="1028700" y="123825"/>
                </a:moveTo>
                <a:lnTo>
                  <a:pt x="981075" y="219075"/>
                </a:lnTo>
                <a:lnTo>
                  <a:pt x="276225" y="200025"/>
                </a:lnTo>
                <a:lnTo>
                  <a:pt x="266700" y="0"/>
                </a:lnTo>
                <a:lnTo>
                  <a:pt x="0" y="457200"/>
                </a:lnTo>
                <a:lnTo>
                  <a:pt x="266700" y="952500"/>
                </a:lnTo>
                <a:lnTo>
                  <a:pt x="276225" y="762000"/>
                </a:lnTo>
                <a:lnTo>
                  <a:pt x="695325" y="733425"/>
                </a:lnTo>
                <a:lnTo>
                  <a:pt x="1028700" y="12382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9"/>
          <p:cNvSpPr/>
          <p:nvPr/>
        </p:nvSpPr>
        <p:spPr>
          <a:xfrm>
            <a:off x="5286240" y="4029120"/>
            <a:ext cx="1038240" cy="619200"/>
          </a:xfrm>
          <a:custGeom>
            <a:avLst/>
            <a:gdLst/>
            <a:ahLst/>
            <a:rect l="l" t="t" r="r" b="b"/>
            <a:pathLst>
              <a:path w="1038225" h="619125">
                <a:moveTo>
                  <a:pt x="0" y="0"/>
                </a:moveTo>
                <a:lnTo>
                  <a:pt x="361950" y="619125"/>
                </a:lnTo>
                <a:lnTo>
                  <a:pt x="1038225" y="619125"/>
                </a:lnTo>
                <a:lnTo>
                  <a:pt x="1028700" y="38100"/>
                </a:lnTo>
                <a:lnTo>
                  <a:pt x="2857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reeform 10"/>
          <p:cNvSpPr/>
          <p:nvPr/>
        </p:nvSpPr>
        <p:spPr>
          <a:xfrm>
            <a:off x="5172120" y="3305160"/>
            <a:ext cx="847800" cy="685800"/>
          </a:xfrm>
          <a:custGeom>
            <a:avLst/>
            <a:gdLst/>
            <a:ahLst/>
            <a:rect l="l" t="t" r="r" b="b"/>
            <a:pathLst>
              <a:path w="847725" h="685800">
                <a:moveTo>
                  <a:pt x="28575" y="0"/>
                </a:moveTo>
                <a:lnTo>
                  <a:pt x="581025" y="9525"/>
                </a:lnTo>
                <a:lnTo>
                  <a:pt x="847725" y="466725"/>
                </a:lnTo>
                <a:lnTo>
                  <a:pt x="685800" y="390525"/>
                </a:lnTo>
                <a:lnTo>
                  <a:pt x="476250" y="666750"/>
                </a:lnTo>
                <a:lnTo>
                  <a:pt x="333375" y="685800"/>
                </a:lnTo>
                <a:lnTo>
                  <a:pt x="180975" y="657225"/>
                </a:lnTo>
                <a:lnTo>
                  <a:pt x="95250" y="590550"/>
                </a:lnTo>
                <a:lnTo>
                  <a:pt x="57150" y="485775"/>
                </a:lnTo>
                <a:lnTo>
                  <a:pt x="0" y="371475"/>
                </a:lnTo>
                <a:lnTo>
                  <a:pt x="180975" y="114300"/>
                </a:lnTo>
                <a:lnTo>
                  <a:pt x="28575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Freeform 11"/>
          <p:cNvSpPr/>
          <p:nvPr/>
        </p:nvSpPr>
        <p:spPr>
          <a:xfrm>
            <a:off x="5562720" y="2486160"/>
            <a:ext cx="780840" cy="847440"/>
          </a:xfrm>
          <a:custGeom>
            <a:avLst/>
            <a:gdLst/>
            <a:ahLst/>
            <a:rect l="l" t="t" r="r" b="b"/>
            <a:pathLst>
              <a:path w="781050" h="847725">
                <a:moveTo>
                  <a:pt x="0" y="533400"/>
                </a:moveTo>
                <a:lnTo>
                  <a:pt x="285750" y="9525"/>
                </a:lnTo>
                <a:lnTo>
                  <a:pt x="561975" y="0"/>
                </a:lnTo>
                <a:lnTo>
                  <a:pt x="676275" y="114300"/>
                </a:lnTo>
                <a:lnTo>
                  <a:pt x="781050" y="285750"/>
                </a:lnTo>
                <a:lnTo>
                  <a:pt x="485775" y="847725"/>
                </a:lnTo>
                <a:lnTo>
                  <a:pt x="0" y="5334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s konteinerā drīkst mest tikai tīru un sausu papīra un kartona iepakojum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artona iepakojuma kastes pirms izmešanas jāsaplac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kavu, spirāļu un līplentu atdalīšana pirms izmešanas šķirošanas konteinerā nav obligāta – tās netraucē pārstrādes procesam, jo nederīgie piemaisījumi tiek atdalīti un izfiltrē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kont_1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140360" y="2060640"/>
            <a:ext cx="331128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Uz šķirošanas līnijas viss konteinera saturs tiek sašķirots pa dažādiem papīra veidi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ugstāka vērtība ir tīrām otrreizējām izejvielām bez citu materiālu piemaisījumiem, tādēļ šķirošanas līnijās papīrs tiek sašķirots pa veidiem, atdalot, piemēram, biroja papīru un gofrēto karton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res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teriālus sapresē ķīpās un nogādā uz pārstrādes uzņēmumi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atvijā vienīgā papīra pārstrādes rūpnīca ir papīrfabrika «Līgatne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kulatūra pārstrādei tiek vesta arī uz Lietuvu un citām valstī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https://encrypted-tbn1.gstatic.com/images?q=tbn:ANd9GcRwokDXEmj8za7er067E3fKt5w9YfRMrD8Z_9xROTwuL2hQuZyu"/>
          <p:cNvPicPr/>
          <p:nvPr/>
        </p:nvPicPr>
        <p:blipFill>
          <a:blip r:embed="rId1"/>
          <a:stretch/>
        </p:blipFill>
        <p:spPr>
          <a:xfrm>
            <a:off x="4716360" y="3284640"/>
            <a:ext cx="36720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Mērcēšana un smalcinā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599840"/>
            <a:ext cx="77868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Milzīgā blenderī jeb hidrošķaidītājā sašķiroto papīru mērcē un sasmalcina putrveida mas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Paper-pulp-soak.jpg"/>
          <p:cNvPicPr/>
          <p:nvPr/>
        </p:nvPicPr>
        <p:blipFill>
          <a:blip r:embed="rId1"/>
          <a:stretch/>
        </p:blipFill>
        <p:spPr>
          <a:xfrm>
            <a:off x="2195640" y="2852640"/>
            <a:ext cx="496872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ulpas apstrā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pulpas masas vispirms atdala krāsviel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ēc tam šķiedras balina, tīra, sijā un filtrē, līdz tās derīgas papīra ražošana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Att&amp;emacr;lu rezult&amp;amacr;ti vaic&amp;amacr;jumam “l&amp;imacr;gatnes pap&amp;imacr;rfabrika”"/>
          <p:cNvPicPr/>
          <p:nvPr/>
        </p:nvPicPr>
        <p:blipFill>
          <a:blip r:embed="rId1"/>
          <a:stretch/>
        </p:blipFill>
        <p:spPr>
          <a:xfrm>
            <a:off x="3110040" y="3959280"/>
            <a:ext cx="283824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apīra gatav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apīra masu plānā kārtiņā klāj uz lentes, žāvē un pres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Celulozes šķiedras ir iespējams pārstrādāt līdz pat septiņām reizē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Att&amp;emacr;lu rezult&amp;amacr;ti vaic&amp;amacr;jumam “l&amp;imacr;gatnes pap&amp;imacr;rfabrika”"/>
          <p:cNvPicPr/>
          <p:nvPr/>
        </p:nvPicPr>
        <p:blipFill>
          <a:blip r:embed="rId1"/>
          <a:stretch/>
        </p:blipFill>
        <p:spPr>
          <a:xfrm>
            <a:off x="4356000" y="1916280"/>
            <a:ext cx="418644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apīra izstrādājum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pārstrādāta papīra top gofrētā kartona kastes, ietinamais papīrs, biroja papīrs, akvareļu papīrs un citi izstrādāju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arallelogram 15"/>
          <p:cNvSpPr/>
          <p:nvPr/>
        </p:nvSpPr>
        <p:spPr>
          <a:xfrm rot="20785800">
            <a:off x="2122560" y="3771720"/>
            <a:ext cx="2484360" cy="1511280"/>
          </a:xfrm>
          <a:prstGeom prst="parallelogram">
            <a:avLst>
              <a:gd name="adj" fmla="val 25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arallelogram 17"/>
          <p:cNvSpPr/>
          <p:nvPr/>
        </p:nvSpPr>
        <p:spPr>
          <a:xfrm rot="5400000">
            <a:off x="3967920" y="3937680"/>
            <a:ext cx="1835280" cy="973440"/>
          </a:xfrm>
          <a:prstGeom prst="parallelogram">
            <a:avLst>
              <a:gd name="adj" fmla="val 2495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reeform 6"/>
          <p:cNvSpPr/>
          <p:nvPr/>
        </p:nvSpPr>
        <p:spPr>
          <a:xfrm>
            <a:off x="2352600" y="5051520"/>
            <a:ext cx="3029040" cy="809640"/>
          </a:xfrm>
          <a:custGeom>
            <a:avLst/>
            <a:gdLst/>
            <a:ahLst/>
            <a:rect l="l" t="t" r="r" b="b"/>
            <a:pathLst>
              <a:path w="3028013" h="809469">
                <a:moveTo>
                  <a:pt x="0" y="524656"/>
                </a:moveTo>
                <a:lnTo>
                  <a:pt x="2068642" y="0"/>
                </a:lnTo>
                <a:lnTo>
                  <a:pt x="3028013" y="284813"/>
                </a:lnTo>
                <a:lnTo>
                  <a:pt x="944380" y="809469"/>
                </a:lnTo>
                <a:lnTo>
                  <a:pt x="0" y="524656"/>
                </a:lnTo>
                <a:close/>
              </a:path>
            </a:pathLst>
          </a:custGeom>
          <a:solidFill>
            <a:srgbClr val="17375e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arallelogram 18"/>
          <p:cNvSpPr/>
          <p:nvPr/>
        </p:nvSpPr>
        <p:spPr>
          <a:xfrm rot="20785800">
            <a:off x="3120840" y="4044600"/>
            <a:ext cx="2484360" cy="1512720"/>
          </a:xfrm>
          <a:prstGeom prst="parallelogram">
            <a:avLst>
              <a:gd name="adj" fmla="val 24992"/>
            </a:avLst>
          </a:prstGeom>
          <a:solidFill>
            <a:srgbClr val="95b3d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10:30:24Z</dcterms:created>
  <dc:creator>User</dc:creator>
  <dc:description/>
  <dc:language>en-US</dc:language>
  <cp:lastModifiedBy>Admin</cp:lastModifiedBy>
  <dcterms:modified xsi:type="dcterms:W3CDTF">2015-04-17T11:18:42Z</dcterms:modified>
  <cp:revision>28</cp:revision>
  <dc:subject/>
  <dc:title>Papīra pārstrāde</dc:title>
</cp:coreProperties>
</file>