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F6ED-3B0C-4FEB-BFD6-DDE292EB8F8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biroja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221C-CE94-4E51-B20D-E5B10BE6EB7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6F53-1B46-4F22-9FA6-5D43D9CB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F644-5CA0-4470-969A-D48B31D6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756B-7939-4FD8-A99D-B7E9449E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CDAB-F89A-457F-9220-29B2C70D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A58F-B359-43B6-A025-7CDEF74E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D0D0-88C5-4B63-B8A5-8C392D9F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89EB-EE36-41FE-8B1E-38091265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288F-8B38-4B4A-9B9F-2963E5BF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41BA-01E8-451F-AD12-D8BF550D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B91-A4EE-438E-AE87-12AA14F7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1153-667C-408E-BE4F-E509F50A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C356-ABE9-4A14-9235-22D3D212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0793-B520-4F23-8116-368D6AE63BE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konteinerā drīkst mest tikai tīru un sausu papīra un kartona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rtona iepakojuma kastes pirms izmešanas jāsaplac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kavu, spirāļu un līplentu atdalīšana pirms izmešanas šķirošanas konteinerā nav obligāta – tās netraucē pārstrādes procesam, jo nederīgie piemaisījumi tiek atdalīti un izfiltrē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kont_1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140360" y="2060640"/>
            <a:ext cx="3311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viss konteinera saturs tiek sašķirots pa dažādiem papīra veid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gstāka vērtība ir tīrām otrreizējām izejvielām bez citu materiālu piemaisījumiem, tādēļ šķirošanas līnijās papīrs tiek sašķirots pa veidiem, atdalot, piemēram, biroja papīru un gofrēto kart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teriālus sapresē ķīpās un nogādā uz pārstrādes uzņēmum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ā vienīgā papīra pārstrādes rūpnīca ir papīrfabrika «Līgatne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ulatūra pārstrādei tiek vesta arī uz Lietuvu un citām valstī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s://encrypted-tbn1.gstatic.com/images?q=tbn:ANd9GcRwokDXEmj8za7er067E3fKt5w9YfRMrD8Z_9xROTwuL2hQuZyu"/>
          <p:cNvPicPr/>
          <p:nvPr/>
        </p:nvPicPr>
        <p:blipFill>
          <a:blip r:embed="rId1"/>
          <a:stretch/>
        </p:blipFill>
        <p:spPr>
          <a:xfrm>
            <a:off x="4716360" y="328464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7786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ilzīgā blenderī jeb hidrošķaidītājā sašķiroto papīru mērcē un sasmalcina putrveida mas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Paper-pulp-soak.jpg"/>
          <p:cNvPicPr/>
          <p:nvPr/>
        </p:nvPicPr>
        <p:blipFill>
          <a:blip r:embed="rId1"/>
          <a:stretch/>
        </p:blipFill>
        <p:spPr>
          <a:xfrm>
            <a:off x="2195640" y="2852640"/>
            <a:ext cx="49687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ulpas masas vispirms atdala krāsvi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tam šķiedras balina, tīra, sijā un filtrē, līdz tās derīgas papīra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3110040" y="3959280"/>
            <a:ext cx="28382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apīra masu plānā kārtiņā klāj uz lentes, žāvē un pres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elulozes šķiedras ir iespējams pārstrādāt līdz pat septiņām reiz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4356000" y="1916280"/>
            <a:ext cx="4186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ārstrādāta papīra top gofrētā kartona kastes, ietinamais papīrs, biroja papīrs, akvareļu papīrs un citi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15"/>
          <p:cNvSpPr/>
          <p:nvPr/>
        </p:nvSpPr>
        <p:spPr>
          <a:xfrm rot="20785800">
            <a:off x="2122560" y="3771720"/>
            <a:ext cx="2484360" cy="1511280"/>
          </a:xfrm>
          <a:prstGeom prst="parallelogram">
            <a:avLst>
              <a:gd name="adj" fmla="val 25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arallelogram 17"/>
          <p:cNvSpPr/>
          <p:nvPr/>
        </p:nvSpPr>
        <p:spPr>
          <a:xfrm rot="5400000">
            <a:off x="3967920" y="3937680"/>
            <a:ext cx="1835280" cy="973440"/>
          </a:xfrm>
          <a:prstGeom prst="parallelogram">
            <a:avLst>
              <a:gd name="adj" fmla="val 24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6"/>
          <p:cNvSpPr/>
          <p:nvPr/>
        </p:nvSpPr>
        <p:spPr>
          <a:xfrm>
            <a:off x="2352600" y="5051520"/>
            <a:ext cx="3029040" cy="809640"/>
          </a:xfrm>
          <a:custGeom>
            <a:avLst/>
            <a:gdLst/>
            <a:ahLst/>
            <a:rect l="l" t="t" r="r" b="b"/>
            <a:pathLst>
              <a:path w="3028013" h="809469">
                <a:moveTo>
                  <a:pt x="0" y="524656"/>
                </a:moveTo>
                <a:lnTo>
                  <a:pt x="2068642" y="0"/>
                </a:lnTo>
                <a:lnTo>
                  <a:pt x="3028013" y="284813"/>
                </a:lnTo>
                <a:lnTo>
                  <a:pt x="944380" y="809469"/>
                </a:lnTo>
                <a:lnTo>
                  <a:pt x="0" y="524656"/>
                </a:lnTo>
                <a:close/>
              </a:path>
            </a:pathLst>
          </a:custGeom>
          <a:solidFill>
            <a:srgbClr val="17375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arallelogram 18"/>
          <p:cNvSpPr/>
          <p:nvPr/>
        </p:nvSpPr>
        <p:spPr>
          <a:xfrm rot="20785800">
            <a:off x="3120840" y="4044600"/>
            <a:ext cx="2484360" cy="1512720"/>
          </a:xfrm>
          <a:prstGeom prst="parallelogram">
            <a:avLst>
              <a:gd name="adj" fmla="val 24992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18:42Z</dcterms:modified>
  <cp:revision>28</cp:revision>
  <dc:subject/>
  <dc:title>Papīra pārstrāde</dc:title>
</cp:coreProperties>
</file>