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3EAD9-DFA7-49AA-B147-64A56143FD5D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17394-CC18-4C9F-86F3-E267DFB91AE2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805FF-F55D-4CBA-8234-85875DB35017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39535-BAA9-4455-8197-CC6B7EC9A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186BA-3391-4D47-9BA0-FEC197634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1854D-A4EB-440B-929B-67D856554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850A0-B837-49AF-BFD6-ED90503C0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82490-B294-4FEA-8A7F-243E231C3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244B3-EE28-4AAA-AD27-490C161EC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2D023-03CD-4A96-8D9E-AA82FF558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90DE1-A40E-4E7C-B9EB-E315EB3C2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E7D57-9CA9-434C-9265-61236B885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453F3-EE6B-4DDD-8B62-6740D9F3E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C79B3-E554-4B31-AEED-7EA9CF46D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C9DC4-2FF2-4742-AE6E-9787DBE97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55E3C-0BAB-490A-A7D1-ACAB0B7CD17C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24A7A-2F65-4539-9EC1-4261009D27C5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lob.lv/download/buritis_zilitem_melnajam_muskerajam.pdf" TargetMode="External"/><Relationship Id="rId2" Type="http://schemas.openxmlformats.org/officeDocument/2006/relationships/hyperlink" Target="http://www.lob.lv/download/buritis_zilitem_melnajam_muskerajam.pdf" TargetMode="External"/><Relationship Id="rId3" Type="http://schemas.openxmlformats.org/officeDocument/2006/relationships/hyperlink" Target="http://www.lob.lv/download/buritis_zilitem_melnajam_muskerajam.pdf" TargetMode="External"/><Relationship Id="rId4" Type="http://schemas.openxmlformats.org/officeDocument/2006/relationships/hyperlink" Target="http://www.lob.lv/download/buritis_zilitem_melnajam_muskerajam.pdf" TargetMode="External"/><Relationship Id="rId5" Type="http://schemas.openxmlformats.org/officeDocument/2006/relationships/hyperlink" Target="http://www.lob.lv/download/buritis_zilitem_melnajam_muskerajam.pdf" TargetMode="External"/><Relationship Id="rId6" Type="http://schemas.openxmlformats.org/officeDocument/2006/relationships/hyperlink" Target="http://www.lob.lv/download/buritis_zilitem_melnajam_muskerajam.pdf" TargetMode="External"/><Relationship Id="rId7" Type="http://schemas.openxmlformats.org/officeDocument/2006/relationships/hyperlink" Target="http://www.lob.lv/download/buritis_zilitem_melnajam_muskerajam.pdf" TargetMode="External"/><Relationship Id="rId8" Type="http://schemas.openxmlformats.org/officeDocument/2006/relationships/hyperlink" Target="http://www.latvijasdaba.lv/putni/parus-caeruleus-l/" TargetMode="External"/><Relationship Id="rId9" Type="http://schemas.openxmlformats.org/officeDocument/2006/relationships/hyperlink" Target="http://www.latvijasdaba.lv/putni/parus-caeruleus-l/" TargetMode="External"/><Relationship Id="rId10" Type="http://schemas.openxmlformats.org/officeDocument/2006/relationships/hyperlink" Target="http://www.latvijasdaba.lv/putni/parus-caeruleus-l/" TargetMode="External"/><Relationship Id="rId11" Type="http://schemas.openxmlformats.org/officeDocument/2006/relationships/hyperlink" Target="http://www.latvijasdaba.lv/putni/parus-caeruleus-l/" TargetMode="External"/><Relationship Id="rId1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zILZĪLĪ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Arial"/>
              </a:rPr>
              <a:t>Latvijas put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8" descr="C:\Users\User\AppData\Local\Microsoft\Windows\Temporary Internet Files\Content.IE5\8RKKZONO\MC900391474[1].wmf"/>
          <p:cNvPicPr/>
          <p:nvPr/>
        </p:nvPicPr>
        <p:blipFill>
          <a:blip r:embed="rId1"/>
          <a:stretch/>
        </p:blipFill>
        <p:spPr>
          <a:xfrm>
            <a:off x="6443640" y="1052640"/>
            <a:ext cx="1814400" cy="164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aug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1EA148-34F6-43EC-9AB6-7C9FA063C2A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kreju formas un izmēr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457200" y="1600200"/>
          <a:ext cx="8229600" cy="336564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67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22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pic>
        <p:nvPicPr>
          <p:cNvPr id="73" name="Picture 24" descr="Pic1.png"/>
          <p:cNvPicPr/>
          <p:nvPr/>
        </p:nvPicPr>
        <p:blipFill>
          <a:blip r:embed="rId1"/>
          <a:stretch/>
        </p:blipFill>
        <p:spPr>
          <a:xfrm>
            <a:off x="1116000" y="3068640"/>
            <a:ext cx="1176480" cy="13176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5" descr="Pic2.png"/>
          <p:cNvPicPr/>
          <p:nvPr/>
        </p:nvPicPr>
        <p:blipFill>
          <a:blip r:embed="rId2"/>
          <a:stretch/>
        </p:blipFill>
        <p:spPr>
          <a:xfrm>
            <a:off x="3995640" y="3068640"/>
            <a:ext cx="1176480" cy="13176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6" descr="Pic3.png"/>
          <p:cNvPicPr/>
          <p:nvPr/>
        </p:nvPicPr>
        <p:blipFill>
          <a:blip r:embed="rId3"/>
          <a:stretch/>
        </p:blipFill>
        <p:spPr>
          <a:xfrm>
            <a:off x="6659640" y="3068640"/>
            <a:ext cx="1182600" cy="1322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aug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117960-8E14-46CE-B9C9-4701581FD61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zmantotie avo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://lv.wikipedia.org/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wiki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/Zilzīlī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5"/>
              </a:rPr>
              <a:t>http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6"/>
              </a:rPr>
              <a:t>://www.lob.lv/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7"/>
              </a:rPr>
              <a:t>download/buritis_zilitem_melnajam_muskerajam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8"/>
              </a:rPr>
              <a:t>http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9"/>
              </a:rPr>
              <a:t>://www.latvijasdaba.lv/putni/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10"/>
              </a:rPr>
              <a:t>parus-caeruleus-l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11"/>
              </a:rPr>
              <a:t>/</a:t>
            </a: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aug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6006AF-A88B-4D8E-936E-608B58D850C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eradum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aug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2441EA-9102-4088-A2D5-24319078BF0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tvij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aug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56FFB7-31A0-4570-880F-4CC98B97E7B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Iss rksturoju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6840" y="1599840"/>
            <a:ext cx="8147160" cy="42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ilzīlīte ir Latvijā ļoti bieži sastopama zvirbuļveidīgo kārtas putnu sug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zdala 11 zilzīlīšu pasug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3" descr="bt2.png"/>
          <p:cNvPicPr/>
          <p:nvPr/>
        </p:nvPicPr>
        <p:blipFill>
          <a:blip r:embed="rId1"/>
          <a:stretch/>
        </p:blipFill>
        <p:spPr>
          <a:xfrm>
            <a:off x="2050920" y="4437000"/>
            <a:ext cx="5907240" cy="2095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aug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C35D5C-F0C4-4308-AEA0-58ABD6FCDC6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zplatīb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51228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100" spc="-1" strike="noStrike">
                <a:solidFill>
                  <a:srgbClr val="000000"/>
                </a:solidFill>
                <a:latin typeface="Arial"/>
              </a:rPr>
              <a:t>Visā Eiropā, izņemot pašus ziemeļus un augstkalnu apgabalu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100" spc="-1" strike="noStrike">
                <a:solidFill>
                  <a:srgbClr val="000000"/>
                </a:solidFill>
                <a:latin typeface="Arial"/>
              </a:rPr>
              <a:t>Kanāriju salas, Ziemeļāfrika un Mazāzija un vietām citur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100" spc="-1" strike="noStrike">
                <a:solidFill>
                  <a:srgbClr val="000000"/>
                </a:solidFill>
                <a:latin typeface="Arial"/>
              </a:rPr>
              <a:t>Ziemo ligzdošanas areālā, tomēr daļa putnu rudenī klejo uz dienvidiem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zilzilite2.png"/>
          <p:cNvPicPr/>
          <p:nvPr/>
        </p:nvPicPr>
        <p:blipFill>
          <a:blip r:embed="rId1"/>
          <a:stretch/>
        </p:blipFill>
        <p:spPr>
          <a:xfrm>
            <a:off x="6027840" y="0"/>
            <a:ext cx="3116160" cy="3638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aug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F8C162-8FE5-4EEC-BA1D-8FDBCB17E05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zska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826920" y="1628640"/>
            <a:ext cx="7561440" cy="23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Maza izmēra zīlīte ar tievu un īsu knābī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Ķermeņa garums 11—12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Svars 7,5—14,7 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aug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732726-1C67-440F-BC22-22EE8DA3A18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rāsoju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684000" y="1600200"/>
            <a:ext cx="8002440" cy="4781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Spilgti zila galvas augšdaļa, kas kontrastē ar zīlītēm raksturīgajiem baltajiem vaigi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Sejas zīmējumu veido tumši zilas spalv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Spārni, aste un pakausis zilgani, mugura olīvzaļ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Vēders dzeltens ar nelielu tumšu josl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Knābis melns, kājas pelēk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aug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F9DA0C-132E-4022-92C6-D463747D70A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ūrītis zīlītē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33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ūrīšus izvieto dažādos mežos, parkos, dārzos un apstādījum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žos tajos visbiežāk ligzdo lielā zīlīte, bet retāk cekulzīlīte un zilzīlī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ūrīšiem noteikti jābūt atveramiem, lai tos varētu regulāri iztīrī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3" descr="strazds5.png"/>
          <p:cNvPicPr/>
          <p:nvPr/>
        </p:nvPicPr>
        <p:blipFill>
          <a:blip r:embed="rId1"/>
          <a:stretch/>
        </p:blipFill>
        <p:spPr>
          <a:xfrm>
            <a:off x="6443640" y="4581360"/>
            <a:ext cx="1511280" cy="1919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aug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1CA196-9A41-4BFB-909F-2A941490CF4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ūrīša izgatavoš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32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Būrīši jāizgatavo no 2–2,5 cm bieziem sausiem neēvelētiem dēļi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Jumtiņu ieteicams nosegt ar skārdu vai ruberoī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Būrīša dibens vienmēr jāpienaglo starp sienām, nevis no apakš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6" descr="Pt2.png"/>
          <p:cNvPicPr/>
          <p:nvPr/>
        </p:nvPicPr>
        <p:blipFill>
          <a:blip r:embed="rId1"/>
          <a:stretch/>
        </p:blipFill>
        <p:spPr>
          <a:xfrm>
            <a:off x="3203640" y="1773360"/>
            <a:ext cx="5716440" cy="4286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aug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C05E03-F7A5-4F36-9A17-E808834B04A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ūrītis un tā novietoš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Content Placeholder 36" descr="Picture1.png"/>
          <p:cNvPicPr/>
          <p:nvPr/>
        </p:nvPicPr>
        <p:blipFill>
          <a:blip r:embed="rId1"/>
          <a:stretch/>
        </p:blipFill>
        <p:spPr>
          <a:xfrm>
            <a:off x="790560" y="1724040"/>
            <a:ext cx="3371760" cy="427824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ābūt atveram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aug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2263C7-B893-41C6-BDD3-9F99C6BA0A0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ūrīša izmēr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aug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0BFF7B-BA61-4D07-A3A4-45F121F05D5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31T08:57:42Z</dcterms:created>
  <dc:creator>User</dc:creator>
  <dc:description/>
  <dc:language>en-US</dc:language>
  <cp:lastModifiedBy>peterisz</cp:lastModifiedBy>
  <dcterms:modified xsi:type="dcterms:W3CDTF">2013-02-04T14:42:06Z</dcterms:modified>
  <cp:revision>112</cp:revision>
  <dc:subject/>
  <dc:title>Slide 1</dc:title>
</cp:coreProperties>
</file>