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3740-2E60-4766-A029-5900A863B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0399-2B77-4AE5-8AC5-137A82F1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8E4C-1EEC-4F31-8B08-9B4DF53FA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1E78-6F1F-4E38-8BB9-C8AF522BA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B287-738B-466B-9158-14AFBBD9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DCE8-9591-4358-8D55-83A57E17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A670-DA64-41E3-8A69-A6D91F75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229B-EFE1-4E7A-B3D7-AB03222E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19A7-717A-4F02-BB4E-7F672774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3ACC-27B7-4E9A-9733-2A6A98EA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1401-E770-4693-BE0D-B66F746D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A8F0-A259-4938-86B7-E9B18455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AC1F-990C-4661-B2AF-23E234E9B245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Put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898989"/>
                </a:solidFill>
                <a:latin typeface="Arial"/>
              </a:rPr>
              <a:t>Dažādās valodā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Mājas zvirbul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sser domesti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koduvarbl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naminis žvirb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house spa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Haussper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овой вороб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Lielā 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rus maj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rasvati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didžioji zy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great 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Kohlme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ая сини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Mājas straz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Sturnus vulg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kuldnok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varnė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common star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вор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il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rus caeru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siniti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mėlynoji zy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blue 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– Blaume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зоре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Svī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Apus a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ilja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kliedzēj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screa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crea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к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09:17:07Z</dcterms:created>
  <dc:creator>User</dc:creator>
  <dc:description/>
  <dc:language>en-US</dc:language>
  <cp:lastModifiedBy>User</cp:lastModifiedBy>
  <dcterms:modified xsi:type="dcterms:W3CDTF">2012-12-13T17:57:39Z</dcterms:modified>
  <cp:revision>9</cp:revision>
  <dc:subject/>
  <dc:title>Slide 1</dc:title>
</cp:coreProperties>
</file>