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E8A5-F590-4621-AC6C-A06A861CCBE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2CE1-7578-4B80-83DE-DD068DBA9E5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1108-2B0D-4C36-AFAA-A5C44F01CDD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73C8-5D29-4B7D-9E00-98FD3CA9E7F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967F-82D8-40E6-BE59-2C620B968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3391-B3B6-4AF1-B2A5-182E1D6C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0291-F859-4480-839B-F3DA16514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9751-21E7-4360-99D3-AD5825CEE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93B6-CBDE-47CC-8BDD-D5A2CE45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2ABB-B768-4709-8F1B-E89D452D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AD6B-2ED1-4BDA-A4EF-0B60B78A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9071-1219-40C0-B526-F1534F1F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09BC-BCC2-4DCE-92D8-8D19C726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07C0-FF58-4C9E-B2E9-A9B159F6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3C4D-53EC-430A-A52B-47B9C151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C926-1B70-406A-8EE2-635FF1A2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ACB4-9B9C-489C-A66B-57E8F8AD7FC9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497A-EA33-4E7F-8B37-9CD33575348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utni.lv/" TargetMode="External"/><Relationship Id="rId2" Type="http://schemas.openxmlformats.org/officeDocument/2006/relationships/hyperlink" Target="http://www.putni.lv/" TargetMode="External"/><Relationship Id="rId3" Type="http://schemas.openxmlformats.org/officeDocument/2006/relationships/hyperlink" Target="http://www.putni.lv/" TargetMode="External"/><Relationship Id="rId4" Type="http://schemas.openxmlformats.org/officeDocument/2006/relationships/hyperlink" Target="http://www.putni.lv/" TargetMode="External"/><Relationship Id="rId5" Type="http://schemas.openxmlformats.org/officeDocument/2006/relationships/hyperlink" Target="http://www.putni.lv/" TargetMode="External"/><Relationship Id="rId6" Type="http://schemas.openxmlformats.org/officeDocument/2006/relationships/hyperlink" Target="http://www.lob.lv/download/buritis_zilitem_melnajam_muskerajam.pdf" TargetMode="External"/><Relationship Id="rId7" Type="http://schemas.openxmlformats.org/officeDocument/2006/relationships/hyperlink" Target="http://www.lob.lv/download/buritis_zilitem_melnajam_muskerajam.pdf" TargetMode="External"/><Relationship Id="rId8" Type="http://schemas.openxmlformats.org/officeDocument/2006/relationships/hyperlink" Target="http://www.lob.lv/download/buritis_zilitem_melnajam_muskerajam.pdf" TargetMode="External"/><Relationship Id="rId9" Type="http://schemas.openxmlformats.org/officeDocument/2006/relationships/hyperlink" Target="http://www.lob.lv/download/buritis_zilitem_melnajam_muskerajam.pdf" TargetMode="External"/><Relationship Id="rId10" Type="http://schemas.openxmlformats.org/officeDocument/2006/relationships/hyperlink" Target="http://www.lob.lv/download/buritis_zilitem_melnajam_muskerajam.pdf" TargetMode="External"/><Relationship Id="rId11" Type="http://schemas.openxmlformats.org/officeDocument/2006/relationships/hyperlink" Target="http://www.lob.lv/download/buritis_zilitem_melnajam_muskerajam.pdf" TargetMode="External"/><Relationship Id="rId12" Type="http://schemas.openxmlformats.org/officeDocument/2006/relationships/hyperlink" Target="http://www.lob.lv/download/buritis_zilitem_melnajam_muskerajam.pdf" TargetMode="External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ājas straz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3088-CA8B-4102-96EE-AF0C126E56A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p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Pt3.png"/>
          <p:cNvPicPr/>
          <p:nvPr/>
        </p:nvPicPr>
        <p:blipFill>
          <a:blip r:embed="rId1"/>
          <a:stretch/>
        </p:blipFill>
        <p:spPr>
          <a:xfrm>
            <a:off x="2987640" y="1628640"/>
            <a:ext cx="5830920" cy="428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959A-780E-4631-AB84-E47F1096E7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lv.wikipedia.org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iki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Mājas_straz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download/buritis_majas_strazds_svir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sturnus-vulgari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C:\Users\User\AppData\Local\Microsoft\Windows\Temporary Internet Files\Content.IE5\5K36RP0L\MC900431604[1].png"/>
          <p:cNvPicPr/>
          <p:nvPr/>
        </p:nvPicPr>
        <p:blipFill>
          <a:blip r:embed="rId13"/>
          <a:stretch/>
        </p:blipFill>
        <p:spPr>
          <a:xfrm>
            <a:off x="5435640" y="42210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B473-373B-4C57-9960-773EDB07DA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rad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4DC4-887F-496D-9833-8F6B9FC8B9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k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B903-C753-4669-8948-ECC30EA18A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u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8F36-1AF3-44BD-8114-A820136D9E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Īss ra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599840"/>
            <a:ext cx="814716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ājas strazds ir zvirbuļveidīgo kārtas dziedātājput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 ir viens no visbiežāk sastopamajiem putniem pasaul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strazds2.png"/>
          <p:cNvPicPr/>
          <p:nvPr/>
        </p:nvPicPr>
        <p:blipFill>
          <a:blip r:embed="rId1"/>
          <a:stretch/>
        </p:blipFill>
        <p:spPr>
          <a:xfrm>
            <a:off x="3780000" y="3284640"/>
            <a:ext cx="5111640" cy="247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6B12-D70D-4755-9E2A-FD7A4D206C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26920" y="1412640"/>
            <a:ext cx="5545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spalvojums melns ar tonētu spīdumu zaļā vai purpura krāsā ar nelieliem gaišiem raibumiņ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ums 19-2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ārnu atvērums 37-4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ars 60 - 90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06BF-657C-4998-B0C7-A2C25F2113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aņ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4000" y="1600200"/>
            <a:ext cx="8002440" cy="456552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trazdu dziesmas ir diezgan sarežģītas un izkoptas, bagātinātas ar dažādiem svilpieniem, klakšķiem un čirkstoņā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ājas strazdam ir bara sasaukšanās sauciens, briesmu sauciens, uzbrukuma sauciens, vienkārši vidžināšana un kopošanās sauci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ājas strazds var atdarināt citus put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C4F6-6BDC-48A1-8068-373410EE3D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ē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835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ājas strazdi ir visēdā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zdošanas laikā tie ir izteikti kukaiņēdā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dzoties mazuļu barošanai, mājas strazdi labprāt barojas arī ar graudiem, sēklām, augļiem, ogām, ziedu nektāru u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strazds3.png"/>
          <p:cNvPicPr/>
          <p:nvPr/>
        </p:nvPicPr>
        <p:blipFill>
          <a:blip r:embed="rId1"/>
          <a:stretch/>
        </p:blipFill>
        <p:spPr>
          <a:xfrm>
            <a:off x="5580000" y="1700280"/>
            <a:ext cx="2879640" cy="408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C68F-EDB2-43D1-97F6-35B90E40CA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Būrīts majas strazd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 ieteicams zem skrejas vai citur pie būra piestiprināt lak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āizvieto vismaz 4–5 metru augstumā, pie koka, kārts vai ēkas si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eicams gatavot atveramus, ar noņemamu jum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izlikt tuvu citu ci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strazds5.png"/>
          <p:cNvPicPr/>
          <p:nvPr/>
        </p:nvPicPr>
        <p:blipFill>
          <a:blip r:embed="rId1"/>
          <a:stretch/>
        </p:blipFill>
        <p:spPr>
          <a:xfrm>
            <a:off x="6300720" y="4653000"/>
            <a:ext cx="1511280" cy="191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1E09-7F8C-47C0-865F-A45E266C46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7931160" cy="3844800"/>
        </p:xfrm>
        <a:graphic>
          <a:graphicData uri="http://schemas.openxmlformats.org/drawingml/2006/table">
            <a:tbl>
              <a:tblPr/>
              <a:tblGrid>
                <a:gridCol w="1882800"/>
                <a:gridCol w="2016000"/>
                <a:gridCol w="2160720"/>
                <a:gridCol w="1871640"/>
              </a:tblGrid>
              <a:tr h="14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65" name="Picture 24" descr="Pic1.png"/>
          <p:cNvPicPr/>
          <p:nvPr/>
        </p:nvPicPr>
        <p:blipFill>
          <a:blip r:embed="rId1"/>
          <a:stretch/>
        </p:blipFill>
        <p:spPr>
          <a:xfrm>
            <a:off x="82692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5" descr="Pic2.png"/>
          <p:cNvPicPr/>
          <p:nvPr/>
        </p:nvPicPr>
        <p:blipFill>
          <a:blip r:embed="rId2"/>
          <a:stretch/>
        </p:blipFill>
        <p:spPr>
          <a:xfrm>
            <a:off x="2843280" y="3860640"/>
            <a:ext cx="1176120" cy="131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6" descr="Pic3.png"/>
          <p:cNvPicPr/>
          <p:nvPr/>
        </p:nvPicPr>
        <p:blipFill>
          <a:blip r:embed="rId3"/>
          <a:stretch/>
        </p:blipFill>
        <p:spPr>
          <a:xfrm>
            <a:off x="4859280" y="3860640"/>
            <a:ext cx="1182600" cy="132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4E00-0A77-42C6-8404-D58E0BBDE9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zāķējama stie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9" descr="Pic4.png"/>
          <p:cNvPicPr/>
          <p:nvPr/>
        </p:nvPicPr>
        <p:blipFill>
          <a:blip r:embed="rId1"/>
          <a:stretch/>
        </p:blipFill>
        <p:spPr>
          <a:xfrm>
            <a:off x="4888080" y="1720800"/>
            <a:ext cx="3558960" cy="42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D2F2-8F75-4B10-A12A-6A8569740F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789B-AE2C-4D8B-BA2A-93ADCCB8BD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39:05Z</dcterms:modified>
  <cp:revision>108</cp:revision>
  <dc:subject/>
  <dc:title>Slide 1</dc:title>
</cp:coreProperties>
</file>