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F507-23EB-4E78-A27F-E0CB8CEFEDB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956B-C126-42B3-A77E-9F5B0891056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D8DE-A727-4708-9FD9-36E8B2793EA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6E4A-7A0A-4816-A397-E983513445E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3A78-FD72-46A5-AE55-7AFAEA52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559C-4349-4E13-B05D-56689A2A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E913-A545-479A-A4CE-9E7D75A76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0BA2-999A-4206-808D-7E560B48D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FABE-5618-45D8-AE3D-8B26A958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46FF-BEC7-4A45-A30C-9F5C8D4A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E5D4-FE0F-424D-AC5D-8D0D7B1A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B1D8-2C69-40DE-A043-CEB28E4D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9A93-9171-4D50-ACA4-036BCEC7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BA0D-B996-4CCB-B695-B0CA7D13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EA59-324F-4EDC-8862-0FC4BF1B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B611-E0AE-4530-B980-94A58C28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E799-0D63-49C6-8BBE-6E8961C46B0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E8EC-FA37-4C73-9F36-C7039E00655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utni.lv/" TargetMode="External"/><Relationship Id="rId2" Type="http://schemas.openxmlformats.org/officeDocument/2006/relationships/hyperlink" Target="http://www.putni.lv/" TargetMode="External"/><Relationship Id="rId3" Type="http://schemas.openxmlformats.org/officeDocument/2006/relationships/hyperlink" Target="http://www.putni.lv/" TargetMode="External"/><Relationship Id="rId4" Type="http://schemas.openxmlformats.org/officeDocument/2006/relationships/hyperlink" Target="http://www.putni.lv/" TargetMode="External"/><Relationship Id="rId5" Type="http://schemas.openxmlformats.org/officeDocument/2006/relationships/hyperlink" Target="http://www.putni.lv/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ob.lv/download/buritis_zilitem_melnajam_muskerajam.pdf" TargetMode="External"/><Relationship Id="rId9" Type="http://schemas.openxmlformats.org/officeDocument/2006/relationships/hyperlink" Target="http://www.lob.lv/download/buritis_zilitem_melnajam_muskerajam.pdf" TargetMode="External"/><Relationship Id="rId10" Type="http://schemas.openxmlformats.org/officeDocument/2006/relationships/hyperlink" Target="http://www.lob.lv/download/buritis_zilitem_melnajam_muskerajam.pdf" TargetMode="External"/><Relationship Id="rId11" Type="http://schemas.openxmlformats.org/officeDocument/2006/relationships/hyperlink" Target="http://www.lob.lv/download/buritis_zilitem_melnajam_muskerajam.pdf" TargetMode="External"/><Relationship Id="rId12" Type="http://schemas.openxmlformats.org/officeDocument/2006/relationships/hyperlink" Target="http://www.lob.lv/download/buritis_zilitem_melnajam_muskerajam.pdf" TargetMode="External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26D7-BB5D-45F7-B8DF-9B2F01A45B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t3.png"/>
          <p:cNvPicPr/>
          <p:nvPr/>
        </p:nvPicPr>
        <p:blipFill>
          <a:blip r:embed="rId1"/>
          <a:stretch/>
        </p:blipFill>
        <p:spPr>
          <a:xfrm>
            <a:off x="2987640" y="1628640"/>
            <a:ext cx="5830920" cy="428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91C6-E06F-4AD4-9AED-A8B5C38CB8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Mājas_straz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sturnus-vulgari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C:\Users\User\AppData\Local\Microsoft\Windows\Temporary Internet Files\Content.IE5\5K36RP0L\MC900431604[1].png"/>
          <p:cNvPicPr/>
          <p:nvPr/>
        </p:nvPicPr>
        <p:blipFill>
          <a:blip r:embed="rId13"/>
          <a:stretch/>
        </p:blipFill>
        <p:spPr>
          <a:xfrm>
            <a:off x="5435640" y="42210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1E0A-4DFB-4A30-BF99-2167ECA988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31C2-01A2-44B8-9C97-3F233B8564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D6B0-F1E6-4A52-BEF6-21828D97D4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u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F267-D757-4480-AEFE-5C7FA4684A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s ir zvirbuļveidīgo kārtas dziedātājput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 ir viens no visbiežāk sastopamajiem putniem pasaul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strazds2.png"/>
          <p:cNvPicPr/>
          <p:nvPr/>
        </p:nvPicPr>
        <p:blipFill>
          <a:blip r:embed="rId1"/>
          <a:stretch/>
        </p:blipFill>
        <p:spPr>
          <a:xfrm>
            <a:off x="3780000" y="3284640"/>
            <a:ext cx="5111640" cy="247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3E59-2466-4A59-8A97-243EDA3180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26920" y="1412640"/>
            <a:ext cx="5545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spalvojums melns ar tonētu spīdumu zaļā vai purpura krāsā ar nelieliem gaišiem raibumiņ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ums 19-2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ārnu atvērums 37-4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ars 60 - 90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D755-7BF3-441C-8BB8-EF4F596067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aņ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4000" y="1600200"/>
            <a:ext cx="8002440" cy="45655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trazdu dziesmas ir diezgan sarežģītas un izkoptas, bagātinātas ar dažādiem svilpieniem, klakšķiem un čirkstoņ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am ir bara sasaukšanās sauciens, briesmu sauciens, uzbrukuma sauciens, vienkārši vidžināšana un kopošanās sauci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s var atdarināt citus put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5E81-797C-4EBC-ABBD-A14420856A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83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i ir visēdā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šanas laikā tie ir izteikti kukaiņēdā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dzoties mazuļu barošanai, mājas strazdi labprāt barojas arī ar graudiem, sēklām, augļiem, ogām, ziedu nektāru u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strazds3.png"/>
          <p:cNvPicPr/>
          <p:nvPr/>
        </p:nvPicPr>
        <p:blipFill>
          <a:blip r:embed="rId1"/>
          <a:stretch/>
        </p:blipFill>
        <p:spPr>
          <a:xfrm>
            <a:off x="5580000" y="1700280"/>
            <a:ext cx="2879640" cy="408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D65B-35DC-4782-8D8F-D15A8D4793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rīts majas strazd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strazds5.png"/>
          <p:cNvPicPr/>
          <p:nvPr/>
        </p:nvPicPr>
        <p:blipFill>
          <a:blip r:embed="rId1"/>
          <a:stretch/>
        </p:blipFill>
        <p:spPr>
          <a:xfrm>
            <a:off x="6300720" y="4653000"/>
            <a:ext cx="1511280" cy="191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E8F5-ED0E-4591-9264-2AE1D790DA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7931160" cy="3844800"/>
        </p:xfrm>
        <a:graphic>
          <a:graphicData uri="http://schemas.openxmlformats.org/drawingml/2006/table">
            <a:tbl>
              <a:tblPr/>
              <a:tblGrid>
                <a:gridCol w="1882800"/>
                <a:gridCol w="2016000"/>
                <a:gridCol w="2160720"/>
                <a:gridCol w="1871640"/>
              </a:tblGrid>
              <a:tr h="14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65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" descr="Pic2.png"/>
          <p:cNvPicPr/>
          <p:nvPr/>
        </p:nvPicPr>
        <p:blipFill>
          <a:blip r:embed="rId2"/>
          <a:stretch/>
        </p:blipFill>
        <p:spPr>
          <a:xfrm>
            <a:off x="2843280" y="3860640"/>
            <a:ext cx="117612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6" descr="Pic3.png"/>
          <p:cNvPicPr/>
          <p:nvPr/>
        </p:nvPicPr>
        <p:blipFill>
          <a:blip r:embed="rId3"/>
          <a:stretch/>
        </p:blipFill>
        <p:spPr>
          <a:xfrm>
            <a:off x="4859280" y="3860640"/>
            <a:ext cx="118260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E27C-1656-4D67-8299-FBAFA63FD3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zāķējama stie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9" descr="Pic4.png"/>
          <p:cNvPicPr/>
          <p:nvPr/>
        </p:nvPicPr>
        <p:blipFill>
          <a:blip r:embed="rId1"/>
          <a:stretch/>
        </p:blipFill>
        <p:spPr>
          <a:xfrm>
            <a:off x="4888080" y="1720800"/>
            <a:ext cx="3558960" cy="42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0F10-E637-4BDD-B1FB-5A143F3189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0B5D-D569-4354-91FF-CAC95378FA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39:05Z</dcterms:modified>
  <cp:revision>108</cp:revision>
  <dc:subject/>
  <dc:title>Slide 1</dc:title>
</cp:coreProperties>
</file>