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31D29-430A-4943-B891-5CE91C68A72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60B0F-A5FB-4D05-83F0-A48A6D95427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0292C-7900-4F54-B5C9-E8A8CCA25DC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C7D70-4C53-441B-BE72-4B4AF51FFA0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DC81-6F0B-4999-B5EE-1D5235FF8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4ADC-E08A-4A4C-BDB6-16D9D46B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368C-4099-48AE-9601-A3BCA4FD2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BA0B-B07C-48EF-AB47-2DDE97098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2ECB-697F-433E-83CA-D4494D2E5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42BE-D497-40BA-863D-640F147E1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F63D-9ACC-4E4A-B2F0-BB30415F7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C35E-8099-4905-94A9-8FC241261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6F58-C3B6-4A5B-A82B-F1B83CC1A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BCC6-AF97-44EB-887A-1A3E8E73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531F-619D-4D5C-97CF-64BD2B94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6B43-ECE2-4E41-9170-ACDAE4C4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9F020-9737-47E3-BA3F-0C465A7F3926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06046-4744-4B13-BF61-ADCBB145B71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lob.lv/download/buritis_zilitem_melnajam_muskerajam.pdf" TargetMode="External"/><Relationship Id="rId2" Type="http://schemas.openxmlformats.org/officeDocument/2006/relationships/hyperlink" Target="http://www.lob.lv/download/buritis_zilitem_melnajam_muskerajam.pdf" TargetMode="External"/><Relationship Id="rId3" Type="http://schemas.openxmlformats.org/officeDocument/2006/relationships/hyperlink" Target="http://www.lob.lv/download/buritis_zilitem_melnajam_muskerajam.pdf" TargetMode="External"/><Relationship Id="rId4" Type="http://schemas.openxmlformats.org/officeDocument/2006/relationships/hyperlink" Target="http://www.lob.lv/download/buritis_zilitem_melnajam_muskerajam.pdf" TargetMode="External"/><Relationship Id="rId5" Type="http://schemas.openxmlformats.org/officeDocument/2006/relationships/hyperlink" Target="http://www.lob.lv/download/buritis_zilitem_melnajam_muskerajam.pdf" TargetMode="External"/><Relationship Id="rId6" Type="http://schemas.openxmlformats.org/officeDocument/2006/relationships/hyperlink" Target="http://www.latvijasdaba.lv/putni/apus-apus-l/" TargetMode="External"/><Relationship Id="rId7" Type="http://schemas.openxmlformats.org/officeDocument/2006/relationships/hyperlink" Target="http://www.latvijasdaba.lv/putni/apus-apus-l/" TargetMode="External"/><Relationship Id="rId8" Type="http://schemas.openxmlformats.org/officeDocument/2006/relationships/hyperlink" Target="http://www.latvijasdaba.lv/putni/apus-apus-l/" TargetMode="External"/><Relationship Id="rId9" Type="http://schemas.openxmlformats.org/officeDocument/2006/relationships/hyperlink" Target="http://www.latvijasdaba.lv/putni/apus-apus-l/" TargetMode="External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vī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vijas put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C:\Users\User\AppData\Local\Microsoft\Windows\Temporary Internet Files\Content.IE5\5MBYCT9Z\MC900186210[1].wmf"/>
          <p:cNvPicPr/>
          <p:nvPr/>
        </p:nvPicPr>
        <p:blipFill>
          <a:blip r:embed="rId1"/>
          <a:stretch/>
        </p:blipFill>
        <p:spPr>
          <a:xfrm>
            <a:off x="6732720" y="2421000"/>
            <a:ext cx="1814400" cy="160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03EB6D-76BC-44EB-996B-AA9EB82E90B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gatav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i jāizgatavo no 2–2,5 cm bieziem sausiem dēļ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umtiņu ieteicams nosegt ar skārdu vai ruberoī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a dibens vienmēr jāienaglo starp sienām, nevis no apakš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Pt1.png"/>
          <p:cNvPicPr/>
          <p:nvPr/>
        </p:nvPicPr>
        <p:blipFill>
          <a:blip r:embed="rId1"/>
          <a:stretch/>
        </p:blipFill>
        <p:spPr>
          <a:xfrm>
            <a:off x="2411280" y="2133720"/>
            <a:ext cx="5935680" cy="425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4FEB1E-1452-460F-8F96-3866D0FE5B4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mantotie avo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www.vietas.lv/index.php?p=10&amp;id=10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://www.lob.lv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download/buritis_majas_strazds_svire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://www.latvijasdaba.lv/putni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apus-apus-l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/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184D96-7BB0-4A89-BAE4-78A5214F00D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ē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13DA44-1D39-4398-8369-C7F1B8DF549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grāc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C5FC05-F4B1-4E25-90E4-71D473BBF76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sk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26560" y="1628640"/>
            <a:ext cx="5040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spalvojums rūsgani melns ar nelielu metāliska spīduma piedev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kaklē blāvi netīri balts planku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aunajiem putniem arī citur uz segspalvu galiņiem un lidspalvu maliņām ir baltum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Content Placeholder 4" descr="svire5.png"/>
          <p:cNvPicPr/>
          <p:nvPr/>
        </p:nvPicPr>
        <p:blipFill>
          <a:blip r:embed="rId1"/>
          <a:stretch/>
        </p:blipFill>
        <p:spPr>
          <a:xfrm>
            <a:off x="5796000" y="1773360"/>
            <a:ext cx="2736720" cy="394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C8686A-098C-423B-A837-C90C7953EE5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Īss raksturo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1599840"/>
            <a:ext cx="814716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vīre ir Latvijā vienīgā sastopamā svīrveidīgo kārtas putnu su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ieži tiek jauktas ar bezdelīgā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svire6.png"/>
          <p:cNvPicPr/>
          <p:nvPr/>
        </p:nvPicPr>
        <p:blipFill>
          <a:blip r:embed="rId1"/>
          <a:stretch/>
        </p:blipFill>
        <p:spPr>
          <a:xfrm>
            <a:off x="1835280" y="3860640"/>
            <a:ext cx="5976720" cy="261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9EB1F3-E9AC-432D-B6E9-119001E2D6B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zd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4360" y="1600200"/>
            <a:ext cx="44640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manto nišas, iedobes augstceltņu sienās, spraugas zem daudzstāvu māju palodzēm un pažobe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zdo arī dabiskos un dzeņu kaltos koku dobu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6D32E3-9A2B-4EA8-9E83-B3DDE177935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zīvesve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24000" y="1557360"/>
            <a:ext cx="822960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pš seniem laikiem svīres mitinās līdzās cilvēkiem – gan lauku apvidos, gan pilsētā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z zemes vai uz kādas citas lēzenas virsmas nolaižas tikai ligzdošanas period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Ēd un arī izguļas lidoj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dzeras lidojumā, pasmeļot ūdeni no ezera, upes vai dīķ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D3B760-F0AF-4162-8C2D-9D5FEC701EB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Būītis svire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600200"/>
            <a:ext cx="71391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āizvieto vismaz 4–5 metru augstumā, pie koka, kārts vai ēkas sie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teicams gatavot atveramus, ar noņemamu jumtiņ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 izlikt tuvu citu cit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v ieteicams zem skrejas vai citur pie būra piestiprināt laktiņ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strazds5.png"/>
          <p:cNvPicPr/>
          <p:nvPr/>
        </p:nvPicPr>
        <p:blipFill>
          <a:blip r:embed="rId1"/>
          <a:stretch/>
        </p:blipFill>
        <p:spPr>
          <a:xfrm>
            <a:off x="6588000" y="3716280"/>
            <a:ext cx="1511280" cy="191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C55009-ECAE-4863-9F64-59EEF27DD10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reju formas un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57200" y="1600200"/>
          <a:ext cx="8229600" cy="42051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6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66" name="Picture 24" descr="Pic1.png"/>
          <p:cNvPicPr/>
          <p:nvPr/>
        </p:nvPicPr>
        <p:blipFill>
          <a:blip r:embed="rId1"/>
          <a:stretch/>
        </p:blipFill>
        <p:spPr>
          <a:xfrm>
            <a:off x="826920" y="3860640"/>
            <a:ext cx="1176480" cy="1317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Pic2.png"/>
          <p:cNvPicPr/>
          <p:nvPr/>
        </p:nvPicPr>
        <p:blipFill>
          <a:blip r:embed="rId2"/>
          <a:stretch/>
        </p:blipFill>
        <p:spPr>
          <a:xfrm>
            <a:off x="3995640" y="3860640"/>
            <a:ext cx="1176480" cy="1317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6" descr="Pic3.png"/>
          <p:cNvPicPr/>
          <p:nvPr/>
        </p:nvPicPr>
        <p:blipFill>
          <a:blip r:embed="rId3"/>
          <a:stretch/>
        </p:blipFill>
        <p:spPr>
          <a:xfrm>
            <a:off x="6588000" y="3860640"/>
            <a:ext cx="1182960" cy="132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A5CF9B-3EF4-45E3-AD70-2A09BB1D2D1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tis un tā novie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Content Placeholder 35" descr="Picture1.png"/>
          <p:cNvPicPr/>
          <p:nvPr/>
        </p:nvPicPr>
        <p:blipFill>
          <a:blip r:embed="rId1"/>
          <a:stretch/>
        </p:blipFill>
        <p:spPr>
          <a:xfrm>
            <a:off x="700200" y="1724040"/>
            <a:ext cx="3552840" cy="42782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ņemams jumtiņ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3C1D8A-A8ED-43ED-8684-46955A784FA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747323-CFDD-4B6C-BC66-42D596ED901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8:57:42Z</dcterms:created>
  <dc:creator>User</dc:creator>
  <dc:description/>
  <dc:language>en-US</dc:language>
  <cp:lastModifiedBy>peterisz</cp:lastModifiedBy>
  <dcterms:modified xsi:type="dcterms:W3CDTF">2013-02-04T14:43:11Z</dcterms:modified>
  <cp:revision>123</cp:revision>
  <dc:subject/>
  <dc:title>Slide 1</dc:title>
</cp:coreProperties>
</file>