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0A50-25DD-45D7-AFF0-4E5A3862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4FFF-6C9C-49DE-B315-798CE39D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9CFC-849A-479E-8660-1E943E65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8C9-C089-4581-9502-ECCDBDF9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BFA-C21D-4AEF-8467-7F27E6DD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5B33-3146-40B4-B5AA-D4AD4433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6E88-E741-4E44-9F67-44B2FB97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F801-67AF-43FE-B5AF-F951C333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B7A8-9302-4F70-85E3-E8CBFDE0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F5FB-BE67-494D-9469-22832F81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160C-921A-48A2-96D7-19E5AE9E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1838-CDF6-43FA-9416-5E184384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F647-0D50-4AA1-911A-04F85E18107C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ut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98989"/>
                </a:solidFill>
                <a:latin typeface="Arial"/>
              </a:rPr>
              <a:t>Dažādās valod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zvirbu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sser domesti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oduvarb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naminis žvirb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hous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Hausspe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овой вороб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Lielā 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rasva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didži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great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Kohl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си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Sturnus vulg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uldno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varnė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common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caeru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sini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mėlyn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blue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– Blau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зор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Apus a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lja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liedzē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9:17:07Z</dcterms:created>
  <dc:creator>User</dc:creator>
  <dc:description/>
  <dc:language>en-US</dc:language>
  <cp:lastModifiedBy>User</cp:lastModifiedBy>
  <dcterms:modified xsi:type="dcterms:W3CDTF">2012-12-13T17:57:39Z</dcterms:modified>
  <cp:revision>9</cp:revision>
  <dc:subject/>
  <dc:title>Slide 1</dc:title>
</cp:coreProperties>
</file>