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5A7E-4FFA-47AE-87D4-25413F29290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EE43-06C4-4A08-BF4F-3B31CD5C781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8E67-5B79-4C87-9581-2F5EFD7E361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0EB-9318-4DC9-A10E-9F184B64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B78B-009B-497A-ADBA-C69A31DD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5755-E7AE-400B-9A84-98766989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226B-6016-42D9-B4F5-09692246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23D0-C308-4BAA-8B77-61FDD74F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2030-D1FE-407F-8DA4-C063A4FF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5857-CE0A-4B1D-98F4-A3481C06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046A-A949-4FF6-80D5-CAF5FAE8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2430-6771-445B-ADFE-3F6A2C1D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FD43-FE07-4572-A137-8316EB78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EBC9-9C38-4002-9CDD-84A502EA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4C27-EEC7-44E2-BBE0-F77DF142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AD0D-5105-478F-89AB-B52098D00FE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B190-CA15-432B-8CF0-45AC64F06E0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atvijasdaba.lv/putni/parus-caeruleus-l/" TargetMode="External"/><Relationship Id="rId9" Type="http://schemas.openxmlformats.org/officeDocument/2006/relationships/hyperlink" Target="http://www.latvijasdaba.lv/putni/parus-caeruleus-l/" TargetMode="External"/><Relationship Id="rId10" Type="http://schemas.openxmlformats.org/officeDocument/2006/relationships/hyperlink" Target="http://www.latvijasdaba.lv/putni/parus-caeruleus-l/" TargetMode="External"/><Relationship Id="rId11" Type="http://schemas.openxmlformats.org/officeDocument/2006/relationships/hyperlink" Target="http://www.latvijasdaba.lv/putni/parus-caeruleus-l/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User\AppData\Local\Microsoft\Windows\Temporary Internet Files\Content.IE5\8RKKZONO\MC900391474[1].wmf"/>
          <p:cNvPicPr/>
          <p:nvPr/>
        </p:nvPicPr>
        <p:blipFill>
          <a:blip r:embed="rId1"/>
          <a:stretch/>
        </p:blipFill>
        <p:spPr>
          <a:xfrm>
            <a:off x="6443640" y="1052640"/>
            <a:ext cx="181440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00B3B-E592-4CCA-B2AD-61BA3F2E80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36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4" descr="Pic1.png"/>
          <p:cNvPicPr/>
          <p:nvPr/>
        </p:nvPicPr>
        <p:blipFill>
          <a:blip r:embed="rId1"/>
          <a:stretch/>
        </p:blipFill>
        <p:spPr>
          <a:xfrm>
            <a:off x="111600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Pic2.png"/>
          <p:cNvPicPr/>
          <p:nvPr/>
        </p:nvPicPr>
        <p:blipFill>
          <a:blip r:embed="rId2"/>
          <a:stretch/>
        </p:blipFill>
        <p:spPr>
          <a:xfrm>
            <a:off x="399564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ic3.png"/>
          <p:cNvPicPr/>
          <p:nvPr/>
        </p:nvPicPr>
        <p:blipFill>
          <a:blip r:embed="rId3"/>
          <a:stretch/>
        </p:blipFill>
        <p:spPr>
          <a:xfrm>
            <a:off x="6659640" y="3068640"/>
            <a:ext cx="1182600" cy="13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2F417-450A-4EC9-98E0-898D49DFBF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download/buritis_zilitem_melnajam_muskerajam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arus-caerule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1E7C5-8D00-478B-AB67-7567BF0624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A82F9-CE74-4961-B2FB-E8FC7E60A2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vij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44D01-B0F1-4BF3-9F2A-4711DE03E7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ss r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lzīlīte ir Latvijā ļoti bieži sastopama zvirbuļ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la 11 zilzīlīšu pasu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t2.png"/>
          <p:cNvPicPr/>
          <p:nvPr/>
        </p:nvPicPr>
        <p:blipFill>
          <a:blip r:embed="rId1"/>
          <a:stretch/>
        </p:blipFill>
        <p:spPr>
          <a:xfrm>
            <a:off x="2050920" y="4437000"/>
            <a:ext cx="590724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745EF-3D20-44BC-8C98-473251E2E3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platīb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Visā Eiropā, izņemot pašus ziemeļus un augstkalnu apgaba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Kanāriju salas, Ziemeļāfrika un Mazāzija un vietām citu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Ziemo ligzdošanas areālā, tomēr daļa putnu rudenī klejo uz dienvidi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zilzilite2.png"/>
          <p:cNvPicPr/>
          <p:nvPr/>
        </p:nvPicPr>
        <p:blipFill>
          <a:blip r:embed="rId1"/>
          <a:stretch/>
        </p:blipFill>
        <p:spPr>
          <a:xfrm>
            <a:off x="6027840" y="0"/>
            <a:ext cx="3116160" cy="36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C3928-2958-4579-A312-B1661F3BAA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628640"/>
            <a:ext cx="7561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za izmēra zīlīte ar tievu un īsu knābī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Ķermeņa garums 11—1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ars 7,5—14,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8A9CB-2253-45B6-8F6B-FA6FFE46AA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ās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000" y="1600200"/>
            <a:ext cx="800244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ilgti zila galvas augšdaļa, kas kontrastē ar zīlītēm raksturīgajiem baltajiem vaig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jas zīmējumu veido tumši zilas spa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ārni, aste un pakausis zilgani, mugura olīvza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ders dzeltens ar nelielu tumšu j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nābis melns, kājas pelē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8BD8E-F7B8-44F6-92D2-4036C02B9D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zīlītē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us izvieto dažādos mežos, parkos, dārzos un apstādīj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žos tajos visbiežāk ligzdo lielā zīlīte, bet retāk cekulzīlīte un 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iem noteikti jābūt atveramiem, lai tos varētu regulāri iztīr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443640" y="458136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32718-A964-452C-8AC2-EEEDFBB52A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neēvelēt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t2.png"/>
          <p:cNvPicPr/>
          <p:nvPr/>
        </p:nvPicPr>
        <p:blipFill>
          <a:blip r:embed="rId1"/>
          <a:stretch/>
        </p:blipFill>
        <p:spPr>
          <a:xfrm>
            <a:off x="3203640" y="177336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D4528-3098-4531-8AB3-0CBA0B96DA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6" descr="Picture1.png"/>
          <p:cNvPicPr/>
          <p:nvPr/>
        </p:nvPicPr>
        <p:blipFill>
          <a:blip r:embed="rId1"/>
          <a:stretch/>
        </p:blipFill>
        <p:spPr>
          <a:xfrm>
            <a:off x="790560" y="1724040"/>
            <a:ext cx="3371760" cy="4278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ābūt atvera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00ED6-0EBF-4381-B5AB-B2091CA074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49DFF-D1C9-4959-87AF-F32A53CB4C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2:06Z</dcterms:modified>
  <cp:revision>112</cp:revision>
  <dc:subject/>
  <dc:title>Slide 1</dc:title>
</cp:coreProperties>
</file>