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EC05-3DAB-4A73-82B2-30F91EB2431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2BAC-39E2-4B92-A03E-3A3A221E87D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C639-53F9-40C3-91E7-7C0D39C3AD2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EF66-BB36-4223-8C6F-7CFA7877FEB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6FB6-ACDB-4512-B3BA-E023455A4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347C-4ADA-4CC1-9CE7-BD480440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AAE9-2E83-48F7-8C2A-61729495C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DB80-4FD7-4C17-8DC0-51B2CFD95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D564-2DC5-41E3-B2FD-37DC1D1F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EB3D-DC23-46BA-BF85-7BA79819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3934-1F52-4CFE-B08E-B824E8A7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3E55-5E4C-4094-A60B-4DEFA86F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2BE1-88F2-4D49-BB2C-6F6AE80B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5F5C-E9F9-4B62-AF90-2595BA9D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4052-9229-4561-BFF8-5A2CFCED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0770-0A12-40FF-92E4-4A746CB7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7612-A11D-4573-B304-A6F4D25EDD5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3651-EA06-4333-8EC4-8B20F7C0EB6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atvijasdaba.lv/putni/apus-apus-l/" TargetMode="External"/><Relationship Id="rId7" Type="http://schemas.openxmlformats.org/officeDocument/2006/relationships/hyperlink" Target="http://www.latvijasdaba.lv/putni/apus-apus-l/" TargetMode="External"/><Relationship Id="rId8" Type="http://schemas.openxmlformats.org/officeDocument/2006/relationships/hyperlink" Target="http://www.latvijasdaba.lv/putni/apus-apus-l/" TargetMode="External"/><Relationship Id="rId9" Type="http://schemas.openxmlformats.org/officeDocument/2006/relationships/hyperlink" Target="http://www.latvijasdaba.lv/putni/apus-apus-l/" TargetMode="Externa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Users\User\AppData\Local\Microsoft\Windows\Temporary Internet Files\Content.IE5\5MBYCT9Z\MC900186210[1].wmf"/>
          <p:cNvPicPr/>
          <p:nvPr/>
        </p:nvPicPr>
        <p:blipFill>
          <a:blip r:embed="rId1"/>
          <a:stretch/>
        </p:blipFill>
        <p:spPr>
          <a:xfrm>
            <a:off x="6732720" y="2421000"/>
            <a:ext cx="1814400" cy="16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A52315-66F4-4116-B56F-687E512BF76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Pt1.png"/>
          <p:cNvPicPr/>
          <p:nvPr/>
        </p:nvPicPr>
        <p:blipFill>
          <a:blip r:embed="rId1"/>
          <a:stretch/>
        </p:blipFill>
        <p:spPr>
          <a:xfrm>
            <a:off x="2411280" y="2133720"/>
            <a:ext cx="5935680" cy="42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B7B055-18AB-4C44-A74C-DF5D8DDFA2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www.vietas.lv/index.php?p=10&amp;id=1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apus-ap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9C0B31-0AE2-49AE-900E-34FD313177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6E710D-47FA-44F1-849E-4FB26EA3C5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ā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58E7CA-0F7C-46EC-9C89-A3008DFDA1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26560" y="1628640"/>
            <a:ext cx="504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spalvojums rūsgani melns ar nelielu metāliska spīduma piedev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kaklē blāvi netīri balts planku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unajiem putniem arī citur uz segspalvu galiņiem un lidspalvu maliņām ir baltu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4" descr="svire5.png"/>
          <p:cNvPicPr/>
          <p:nvPr/>
        </p:nvPicPr>
        <p:blipFill>
          <a:blip r:embed="rId1"/>
          <a:stretch/>
        </p:blipFill>
        <p:spPr>
          <a:xfrm>
            <a:off x="5796000" y="1773360"/>
            <a:ext cx="2736720" cy="394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A4B789-6745-442C-8304-7118554013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īre ir Latvijā vienīgā sastopamā svīr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ieži tiek jauktas ar bezdelīg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svire6.png"/>
          <p:cNvPicPr/>
          <p:nvPr/>
        </p:nvPicPr>
        <p:blipFill>
          <a:blip r:embed="rId1"/>
          <a:stretch/>
        </p:blipFill>
        <p:spPr>
          <a:xfrm>
            <a:off x="1835280" y="3860640"/>
            <a:ext cx="5976720" cy="26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F1614-E47A-44A5-8CD3-0938904CA27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z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360" y="1600200"/>
            <a:ext cx="4464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 nišas, iedobes augstceltņu sienās, spraugas zem daudzstāvu māju palodzēm un pažob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 arī dabiskos un dzeņu kaltos koku dob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FC258F-F432-46F0-9A64-7495950AC1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zīvesve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pš seniem laikiem svīres mitinās līdzās cilvēkiem – gan lauku apvidos, gan pilsēt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 zemes vai uz kādas citas lēzenas virsmas nolaižas tikai ligzdošanas period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Ēd un arī izguļas lidoj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dzeras lidojumā, pasmeļot ūdeni no ezera, upes vai dīķ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AB99BE-12E1-446A-A176-57F3134A82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ītis svir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600200"/>
            <a:ext cx="7139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588000" y="371628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B56941-9E7E-42DD-827D-F92B3D9761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00200"/>
          <a:ext cx="8229600" cy="4205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6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ic2.png"/>
          <p:cNvPicPr/>
          <p:nvPr/>
        </p:nvPicPr>
        <p:blipFill>
          <a:blip r:embed="rId2"/>
          <a:stretch/>
        </p:blipFill>
        <p:spPr>
          <a:xfrm>
            <a:off x="399564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6" descr="Pic3.png"/>
          <p:cNvPicPr/>
          <p:nvPr/>
        </p:nvPicPr>
        <p:blipFill>
          <a:blip r:embed="rId3"/>
          <a:stretch/>
        </p:blipFill>
        <p:spPr>
          <a:xfrm>
            <a:off x="6588000" y="3860640"/>
            <a:ext cx="118296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87A2B6-346C-4C74-8100-DA18D67E67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5" descr="Picture1.png"/>
          <p:cNvPicPr/>
          <p:nvPr/>
        </p:nvPicPr>
        <p:blipFill>
          <a:blip r:embed="rId1"/>
          <a:stretch/>
        </p:blipFill>
        <p:spPr>
          <a:xfrm>
            <a:off x="700200" y="1724040"/>
            <a:ext cx="3552840" cy="4278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ņemams jumtiņ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48C9B-CACF-4AB7-9392-D579B4CC2B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DAEBA1-4B7C-4419-BF26-2685AABD83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3:11Z</dcterms:modified>
  <cp:revision>123</cp:revision>
  <dc:subject/>
  <dc:title>Slide 1</dc:title>
</cp:coreProperties>
</file>