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3A37F-93D5-453C-B092-3B7A1CE42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C75DA-9EF4-48F9-8B0D-AB3AD5583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1AF7C-FFB6-4FB7-B53D-18DF1F82D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CCB2C-DE21-458E-86FF-C7E217126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51BAF-F98D-4EF8-A038-3CF8F7FD9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128F1-DFDC-4B67-9ACA-445F3E339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553F4-3F7B-4FC7-877B-96F65CA0D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9BD91-52FA-463A-B4D2-58F5C6976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77AA6-B0E5-425A-841D-1A8D6F72D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6D405-E373-4749-AC35-4A32632C3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DD39D-AB58-459F-82A3-F77C50F8A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C46CD-E04F-4F3D-86C7-2559ED40B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6CA2B-0327-4F95-8AD5-A7695A5EB45E}" type="slidenum">
              <a:rPr b="0" lang="lv-LV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5"/>
          <p:cNvSpPr/>
          <p:nvPr/>
        </p:nvSpPr>
        <p:spPr>
          <a:xfrm>
            <a:off x="2050920" y="476280"/>
            <a:ext cx="482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Pārlūkprogramma</a:t>
            </a:r>
            <a:endParaRPr b="0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42" name="Picture 6" descr=""/>
          <p:cNvPicPr/>
          <p:nvPr/>
        </p:nvPicPr>
        <p:blipFill>
          <a:blip r:embed="rId1"/>
          <a:stretch/>
        </p:blipFill>
        <p:spPr>
          <a:xfrm>
            <a:off x="1000080" y="1714680"/>
            <a:ext cx="7429680" cy="45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14"/>
          <p:cNvSpPr/>
          <p:nvPr/>
        </p:nvSpPr>
        <p:spPr>
          <a:xfrm>
            <a:off x="1619280" y="476280"/>
            <a:ext cx="61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Multivides lietotne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44" name="Picture 15" descr=""/>
          <p:cNvPicPr/>
          <p:nvPr/>
        </p:nvPicPr>
        <p:blipFill>
          <a:blip r:embed="rId1"/>
          <a:stretch/>
        </p:blipFill>
        <p:spPr>
          <a:xfrm>
            <a:off x="2143080" y="1500120"/>
            <a:ext cx="5357880" cy="46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6"/>
          <p:cNvSpPr/>
          <p:nvPr/>
        </p:nvSpPr>
        <p:spPr>
          <a:xfrm>
            <a:off x="900000" y="2743560"/>
            <a:ext cx="7442280" cy="703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Pārlūkprogramma paredzēta globālā tīmekļa dokumentu apskatīšanai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5"/>
          <p:cNvSpPr/>
          <p:nvPr/>
        </p:nvSpPr>
        <p:spPr>
          <a:xfrm>
            <a:off x="1187280" y="1916280"/>
            <a:ext cx="6642360" cy="703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Multivides lietotne paredzēta attēlu apskatīšanai, filmu rādīšanai, mūzikas atskaņošanai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6T19:38:33Z</dcterms:created>
  <dc:creator>gennady</dc:creator>
  <dc:description/>
  <dc:language>en-US</dc:language>
  <cp:lastModifiedBy>person</cp:lastModifiedBy>
  <dcterms:modified xsi:type="dcterms:W3CDTF">2009-11-28T12:13:46Z</dcterms:modified>
  <cp:revision>35</cp:revision>
  <dc:subject/>
  <dc:title>Slide 1</dc:title>
</cp:coreProperties>
</file>