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8474-985F-406A-97AC-75DDA2C5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DD3F-232F-49EB-B89F-6E07FC91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9F35-1E15-4EDB-9556-E0F2BECDD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2D26-08DC-40CB-AA15-3ECB0294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586B-A088-40DB-8B29-37E2C35E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DB43-4953-4FB1-A9BC-97C20911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7608-8E5E-4E86-8877-01420208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EFAB-1A33-4686-AA69-28751FA6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E178-C19C-408E-AE81-513A2384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AB63-64E3-49D1-9CDD-C69DDF0C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B83F-2E8E-4A2B-B9EA-9FA8166A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B82F-4A8C-44D7-A064-5F4F2AB0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AE6C-2A20-4ABC-9FAB-99F9957D456A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2050920" y="476280"/>
            <a:ext cx="48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ārlūkprogramma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1000080" y="171468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4"/>
          <p:cNvSpPr/>
          <p:nvPr/>
        </p:nvSpPr>
        <p:spPr>
          <a:xfrm>
            <a:off x="1619280" y="476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ultivides lietotne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4" name="Picture 15" descr=""/>
          <p:cNvPicPr/>
          <p:nvPr/>
        </p:nvPicPr>
        <p:blipFill>
          <a:blip r:embed="rId1"/>
          <a:stretch/>
        </p:blipFill>
        <p:spPr>
          <a:xfrm>
            <a:off x="2143080" y="1500120"/>
            <a:ext cx="53578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900000" y="2743560"/>
            <a:ext cx="744228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ārlūkprogramma paredzēta globālā tīmekļa dokumentu apskatīšana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1187280" y="1916280"/>
            <a:ext cx="664236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Multivides lietotne paredzēta attēlu apskatīšanai, filmu rādīšanai, mūzikas atskaņošana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9:38:33Z</dcterms:created>
  <dc:creator>gennady</dc:creator>
  <dc:description/>
  <dc:language>en-US</dc:language>
  <cp:lastModifiedBy>person</cp:lastModifiedBy>
  <dcterms:modified xsi:type="dcterms:W3CDTF">2009-11-28T12:13:46Z</dcterms:modified>
  <cp:revision>35</cp:revision>
  <dc:subject/>
  <dc:title>Slide 1</dc:title>
</cp:coreProperties>
</file>