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AD43-5D87-4EF5-852C-8FEAC593D58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aida numura vietturis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1AA4-1942-4329-881C-BE39E513541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C59D-EAAF-46CA-BB3F-E2B89501515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0430-16EC-46D0-B23D-4B179FB0C9A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776160" y="507960"/>
            <a:ext cx="3541680" cy="26560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288720" y="3359160"/>
            <a:ext cx="632772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1D04-1D47-4E2E-BB18-76AFB47C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9E35-796B-4D7C-AA82-26F5DDB9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7EF0-F708-4697-A1E6-08717EB6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9188-AE6C-4BA5-8D74-5F25E5FC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A379-D5CE-4520-BFAB-9A165594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CC3A-0249-4CBF-8399-F407497D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8922-9E01-46AD-88EB-FDAD42DE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F147-7A7E-47B9-838F-2752BCD0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0B05-9525-4D24-B875-6DFD4805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E313-FF26-4D16-8CB0-4C3D339C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F21E-3311-4B33-A026-87F0A282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29D4-0DDC-4F43-BE09-B1402DB9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DBD4-72B1-4813-A27D-B26A45BA8D8A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Teksta dubl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2" descr="1010305010_1"/>
          <p:cNvPicPr/>
          <p:nvPr/>
        </p:nvPicPr>
        <p:blipFill>
          <a:blip r:embed="rId1"/>
          <a:stretch/>
        </p:blipFill>
        <p:spPr>
          <a:xfrm>
            <a:off x="1600200" y="1371600"/>
            <a:ext cx="1419120" cy="104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6" descr="101030502010_4"/>
          <p:cNvPicPr/>
          <p:nvPr/>
        </p:nvPicPr>
        <p:blipFill>
          <a:blip r:embed="rId2"/>
          <a:stretch/>
        </p:blipFill>
        <p:spPr>
          <a:xfrm>
            <a:off x="1676520" y="3733920"/>
            <a:ext cx="1457280" cy="150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8" descr="101030502020_1"/>
          <p:cNvPicPr/>
          <p:nvPr/>
        </p:nvPicPr>
        <p:blipFill>
          <a:blip r:embed="rId3"/>
          <a:stretch/>
        </p:blipFill>
        <p:spPr>
          <a:xfrm>
            <a:off x="5791320" y="3733920"/>
            <a:ext cx="1666800" cy="1819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9"/>
          <p:cNvSpPr/>
          <p:nvPr/>
        </p:nvSpPr>
        <p:spPr>
          <a:xfrm>
            <a:off x="914400" y="2743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tmiņas mikroshē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0"/>
          <p:cNvSpPr/>
          <p:nvPr/>
        </p:nvSpPr>
        <p:spPr>
          <a:xfrm>
            <a:off x="1905120" y="5562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isk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1"/>
          <p:cNvSpPr/>
          <p:nvPr/>
        </p:nvSpPr>
        <p:spPr>
          <a:xfrm>
            <a:off x="5715000" y="5638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ietais 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2"/>
          <p:cNvSpPr/>
          <p:nvPr/>
        </p:nvSpPr>
        <p:spPr>
          <a:xfrm>
            <a:off x="548640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mpakt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3" descr=""/>
          <p:cNvPicPr/>
          <p:nvPr/>
        </p:nvPicPr>
        <p:blipFill>
          <a:blip r:embed="rId4"/>
          <a:stretch/>
        </p:blipFill>
        <p:spPr>
          <a:xfrm>
            <a:off x="5410080" y="990720"/>
            <a:ext cx="180036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4"/>
          <p:cNvGraphicFramePr/>
          <p:nvPr/>
        </p:nvGraphicFramePr>
        <p:xfrm>
          <a:off x="914400" y="533520"/>
          <a:ext cx="4863960" cy="546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33520"/>
                    <a:ext cx="4863960" cy="54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9"/>
          <p:cNvGraphicFramePr/>
          <p:nvPr/>
        </p:nvGraphicFramePr>
        <p:xfrm>
          <a:off x="838080" y="990720"/>
          <a:ext cx="7315200" cy="48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315200" cy="48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3733920" y="1295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. var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8"/>
          <p:cNvGrpSpPr/>
          <p:nvPr/>
        </p:nvGrpSpPr>
        <p:grpSpPr>
          <a:xfrm>
            <a:off x="838080" y="380880"/>
            <a:ext cx="2362320" cy="2138400"/>
            <a:chOff x="838080" y="380880"/>
            <a:chExt cx="2362320" cy="2138400"/>
          </a:xfrm>
        </p:grpSpPr>
        <p:pic>
          <p:nvPicPr>
            <p:cNvPr id="82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236232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6"/>
            <p:cNvSpPr/>
            <p:nvPr/>
          </p:nvSpPr>
          <p:spPr>
            <a:xfrm>
              <a:off x="1295280" y="3808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1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9"/>
          <p:cNvGrpSpPr/>
          <p:nvPr/>
        </p:nvGrpSpPr>
        <p:grpSpPr>
          <a:xfrm>
            <a:off x="5943600" y="228600"/>
            <a:ext cx="2514600" cy="2325600"/>
            <a:chOff x="5943600" y="228600"/>
            <a:chExt cx="2514600" cy="2325600"/>
          </a:xfrm>
        </p:grpSpPr>
        <p:pic>
          <p:nvPicPr>
            <p:cNvPr id="85" name="Picture 5" descr=""/>
            <p:cNvPicPr/>
            <p:nvPr/>
          </p:nvPicPr>
          <p:blipFill>
            <a:blip r:embed="rId2"/>
            <a:stretch/>
          </p:blipFill>
          <p:spPr>
            <a:xfrm>
              <a:off x="5943600" y="609480"/>
              <a:ext cx="251460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7"/>
            <p:cNvSpPr/>
            <p:nvPr/>
          </p:nvSpPr>
          <p:spPr>
            <a:xfrm>
              <a:off x="6553080" y="228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2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8229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8"/>
          <p:cNvSpPr/>
          <p:nvPr/>
        </p:nvSpPr>
        <p:spPr>
          <a:xfrm>
            <a:off x="3733920" y="1219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. var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23"/>
          <p:cNvGrpSpPr/>
          <p:nvPr/>
        </p:nvGrpSpPr>
        <p:grpSpPr>
          <a:xfrm>
            <a:off x="838080" y="380880"/>
            <a:ext cx="2362320" cy="2138400"/>
            <a:chOff x="838080" y="380880"/>
            <a:chExt cx="2362320" cy="2138400"/>
          </a:xfrm>
        </p:grpSpPr>
        <p:pic>
          <p:nvPicPr>
            <p:cNvPr id="90" name="Picture 9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236232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21"/>
            <p:cNvSpPr/>
            <p:nvPr/>
          </p:nvSpPr>
          <p:spPr>
            <a:xfrm>
              <a:off x="1295280" y="3808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1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4"/>
          <p:cNvGrpSpPr/>
          <p:nvPr/>
        </p:nvGrpSpPr>
        <p:grpSpPr>
          <a:xfrm>
            <a:off x="5715000" y="228600"/>
            <a:ext cx="2743200" cy="2333520"/>
            <a:chOff x="5715000" y="228600"/>
            <a:chExt cx="2743200" cy="2333520"/>
          </a:xfrm>
        </p:grpSpPr>
        <p:pic>
          <p:nvPicPr>
            <p:cNvPr id="93" name="Picture 20" descr=""/>
            <p:cNvPicPr/>
            <p:nvPr/>
          </p:nvPicPr>
          <p:blipFill>
            <a:blip r:embed="rId2"/>
            <a:stretch/>
          </p:blipFill>
          <p:spPr>
            <a:xfrm>
              <a:off x="5715000" y="609480"/>
              <a:ext cx="2743200" cy="19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22"/>
            <p:cNvSpPr/>
            <p:nvPr/>
          </p:nvSpPr>
          <p:spPr>
            <a:xfrm>
              <a:off x="6248520" y="2286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2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7"/>
          <p:cNvSpPr/>
          <p:nvPr/>
        </p:nvSpPr>
        <p:spPr>
          <a:xfrm>
            <a:off x="1523880" y="2286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0"/>
          <p:cNvSpPr/>
          <p:nvPr/>
        </p:nvSpPr>
        <p:spPr>
          <a:xfrm>
            <a:off x="304920" y="1600200"/>
            <a:ext cx="1828800" cy="2057400"/>
          </a:xfrm>
          <a:prstGeom prst="plus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3048120" y="1905120"/>
            <a:ext cx="1079280" cy="1371600"/>
          </a:xfrm>
          <a:prstGeom prst="flowChartMagneticDrum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5943600" y="1371600"/>
            <a:ext cx="2160720" cy="1905120"/>
          </a:xfrm>
          <a:custGeom>
            <a:avLst/>
            <a:gdLst>
              <a:gd name="textAreaLeft" fmla="*/ 667800 w 2160720"/>
              <a:gd name="textAreaRight" fmla="*/ 1492920 w 2160720"/>
              <a:gd name="textAreaTop" fmla="*/ 727560 h 1905120"/>
              <a:gd name="textAreaBottom" fmla="*/ 1455480 h 1905120"/>
            </a:gdLst>
            <a:ahLst/>
            <a:rect l="textAreaLeft" t="textAreaTop" r="textAreaRight" b="textAreaBottom"/>
            <a:pathLst>
              <a:path w="2160588" h="1905000">
                <a:moveTo>
                  <a:pt x="2" y="727643"/>
                </a:moveTo>
                <a:lnTo>
                  <a:pt x="825276" y="727648"/>
                </a:lnTo>
                <a:lnTo>
                  <a:pt x="1080294" y="0"/>
                </a:lnTo>
                <a:lnTo>
                  <a:pt x="1335312" y="727648"/>
                </a:lnTo>
                <a:lnTo>
                  <a:pt x="2160586" y="727643"/>
                </a:lnTo>
                <a:lnTo>
                  <a:pt x="1492923" y="1177349"/>
                </a:lnTo>
                <a:lnTo>
                  <a:pt x="1747953" y="1904994"/>
                </a:lnTo>
                <a:lnTo>
                  <a:pt x="1080294" y="1455280"/>
                </a:lnTo>
                <a:lnTo>
                  <a:pt x="412635" y="1904994"/>
                </a:lnTo>
                <a:lnTo>
                  <a:pt x="667665" y="1177349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685800" y="4191120"/>
            <a:ext cx="2133720" cy="1981080"/>
          </a:xfrm>
          <a:custGeom>
            <a:avLst/>
            <a:gdLst>
              <a:gd name="textAreaLeft" fmla="*/ 497520 w 2133720"/>
              <a:gd name="textAreaRight" fmla="*/ 1635480 w 2133720"/>
              <a:gd name="textAreaTop" fmla="*/ 208800 h 1981080"/>
              <a:gd name="textAreaBottom" fmla="*/ 1254600 h 19810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4"/>
          <p:cNvSpPr/>
          <p:nvPr/>
        </p:nvSpPr>
        <p:spPr>
          <a:xfrm>
            <a:off x="6324480" y="4343400"/>
            <a:ext cx="2514600" cy="1371600"/>
          </a:xfrm>
          <a:prstGeom prst="leftRightArrow">
            <a:avLst>
              <a:gd name="adj1" fmla="val 50000"/>
              <a:gd name="adj2" fmla="val 364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2895480" y="1295280"/>
            <a:ext cx="3353040" cy="1752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2362320" y="2057400"/>
            <a:ext cx="2895480" cy="2743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2971800" y="2514600"/>
            <a:ext cx="3505320" cy="1905120"/>
          </a:xfrm>
          <a:prstGeom prst="rightArrow">
            <a:avLst>
              <a:gd name="adj1" fmla="val 50000"/>
              <a:gd name="adj2" fmla="val 4599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3733920" y="1219320"/>
            <a:ext cx="1904760" cy="1981080"/>
          </a:xfrm>
          <a:prstGeom prst="rtTriangl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3352680" y="2666880"/>
            <a:ext cx="2057400" cy="190512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048120" cy="220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5410080" y="1219320"/>
            <a:ext cx="2743200" cy="2522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838080" y="396252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9"/>
          <p:cNvSpPr/>
          <p:nvPr/>
        </p:nvSpPr>
        <p:spPr>
          <a:xfrm>
            <a:off x="1676520" y="3049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Efektu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5334120" y="4038480"/>
            <a:ext cx="245736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1447920" y="2057400"/>
            <a:ext cx="6172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700" spc="-1" strike="noStrike">
                <a:solidFill>
                  <a:srgbClr val="000000"/>
                </a:solidFill>
                <a:latin typeface="Arial"/>
              </a:rPr>
              <a:t>Apslēpts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1. varianta izklājuma para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2743200" y="2119320"/>
            <a:ext cx="35812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1629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evadī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6687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2. varianta izklājuma para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272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143000" y="2526480"/>
            <a:ext cx="7162920" cy="26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arba un atpūtas režīms ir atkarīgs no veicamā darba rakstura. 8 stundu darba dienā nepārtrauktais darbs pie datora nedrīkst pārsniegt 4 stundas. Pēc katras stundas ieteicams 5-10 minūšu pārtraukums, pēc katrām 2 stundām - 15 minūšu pārtraukums. Pārtraukumu laikā ieteicami fiziski vingrināju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438280" y="533520"/>
            <a:ext cx="42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rba režī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1295280" y="259776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eksta kodēš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Attēlu kodēša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kaņas kodēš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1981080" y="60948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tu kod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8"/>
          <p:cNvSpPr/>
          <p:nvPr/>
        </p:nvSpPr>
        <p:spPr>
          <a:xfrm>
            <a:off x="1143000" y="1587960"/>
            <a:ext cx="396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ilo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eg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Gig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er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066680" y="304920"/>
            <a:ext cx="6964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Informācijas mērvienība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4"/>
          <p:cNvSpPr/>
          <p:nvPr/>
        </p:nvSpPr>
        <p:spPr>
          <a:xfrm>
            <a:off x="1926000" y="3808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tora komplek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4267080" y="2133720"/>
            <a:ext cx="40388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istēmas bl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astatū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p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34401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80"/>
          <p:cNvSpPr/>
          <p:nvPr/>
        </p:nvSpPr>
        <p:spPr>
          <a:xfrm>
            <a:off x="1680840" y="2133000"/>
            <a:ext cx="4110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lieldator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personālie 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klēpj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plaukst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1"/>
          <p:cNvSpPr/>
          <p:nvPr/>
        </p:nvSpPr>
        <p:spPr>
          <a:xfrm>
            <a:off x="2377800" y="685800"/>
            <a:ext cx="29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Datoru ti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5"/>
          <p:cNvSpPr/>
          <p:nvPr/>
        </p:nvSpPr>
        <p:spPr>
          <a:xfrm>
            <a:off x="2743200" y="30492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evietot attē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0"/>
          <p:cNvGrpSpPr/>
          <p:nvPr/>
        </p:nvGrpSpPr>
        <p:grpSpPr>
          <a:xfrm>
            <a:off x="1219320" y="457200"/>
            <a:ext cx="6629400" cy="6172200"/>
            <a:chOff x="1219320" y="457200"/>
            <a:chExt cx="6629400" cy="6172200"/>
          </a:xfrm>
        </p:grpSpPr>
        <p:pic>
          <p:nvPicPr>
            <p:cNvPr id="64" name="Picture 6" descr=""/>
            <p:cNvPicPr/>
            <p:nvPr/>
          </p:nvPicPr>
          <p:blipFill>
            <a:blip r:embed="rId1"/>
            <a:stretch/>
          </p:blipFill>
          <p:spPr>
            <a:xfrm>
              <a:off x="4952880" y="685800"/>
              <a:ext cx="289584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7" descr=""/>
            <p:cNvPicPr/>
            <p:nvPr/>
          </p:nvPicPr>
          <p:blipFill>
            <a:blip r:embed="rId2"/>
            <a:stretch/>
          </p:blipFill>
          <p:spPr>
            <a:xfrm>
              <a:off x="1676520" y="2895480"/>
              <a:ext cx="3733560" cy="37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5" descr=""/>
            <p:cNvPicPr/>
            <p:nvPr/>
          </p:nvPicPr>
          <p:blipFill>
            <a:blip r:embed="rId3"/>
            <a:stretch/>
          </p:blipFill>
          <p:spPr>
            <a:xfrm>
              <a:off x="1219320" y="457200"/>
              <a:ext cx="2547720" cy="32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8" descr=""/>
            <p:cNvPicPr/>
            <p:nvPr/>
          </p:nvPicPr>
          <p:blipFill>
            <a:blip r:embed="rId4"/>
            <a:stretch/>
          </p:blipFill>
          <p:spPr>
            <a:xfrm>
              <a:off x="5943600" y="4038480"/>
              <a:ext cx="1676520" cy="167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rlis</cp:lastModifiedBy>
  <dcterms:modified xsi:type="dcterms:W3CDTF">2009-12-02T11:00:32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