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2EB0-DBA8-4D60-9EA1-211C91F0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071B-4752-4284-94E7-DCAE54CE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6955-D0AE-4562-AC80-56C43F87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621B-FCAF-4C43-A9D5-6E76C87D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51D9-52F8-4EB5-B03F-A75F4E9E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E72-91F4-45CA-82AD-9D6205A2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51C1-7407-4EE3-AEAB-A13F053D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A755-EA87-4D04-ABFB-DDA4E3EB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9CD-72B7-4C9C-8EE6-87F229A7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19A-E887-442B-876E-39294E8D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9307-CF46-43E8-928E-A296266A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FCBD-8BF9-4565-AB10-ECD572C2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EDF6-C75E-4E3B-A8C7-A60B7E7DCBED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50920" y="476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ārlūkprogramma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1619280" y="47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ultivides lietot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5357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000" y="2743560"/>
            <a:ext cx="7442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lūkprogramma paredzēta globālā tīmekļa dokumentu apskatī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1916280"/>
            <a:ext cx="6642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ultivides lietotne paredzēta attēlu apskatīšanai, filmu rādīšanai, mūzikas atskaņo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8:33Z</dcterms:created>
  <dc:creator>gennady</dc:creator>
  <dc:description/>
  <dc:language>en-US</dc:language>
  <cp:lastModifiedBy>person</cp:lastModifiedBy>
  <dcterms:modified xsi:type="dcterms:W3CDTF">2009-11-28T12:13:46Z</dcterms:modified>
  <cp:revision>35</cp:revision>
  <dc:subject/>
  <dc:title>Slide 1</dc:title>
</cp:coreProperties>
</file>