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F482-0A8E-4CAF-91DE-07ABFE9170E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1E5A-6D2B-4E2A-8E5F-0492B0C8027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FD00-7CEE-45DC-B9B2-0EE4C973ADB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BE22-D570-444C-9CBA-B36E6DE058C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76160" y="507960"/>
            <a:ext cx="3541680" cy="2656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288720" y="3359160"/>
            <a:ext cx="632772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C3BD-4199-4D7E-91DA-2CF56B06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F2A-1FC2-4F21-B18A-21C8254B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435E-5B1E-487D-97B3-5C65F56F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45F5-D507-4E7D-8697-665221F3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7AB4-9644-4C10-B08F-6B2FFEA3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F9F0-3595-4589-AE77-E84B8127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B90E-8591-4363-9125-A7227D8B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3A70-2E1F-4ABF-AA29-D21F9063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073E-8FD8-4133-991D-FF7623AA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40BC-B94D-4654-8B0A-FD99E34E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25BA-EA80-4283-8B3C-ACA8B09A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A194-FEBC-4651-B5FA-BA5ABEAC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99DD-FD6F-44B5-A503-D1B6AAEDA81C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Teksta dubl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2" descr="1010305010_1"/>
          <p:cNvPicPr/>
          <p:nvPr/>
        </p:nvPicPr>
        <p:blipFill>
          <a:blip r:embed="rId1"/>
          <a:stretch/>
        </p:blipFill>
        <p:spPr>
          <a:xfrm>
            <a:off x="1600200" y="1371600"/>
            <a:ext cx="141912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6" descr="101030502010_4"/>
          <p:cNvPicPr/>
          <p:nvPr/>
        </p:nvPicPr>
        <p:blipFill>
          <a:blip r:embed="rId2"/>
          <a:stretch/>
        </p:blipFill>
        <p:spPr>
          <a:xfrm>
            <a:off x="1676520" y="3733920"/>
            <a:ext cx="1457280" cy="150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8" descr="101030502020_1"/>
          <p:cNvPicPr/>
          <p:nvPr/>
        </p:nvPicPr>
        <p:blipFill>
          <a:blip r:embed="rId3"/>
          <a:stretch/>
        </p:blipFill>
        <p:spPr>
          <a:xfrm>
            <a:off x="5791320" y="3733920"/>
            <a:ext cx="1666800" cy="1819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9"/>
          <p:cNvSpPr/>
          <p:nvPr/>
        </p:nvSpPr>
        <p:spPr>
          <a:xfrm>
            <a:off x="914400" y="2743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tmiņas mikroshē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0"/>
          <p:cNvSpPr/>
          <p:nvPr/>
        </p:nvSpPr>
        <p:spPr>
          <a:xfrm>
            <a:off x="1905120" y="5562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isk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1"/>
          <p:cNvSpPr/>
          <p:nvPr/>
        </p:nvSpPr>
        <p:spPr>
          <a:xfrm>
            <a:off x="5715000" y="5638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ietais 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2"/>
          <p:cNvSpPr/>
          <p:nvPr/>
        </p:nvSpPr>
        <p:spPr>
          <a:xfrm>
            <a:off x="548640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mpakt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3" descr=""/>
          <p:cNvPicPr/>
          <p:nvPr/>
        </p:nvPicPr>
        <p:blipFill>
          <a:blip r:embed="rId4"/>
          <a:stretch/>
        </p:blipFill>
        <p:spPr>
          <a:xfrm>
            <a:off x="5410080" y="990720"/>
            <a:ext cx="18003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4"/>
          <p:cNvGraphicFramePr/>
          <p:nvPr/>
        </p:nvGraphicFramePr>
        <p:xfrm>
          <a:off x="914400" y="533520"/>
          <a:ext cx="4863960" cy="546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3520"/>
                    <a:ext cx="486396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9"/>
          <p:cNvGraphicFramePr/>
          <p:nvPr/>
        </p:nvGraphicFramePr>
        <p:xfrm>
          <a:off x="838080" y="990720"/>
          <a:ext cx="7315200" cy="48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733920" y="1295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82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9"/>
          <p:cNvGrpSpPr/>
          <p:nvPr/>
        </p:nvGrpSpPr>
        <p:grpSpPr>
          <a:xfrm>
            <a:off x="5943600" y="228600"/>
            <a:ext cx="2514600" cy="2325600"/>
            <a:chOff x="5943600" y="228600"/>
            <a:chExt cx="2514600" cy="2325600"/>
          </a:xfrm>
        </p:grpSpPr>
        <p:pic>
          <p:nvPicPr>
            <p:cNvPr id="85" name="Picture 5" descr=""/>
            <p:cNvPicPr/>
            <p:nvPr/>
          </p:nvPicPr>
          <p:blipFill>
            <a:blip r:embed="rId2"/>
            <a:stretch/>
          </p:blipFill>
          <p:spPr>
            <a:xfrm>
              <a:off x="5943600" y="609480"/>
              <a:ext cx="251460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7"/>
            <p:cNvSpPr/>
            <p:nvPr/>
          </p:nvSpPr>
          <p:spPr>
            <a:xfrm>
              <a:off x="6553080" y="228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8229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8"/>
          <p:cNvSpPr/>
          <p:nvPr/>
        </p:nvSpPr>
        <p:spPr>
          <a:xfrm>
            <a:off x="373392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3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90" name="Picture 9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21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4"/>
          <p:cNvGrpSpPr/>
          <p:nvPr/>
        </p:nvGrpSpPr>
        <p:grpSpPr>
          <a:xfrm>
            <a:off x="5715000" y="228600"/>
            <a:ext cx="2743200" cy="2333520"/>
            <a:chOff x="5715000" y="228600"/>
            <a:chExt cx="2743200" cy="2333520"/>
          </a:xfrm>
        </p:grpSpPr>
        <p:pic>
          <p:nvPicPr>
            <p:cNvPr id="93" name="Picture 20" descr=""/>
            <p:cNvPicPr/>
            <p:nvPr/>
          </p:nvPicPr>
          <p:blipFill>
            <a:blip r:embed="rId2"/>
            <a:stretch/>
          </p:blipFill>
          <p:spPr>
            <a:xfrm>
              <a:off x="5715000" y="609480"/>
              <a:ext cx="274320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2"/>
            <p:cNvSpPr/>
            <p:nvPr/>
          </p:nvSpPr>
          <p:spPr>
            <a:xfrm>
              <a:off x="6248520" y="2286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7"/>
          <p:cNvSpPr/>
          <p:nvPr/>
        </p:nvSpPr>
        <p:spPr>
          <a:xfrm>
            <a:off x="1523880" y="2286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304920" y="1600200"/>
            <a:ext cx="1828800" cy="2057400"/>
          </a:xfrm>
          <a:prstGeom prst="plus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3048120" y="1905120"/>
            <a:ext cx="1079280" cy="1371600"/>
          </a:xfrm>
          <a:prstGeom prst="flowChartMagneticDrum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5943600" y="1371600"/>
            <a:ext cx="2160720" cy="1905120"/>
          </a:xfrm>
          <a:custGeom>
            <a:avLst/>
            <a:gdLst>
              <a:gd name="textAreaLeft" fmla="*/ 667800 w 2160720"/>
              <a:gd name="textAreaRight" fmla="*/ 1492920 w 2160720"/>
              <a:gd name="textAreaTop" fmla="*/ 727560 h 1905120"/>
              <a:gd name="textAreaBottom" fmla="*/ 1455480 h 1905120"/>
            </a:gdLst>
            <a:ahLst/>
            <a:rect l="textAreaLeft" t="textAreaTop" r="textAreaRight" b="textAreaBottom"/>
            <a:pathLst>
              <a:path w="2160588" h="1905000">
                <a:moveTo>
                  <a:pt x="2" y="727643"/>
                </a:moveTo>
                <a:lnTo>
                  <a:pt x="825276" y="727648"/>
                </a:lnTo>
                <a:lnTo>
                  <a:pt x="1080294" y="0"/>
                </a:lnTo>
                <a:lnTo>
                  <a:pt x="1335312" y="727648"/>
                </a:lnTo>
                <a:lnTo>
                  <a:pt x="2160586" y="727643"/>
                </a:lnTo>
                <a:lnTo>
                  <a:pt x="1492923" y="1177349"/>
                </a:lnTo>
                <a:lnTo>
                  <a:pt x="1747953" y="1904994"/>
                </a:lnTo>
                <a:lnTo>
                  <a:pt x="1080294" y="1455280"/>
                </a:lnTo>
                <a:lnTo>
                  <a:pt x="412635" y="1904994"/>
                </a:lnTo>
                <a:lnTo>
                  <a:pt x="667665" y="117734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85800" y="4191120"/>
            <a:ext cx="2133720" cy="1981080"/>
          </a:xfrm>
          <a:custGeom>
            <a:avLst/>
            <a:gdLst>
              <a:gd name="textAreaLeft" fmla="*/ 497520 w 2133720"/>
              <a:gd name="textAreaRight" fmla="*/ 1635480 w 2133720"/>
              <a:gd name="textAreaTop" fmla="*/ 208800 h 1981080"/>
              <a:gd name="textAreaBottom" fmla="*/ 1254600 h 1981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6324480" y="4343400"/>
            <a:ext cx="2514600" cy="1371600"/>
          </a:xfrm>
          <a:prstGeom prst="leftRightArrow">
            <a:avLst>
              <a:gd name="adj1" fmla="val 50000"/>
              <a:gd name="adj2" fmla="val 364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2895480" y="1295280"/>
            <a:ext cx="3353040" cy="1752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2362320" y="2057400"/>
            <a:ext cx="2895480" cy="2743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971800" y="2514600"/>
            <a:ext cx="3505320" cy="1905120"/>
          </a:xfrm>
          <a:prstGeom prst="rightArrow">
            <a:avLst>
              <a:gd name="adj1" fmla="val 50000"/>
              <a:gd name="adj2" fmla="val 4599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3733920" y="1219320"/>
            <a:ext cx="1904760" cy="198108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3352680" y="2666880"/>
            <a:ext cx="2057400" cy="1905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04812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2743200" cy="2522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1676520" y="3049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Efektu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5334120" y="4038480"/>
            <a:ext cx="24573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1447920" y="2057400"/>
            <a:ext cx="6172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700" spc="-1" strike="noStrike">
                <a:solidFill>
                  <a:srgbClr val="000000"/>
                </a:solidFill>
                <a:latin typeface="Arial"/>
              </a:rPr>
              <a:t>Apslēpt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1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2743200" y="2119320"/>
            <a:ext cx="3581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adī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6687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2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272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143000" y="2526480"/>
            <a:ext cx="7162920" cy="26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arba un atpūtas režīms ir atkarīgs no veicamā darba rakstura. 8 stundu darba dienā nepārtrauktais darbs pie datora nedrīkst pārsniegt 4 stundas. Pēc katras stundas ieteicams 5-10 minūšu pārtraukums, pēc katrām 2 stundām - 15 minūšu pārtraukums. Pārtraukumu laikā ieteicami fiziski vingrināju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438280" y="53352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rba režī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1295280" y="259776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ksta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Attēlu kodēša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kaņas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1981080" y="60948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u kod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1143000" y="1587960"/>
            <a:ext cx="396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ilo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e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Gi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r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066680" y="304920"/>
            <a:ext cx="696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Informācijas mērvienība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4"/>
          <p:cNvSpPr/>
          <p:nvPr/>
        </p:nvSpPr>
        <p:spPr>
          <a:xfrm>
            <a:off x="1926000" y="3808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ora komplek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4267080" y="2133720"/>
            <a:ext cx="40388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istēmas bl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asta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4401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0"/>
          <p:cNvSpPr/>
          <p:nvPr/>
        </p:nvSpPr>
        <p:spPr>
          <a:xfrm>
            <a:off x="1680840" y="2133000"/>
            <a:ext cx="411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lieldato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ersonālie 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klēpj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laukst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1"/>
          <p:cNvSpPr/>
          <p:nvPr/>
        </p:nvSpPr>
        <p:spPr>
          <a:xfrm>
            <a:off x="2377800" y="685800"/>
            <a:ext cx="29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Datoru ti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5"/>
          <p:cNvSpPr/>
          <p:nvPr/>
        </p:nvSpPr>
        <p:spPr>
          <a:xfrm>
            <a:off x="2743200" y="3049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ietot attē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0"/>
          <p:cNvGrpSpPr/>
          <p:nvPr/>
        </p:nvGrpSpPr>
        <p:grpSpPr>
          <a:xfrm>
            <a:off x="1219320" y="457200"/>
            <a:ext cx="6629400" cy="6172200"/>
            <a:chOff x="1219320" y="457200"/>
            <a:chExt cx="6629400" cy="6172200"/>
          </a:xfrm>
        </p:grpSpPr>
        <p:pic>
          <p:nvPicPr>
            <p:cNvPr id="64" name="Picture 6" descr=""/>
            <p:cNvPicPr/>
            <p:nvPr/>
          </p:nvPicPr>
          <p:blipFill>
            <a:blip r:embed="rId1"/>
            <a:stretch/>
          </p:blipFill>
          <p:spPr>
            <a:xfrm>
              <a:off x="4952880" y="685800"/>
              <a:ext cx="289584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"/>
            <p:cNvPicPr/>
            <p:nvPr/>
          </p:nvPicPr>
          <p:blipFill>
            <a:blip r:embed="rId2"/>
            <a:stretch/>
          </p:blipFill>
          <p:spPr>
            <a:xfrm>
              <a:off x="1676520" y="2895480"/>
              <a:ext cx="373356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5" descr=""/>
            <p:cNvPicPr/>
            <p:nvPr/>
          </p:nvPicPr>
          <p:blipFill>
            <a:blip r:embed="rId3"/>
            <a:stretch/>
          </p:blipFill>
          <p:spPr>
            <a:xfrm>
              <a:off x="1219320" y="457200"/>
              <a:ext cx="2547720" cy="32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8" descr=""/>
            <p:cNvPicPr/>
            <p:nvPr/>
          </p:nvPicPr>
          <p:blipFill>
            <a:blip r:embed="rId4"/>
            <a:stretch/>
          </p:blipFill>
          <p:spPr>
            <a:xfrm>
              <a:off x="5943600" y="403848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rlis</cp:lastModifiedBy>
  <dcterms:modified xsi:type="dcterms:W3CDTF">2009-12-02T11:00:32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