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8A100-6B10-458D-BFE2-BB1915376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ADB00-774E-4DC4-BD37-5395222C0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C573-AB6B-4F3A-B13C-CB183A77C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0EFCC-3661-4338-92AF-791FAE04E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3D2B4-2DA8-4544-A657-E0BAD16B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42B7-EAED-48C5-95FD-5194B2B42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57A9-B3C2-495F-8B66-15707E895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DE11B-AFD9-4BBC-9274-1AFD3F97C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5A75-0F8C-4047-A31F-64B101C107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2C7-AA37-4C0C-AB21-618B1644A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89400-20D8-4904-A652-A0A010EAC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99645-F9D1-4A1D-92C7-CED3634FE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95B0F-8422-4EF8-9640-BDC7DB12858B}" type="slidenum">
              <a:rPr b="0" lang="lv-LV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2050920" y="476280"/>
            <a:ext cx="482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ārlūkprogramma</a:t>
            </a:r>
            <a:endParaRPr b="0" lang="en-US" sz="44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1"/>
          <a:stretch/>
        </p:blipFill>
        <p:spPr>
          <a:xfrm>
            <a:off x="1000080" y="1714680"/>
            <a:ext cx="7429680" cy="45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14"/>
          <p:cNvSpPr/>
          <p:nvPr/>
        </p:nvSpPr>
        <p:spPr>
          <a:xfrm>
            <a:off x="1619280" y="476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600" spc="-1" strike="noStrike">
                <a:solidFill>
                  <a:srgbClr val="000000"/>
                </a:solidFill>
                <a:latin typeface="Arial"/>
              </a:rPr>
              <a:t>Multivides lietotne</a:t>
            </a:r>
            <a:endParaRPr b="0" lang="en-US" sz="36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  <p:pic>
        <p:nvPicPr>
          <p:cNvPr id="44" name="Picture 15" descr=""/>
          <p:cNvPicPr/>
          <p:nvPr/>
        </p:nvPicPr>
        <p:blipFill>
          <a:blip r:embed="rId1"/>
          <a:stretch/>
        </p:blipFill>
        <p:spPr>
          <a:xfrm>
            <a:off x="2143080" y="1500120"/>
            <a:ext cx="5357880" cy="46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6"/>
          <p:cNvSpPr/>
          <p:nvPr/>
        </p:nvSpPr>
        <p:spPr>
          <a:xfrm>
            <a:off x="900000" y="2743560"/>
            <a:ext cx="744228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Pārlūkprogramma paredzēta globālā tīmekļa dokumentu apskatī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Rectangle 5"/>
          <p:cNvSpPr/>
          <p:nvPr/>
        </p:nvSpPr>
        <p:spPr>
          <a:xfrm>
            <a:off x="1187280" y="1916280"/>
            <a:ext cx="6642360" cy="703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Arial"/>
              </a:rPr>
              <a:t>Multivides lietotne paredzēta attēlu apskatīšanai, filmu rādīšanai, mūzikas atskaņošanai</a:t>
            </a:r>
            <a:endParaRPr b="0" lang="en-US" sz="20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6T19:38:33Z</dcterms:created>
  <dc:creator>gennady</dc:creator>
  <dc:description/>
  <dc:language>en-US</dc:language>
  <cp:lastModifiedBy>person</cp:lastModifiedBy>
  <dcterms:modified xsi:type="dcterms:W3CDTF">2009-11-28T12:13:46Z</dcterms:modified>
  <cp:revision>35</cp:revision>
  <dc:subject/>
  <dc:title>Slide 1</dc:title>
</cp:coreProperties>
</file>