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44A5-3E3A-45BA-91F0-DF9DACF9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3FE0-6AC4-4BC0-B171-8FA70A81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F494-5056-484A-8A75-654025DC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A76B-A73C-4C46-829B-1D88AA08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DC64-6488-44AA-A475-C19204E8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186F-6BB4-457A-9076-46F8E6EA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8E2F-7AE5-4830-8695-9052A696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847D-A99E-4A54-8F08-4541AEFA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4D1C-DB9D-416F-B70A-869F0F3C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BCE6-90F7-4BB4-9F09-60AAD6BC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7831-CF1C-475A-AB51-235BBBAD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106C-F23C-4B52-80C2-1513E0F7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A3F5-665E-46CC-B6BB-AB2EC742D4CF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rita.birzina@lu.l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ahoma"/>
              </a:rPr>
              <a:t>Power Point programmas izman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ita Birziņ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U Bioloģijas fakultā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lai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vi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8280" y="181080"/>
            <a:ext cx="7300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negatīvais aspekt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eicina labprātīgas diskusijas veidošanos klas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ar brīvi darboties ar teks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ispārējie nosacījumi (6x6) ierobež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ja vajag pasniegt plaša apjoma informāciju, nepieciešams daudz slaid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ātra slaidu caurskatīšana prezentācijas laikā nepadara prezentāciju vērtīgā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52560" y="0"/>
            <a:ext cx="667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negatīvais aspekt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2636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r viegli kļūt par prezentācijas vadītāja aizstājēju, nevis palīgspēku. Vizuālā līdzekļa vietā runātājs pats kļūst par audio līdzekli slai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iek pievērsta pārāk liela uzmanība slaida struktūrai. Skaidra uzbūve ir raksturīga verbālai prezentācijai, pat ja tiek izmantoti vizuālie līdzekļ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nodibināt nepieciešamo saikni ar auditoriju, kas tomēr ir svarīga, lai padarītu ziņojumu atmiņā paliekoš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rāk pievēršas slaida vizualizācijai, cenšoties nodibināt saikni ar klausītājiem, bet tajā pašā laikā  palaiž garām iespēju atkārtot, izmantojot, piemēram, metaforas un citus līdzekļus, lai padarītu prezentāciju par atmiņā paliekoš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radīt personisko iespa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aldies par uzmanīb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78000" y="10414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Rita Birziņ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Latvijas Universi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Bioloģijas fakul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Kronvalda bulv.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Rīga, LV-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rita.birzina@lu.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65400" y="3409920"/>
            <a:ext cx="65721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13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Nodarbības mērķi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zin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as ir prezentā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du programmu izmanto tās veidošan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to darī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ai ir apgūtas datora lietošanas pamatpra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270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gribētu uzzinā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eidošanas nosacī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komponent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rāsu saskaņotī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nimācijas un hipersa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izmantot klas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55480" y="334800"/>
          <a:ext cx="80899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334800"/>
                    <a:ext cx="80899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Kas ir prezentācija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4280" y="1019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as mērķis ir komunikā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u vei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otivējoša (lai pārliecinā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struktīva/apmācoša (sagatavošana uzdevuma izpildei, demonstrējum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formatī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r noteiktu tē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ārsk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240" y="5662440"/>
            <a:ext cx="827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preparing effective presentations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. ENAR http://www.enar.org/presentationguidelin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Marina Canapero. Guidelines for Scientific Presentations. http://claweb.cla.unipd.it/home/mcanapero/present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89640" y="3808440"/>
            <a:ext cx="38066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313160" y="184320"/>
          <a:ext cx="4106880" cy="55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3160" y="184320"/>
                    <a:ext cx="410688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0160" y="324000"/>
            <a:ext cx="297180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Efektīvas prezentācijas izveides nosacījum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1360" y="184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Prezentācijas ilgu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1120" y="123300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dējais uzmanības noturīguma līmenis pieaugušajiem ir 20 minū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rmās 20 minūtēs viņi sekos līdzi prezentācijai, bet pēc tam sāks garlaikoties vai darīt ko c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ai piesaistītu uzmanību, jāpiedāvā iespēja atpūsties, ko var izdarī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stāstot kādu notikum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rādot demonstrēju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 arī darot kaut ko tādu, kas ļauj smadzenēm atpūsties. Tikai nevajag pārspīlēt ar atpūtas ilgumu, jo tā garāka, jo grūtāk atkal sasparoties nopietnam darb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enā minūtē iespējams parādīt 1-2 slaid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onferencēs ieteicams plānot - 15 minūtes uzstāšanās laiks 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+ 5 minūtes – atbildes uz jautājumi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8200" y="5826240"/>
            <a:ext cx="8222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Brad Vander Zanden. Preparing an Effective Presentation. http://www.cs.utk.edu/~bvz/presentation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Slaida struktū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Grafiskais piedāvāj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zīmē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Hipersa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nimācijas efek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obj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51:05Z</dcterms:created>
  <dc:creator> </dc:creator>
  <dc:description/>
  <dc:language>en-US</dc:language>
  <cp:lastModifiedBy>Viesturs</cp:lastModifiedBy>
  <dcterms:modified xsi:type="dcterms:W3CDTF">2008-12-02T14:55:44Z</dcterms:modified>
  <cp:revision>134</cp:revision>
  <dc:subject/>
  <dc:title>Slide 1</dc:title>
</cp:coreProperties>
</file>