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53DF-956D-4C0B-87C4-6596AC89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E59F-F066-472F-8BC0-9C8E5BD4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6AB-2116-47DC-AB61-6EE69AB8D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C111-42DC-4DB3-9E03-61633AFC0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C26-F03A-473E-9456-BA0FF1B3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E80-008B-477F-B9B6-950B1B35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85F-B079-42B3-8916-99CB80A3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B80F-305A-47C7-A9D0-A62F314F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71D-F3E3-41CD-A655-F327A609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D46-27CF-4166-8337-64B18531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C615-CEED-4D1A-98EB-1B5F00DB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8B6-34A9-4EF5-8353-42ED7ADA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8013-2DA4-4DF6-96A2-B45D4FA512E4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Ieskaite 2009, 6. modulis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Arial"/>
              </a:rPr>
              <a:t>Prezentāciju vei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Uzdevumu sagatavošanai izmantoti materiā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ower Point programmas izmantošan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. Birziņa  LU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2. Microsoft Power Point 2003. 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rezentāciju veidošana -1. daļa 8. le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. Dukulis Turība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28800" y="152280"/>
            <a:ext cx="206676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1876320" cy="1143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14800" y="152280"/>
            <a:ext cx="138096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467480" y="76320"/>
            <a:ext cx="1548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1905120"/>
            <a:ext cx="1676520" cy="457200"/>
          </a:xfrm>
          <a:prstGeom prst="leftRightArrow">
            <a:avLst>
              <a:gd name="adj1" fmla="val 50000"/>
              <a:gd name="adj2" fmla="val 72999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638680" y="4800600"/>
            <a:ext cx="22100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ek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3733920"/>
            <a:ext cx="1600200" cy="1447560"/>
          </a:xfrm>
          <a:custGeom>
            <a:avLst/>
            <a:gdLst>
              <a:gd name="textAreaLeft" fmla="*/ 659160 w 1600200"/>
              <a:gd name="textAreaRight" fmla="*/ 941040 w 1600200"/>
              <a:gd name="textAreaTop" fmla="*/ 596520 h 1447560"/>
              <a:gd name="textAreaBottom" fmla="*/ 85104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133720"/>
            <a:ext cx="1981080" cy="114300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4080" y="1523880"/>
            <a:ext cx="1981440" cy="281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7400" y="1600200"/>
            <a:ext cx="2895480" cy="2514600"/>
          </a:xfrm>
          <a:prstGeom prst="lightningBolt">
            <a:avLst/>
          </a:prstGeom>
          <a:solidFill>
            <a:srgbClr val="99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905120"/>
            <a:ext cx="2286000" cy="2438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548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fe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1905120"/>
            <a:ext cx="3504960" cy="1526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604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Virsra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ksts, teksts, teksts, tek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2514600" cy="1544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867280" y="4267080"/>
            <a:ext cx="2266920" cy="2009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447920" y="396252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52280" y="838080"/>
            <a:ext cx="8788680" cy="4819680"/>
            <a:chOff x="152280" y="838080"/>
            <a:chExt cx="8788680" cy="48196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3073680" cy="47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152280" y="1143000"/>
              <a:ext cx="436572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 rot="8202600">
              <a:off x="2171520" y="2476080"/>
              <a:ext cx="3504960" cy="129564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990000"/>
                  </a:solidFill>
                  <a:latin typeface="Arial"/>
                </a:rPr>
                <a:t>Apslēpts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1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733920" y="2743200"/>
            <a:ext cx="17431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2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9880" y="2743200"/>
            <a:ext cx="175284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3. varianta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173844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14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zklājums 4. variant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733920" y="2590920"/>
            <a:ext cx="17334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Piemēro burtu lielumu salasāmī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rezentācijas virsrakstiem lieto burtu izmērus vismaz ar 32 punktiem, tekstam slīdā – vismaz 24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ārliecinies par teksta saskatāmību no zāles pēdējā rindā sēdoš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ēc noklusējuma virsraksta burti ir 44 punkti, bet teksts slīdā - 32 pun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Burtu izmērus iespējams samazināt, iegūstot vairāk vietas slīd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111480" cy="3733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410080" y="1447920"/>
            <a:ext cx="3111480" cy="373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Kreis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abā p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362320" y="2666880"/>
            <a:ext cx="3962160" cy="2286000"/>
            <a:chOff x="2362320" y="2666880"/>
            <a:chExt cx="3962160" cy="2286000"/>
          </a:xfrm>
        </p:grpSpPr>
        <p:sp>
          <p:nvSpPr>
            <p:cNvPr id="51" name=""/>
            <p:cNvSpPr/>
            <p:nvPr/>
          </p:nvSpPr>
          <p:spPr>
            <a:xfrm>
              <a:off x="3886200" y="2743200"/>
              <a:ext cx="2438280" cy="1981080"/>
            </a:xfrm>
            <a:custGeom>
              <a:avLst/>
              <a:gdLst>
                <a:gd name="textAreaLeft" fmla="*/ 573120 w 2438280"/>
                <a:gd name="textAreaRight" fmla="*/ 1863720 w 2438280"/>
                <a:gd name="textAreaTop" fmla="*/ 232920 h 1981080"/>
                <a:gd name="textAreaBottom" fmla="*/ 1242720 h 19810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99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2320" y="2666880"/>
              <a:ext cx="1523880" cy="213372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00400" y="3124080"/>
              <a:ext cx="1523880" cy="1828800"/>
            </a:xfrm>
            <a:prstGeom prst="smileyFace">
              <a:avLst>
                <a:gd name="adj" fmla="val 9282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90033"/>
                </a:solidFill>
                <a:latin typeface="Arial"/>
              </a:rPr>
              <a:t>Prezentācijas struk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978440"/>
            <a:ext cx="7183440" cy="9144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600200" y="2818440"/>
            <a:ext cx="6748560" cy="2027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990720"/>
            <a:ext cx="2514600" cy="16761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914400"/>
            <a:ext cx="106668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851120" y="685800"/>
          <a:ext cx="4965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685800"/>
                    <a:ext cx="4965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914400"/>
          <a:ext cx="8731080" cy="58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731080" cy="58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ola</cp:lastModifiedBy>
  <dcterms:modified xsi:type="dcterms:W3CDTF">2008-11-28T11:30:17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