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157A-BEC1-49AC-A9B4-2CDEDC82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C618-291A-4099-B761-3CECAEC3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99CF-D233-4B3E-A0B4-BC4AC6B9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5762-E673-4DC8-B6D8-8E7E0EB9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B413-FCD1-4FCA-814F-9EF7B4B4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63E-F40F-42A5-98D3-70305328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0D6B-3B9C-432A-A142-F9EDED35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6D3A-C2A8-4014-AA34-24F6CE13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6968-3121-44A4-B9D6-7BEBBE41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AB3-D56D-423A-B958-4BB9646B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701D-A5A2-4775-ACB0-3C492365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2AC5-5A92-43AC-877B-E1EFAE23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8B15-E8D4-453F-B905-69B8CD4EE69D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rita.birzina@lu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ahoma"/>
              </a:rPr>
              <a:t>Power Point programmas izman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ita Birziņ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U Bioloģijas fakultā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la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vi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8280" y="181080"/>
            <a:ext cx="7300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negatīvais aspekt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eicina labprātīgas diskusijas veidošanos klas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ar brīvi darboties ar tek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spārējie nosacījumi (6x6) ierobež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ja vajag pasniegt plaša apjoma informāciju, nepieciešams daudz slai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ātra slaidu caurskatīšana prezentācijas laikā nepadara prezentāciju vērtīgā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52560" y="0"/>
            <a:ext cx="667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negatīvais aspekt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2636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r viegli kļūt par prezentācijas vadītāja aizstājēju, nevis palīgspēku. Vizuālā līdzekļa vietā runātājs pats kļūst par audio līdzekli slai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iek pievērsta pārāk liela uzmanība slaida struktūrai. Skaidra uzbūve ir raksturīga verbālai prezentācijai, pat ja tiek izmantoti vizuālie līdzekļ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nodibināt nepieciešamo saikni ar auditoriju, kas tomēr ir svarīga, lai padarītu ziņojumu atmiņā paliekoš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rāk pievēršas slaida vizualizācijai, cenšoties nodibināt saikni ar klausītājiem, bet tajā pašā laikā  palaiž garām iespēju atkārtot, izmantojot, piemēram, metaforas un citus līdzekļus, lai padarītu prezentāciju par atmiņā paliekoš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radīt personisko iespa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78000" y="10414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Rita Birziņ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atvijas Universi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ioloģijas fakul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ronvalda bulv.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Rīga, LV-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ita.birzina@lu.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65400" y="3409920"/>
            <a:ext cx="65721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13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Nodarbības mērķ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zin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as ir prezentā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u programmu izmanto tās veidoša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to dar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ai ir apgūtas datora lietošanas pamatpra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27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gribētu uzzinā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eidošanas nosacī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komponen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rāsu saskaņotī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nimācijas un hipersa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izmantot klas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55480" y="334800"/>
          <a:ext cx="80899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334800"/>
                    <a:ext cx="80899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Kas ir prezentācij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019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as mērķis ir komunik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u vei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otivējoša (lai pārliecinā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struktīva/apmācoša (sagatavošana uzdevuma izpildei, demonstrējum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ormatī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r noteiktu tē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ārsk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240" y="5662440"/>
            <a:ext cx="827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preparing effective presentations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. ENAR http://www.enar.org/presentationguidelin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Marina Canapero. Guidelines for Scientific Presentations. http://claweb.cla.unipd.it/home/mcanapero/present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89640" y="3808440"/>
            <a:ext cx="3806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313160" y="184320"/>
          <a:ext cx="4106880" cy="55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3160" y="184320"/>
                    <a:ext cx="41068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0160" y="324000"/>
            <a:ext cx="29718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Efektīvas prezentācijas izveides nosacījum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360" y="184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Prezentācijas ilgu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1120" y="123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dējais uzmanības noturīguma līmenis pieaugušajiem ir 20 minū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rmās 20 minūtēs viņi sekos līdzi prezentācijai, bet pēc tam sāks garlaikoties vai darīt ko c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ai piesaistītu uzmanību, jāpiedāvā iespēja atpūsties, ko var izdarī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stāstot kādu notikum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rādot demonstrēju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 arī darot kaut ko tādu, kas ļauj smadzenēm atpūsties. Tikai nevajag pārspīlēt ar atpūtas ilgumu, jo tā garāka, jo grūtāk atkal sasparoties nopietnam darb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enā minūtē iespējams parādīt 1-2 slaid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nferencēs ieteicams plānot - 15 minūtes uzstāšanās laiks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+ 5 minūtes – atbildes uz jautājumi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8200" y="5826240"/>
            <a:ext cx="822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Brad Vander Zanden. Preparing an Effective Presentation. http://www.cs.utk.edu/~bvz/presentatio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Slaida struktū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rafiskais piedāvāj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zīmē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persa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nimācijas 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obj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51:05Z</dcterms:created>
  <dc:creator> </dc:creator>
  <dc:description/>
  <dc:language>en-US</dc:language>
  <cp:lastModifiedBy>Viesturs</cp:lastModifiedBy>
  <dcterms:modified xsi:type="dcterms:W3CDTF">2008-12-02T14:55:44Z</dcterms:modified>
  <cp:revision>134</cp:revision>
  <dc:subject/>
  <dc:title>Slide 1</dc:title>
</cp:coreProperties>
</file>