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723-8EE8-40F8-9C13-24AD4FFD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7EA-11ED-4F13-91DB-5C4F5A5F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016-E592-47CF-A264-61151C49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E6E0-AF64-463D-A24A-5C9F4549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CD6-222C-4D9E-BDAF-69576E2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6FE-44B6-443D-B358-2D69FD4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22B-54F4-4856-9A2E-6EF4110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405E-8AC2-4C75-B18E-C690B3181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465-337E-4A94-AC36-CB5A6511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BAFD-D6FB-4180-9FFE-7A0659B5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057-9DBD-420F-BB1B-A2520959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719C-A8A5-42D3-B286-57476589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D520-A4D7-4176-9199-C7D523D94A5D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rita.birzina@lu.lv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Tahoma"/>
              </a:rPr>
              <a:t>Power Point programmas izman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ita Birzi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U Bioloģijas fakultā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la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vi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38280" y="181080"/>
            <a:ext cx="73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Arial"/>
              </a:rPr>
              <a:t>negatīvais aspekt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eicina labprātīgas diskusijas veidošanos klas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Nevar brīvi darboties ar teks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vispārējie nosacījumi (6x6) ierobež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ja vajag pasniegt plaša apjoma informāciju, nepieciešams daudz slaid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ātra slaidu caurskatīšana prezentācijas laikā nepadara prezentāciju vērtīgā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2560" y="0"/>
            <a:ext cx="667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Prezentācijas izmantošanas </a:t>
            </a:r>
            <a:br>
              <a:rPr sz="3200"/>
            </a:br>
            <a:r>
              <a:rPr b="0" lang="lv-LV" sz="3200" spc="-1" strike="noStrike">
                <a:solidFill>
                  <a:srgbClr val="990033"/>
                </a:solidFill>
                <a:latin typeface="Tahoma"/>
              </a:rPr>
              <a:t>negatīvais aspekts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12636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r viegli kļūt par prezentācijas vadītāja aizstājēju, nevis palīgspēku. Vizuālā līdzekļa vietā runātājs pats kļūst par audio līdzekli slaid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iek pievērsta pārāk liela uzmanība slaida struktūrai. Skaidra uzbūve ir raksturīga verbālai prezentācijai, pat ja tiek izmantoti vizuālie līdzekļ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nodibināt nepieciešamo saikni ar auditoriju, kas tomēr ir svarīga, lai padarītu ziņojumu atmiņā paliekoš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rāk pievēršas slaida vizualizācijai, cenšoties nodibināt saikni ar klausītājiem, bet tajā pašā laikā  palaiž garām iespēju atkārtot, izmantojot, piemēram, metaforas un citus līdzekļus, lai padarītu prezentāciju par atmiņā paliekoš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ieži vien neizdodas radīt personisko iespai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8000" y="10414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imes New Roman"/>
              </a:rPr>
              <a:t>Rita Birziņ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Latvijas Universi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Bioloģijas fakultā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Kronvalda bulv.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Rīga, LV-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rita.birzina@lu.l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165400" y="3409920"/>
            <a:ext cx="657216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13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Nodarbības mērķi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zi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as ir prezentā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du programmu izmanto tās veidošan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to darī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ai ir apgūtas datora lietošanas pamatpra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270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Ko es gribētu uzzinā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eidošanas nosacī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komponen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rāsu saskaņotī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nimācijas un hipersa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ā izmantot klas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555480" y="334800"/>
          <a:ext cx="80899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480" y="334800"/>
                    <a:ext cx="80899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3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Kas ir prezentācij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14280" y="101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as mērķis ir komunik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rezentāciju vei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motivējoša (lai pārliecinā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struktīva/apmācoša (sagatavošana uzdevuma izpildei, demonstrējum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informatī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ar noteiktu tē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ārsk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240" y="5662440"/>
            <a:ext cx="827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elines for preparing effective presentations</a:t>
            </a: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. ENAR http://www.enar.org/presentationguidelin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Marina Canapero. Guidelines for Scientific Presentations. http://claweb.cla.unipd.it/home/mcanapero/present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89640" y="3808440"/>
            <a:ext cx="3806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313160" y="184320"/>
          <a:ext cx="410688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3160" y="184320"/>
                    <a:ext cx="410688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0160" y="324000"/>
            <a:ext cx="297180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Efektīvas prezentācijas izveides nosacījum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1360" y="1843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Prezentācijas ilgu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120" y="123300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dējais uzmanības noturīguma līmenis pieaugušajiem ir 20 minū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rmās 20 minūtēs viņi sekos līdzi prezentācijai, bet pēc tam sāks garlaikoties vai darīt ko c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ai piesaistītu uzmanību, jāpiedāvā iespēja atpūsties, ko var izdarī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stāstot kādu notikum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parādot demonstrēju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ai arī darot kaut ko tādu, kas ļauj smadzenēm atpūsties. Tikai nevajag pārspīlēt ar atpūtas ilgumu, jo tā garāka, jo grūtāk atkal sasparoties nopietnam darb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Vienā minūtē iespējams parādīt 1-2 slaid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onferencēs ieteicams plānot - 15 minūtes uzstāšanās laiks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+ 5 minūtes – atbildes uz jautājumi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8200" y="5826240"/>
            <a:ext cx="822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Brad Vander Zanden. Preparing an Effective Presentation. http://www.cs.utk.edu/~bvz/presentation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836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400" spc="-1" strike="noStrike">
                <a:solidFill>
                  <a:srgbClr val="990033"/>
                </a:solidFill>
                <a:latin typeface="Tahoma"/>
              </a:rPr>
              <a:t>Slaida struktū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Tek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F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Grafiskais piedāvāj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b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iagram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ttē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zīmēj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Hipersa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nimācijas efek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7240" y="2278080"/>
            <a:ext cx="7410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Prezentācijas obj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51:05Z</dcterms:created>
  <dc:creator> </dc:creator>
  <dc:description/>
  <dc:language>en-US</dc:language>
  <cp:lastModifiedBy>Viesturs</cp:lastModifiedBy>
  <dcterms:modified xsi:type="dcterms:W3CDTF">2008-12-02T14:55:44Z</dcterms:modified>
  <cp:revision>134</cp:revision>
  <dc:subject/>
  <dc:title>Slide 1</dc:title>
</cp:coreProperties>
</file>