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1622-290D-4556-8145-CCB709ACE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FB08-A161-43C5-A5B2-3EBFC9D27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D971-848C-475C-8BA0-E1030D056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C7D2-CC01-4640-A892-E4A9BA07A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A9CF-DF46-49CE-8083-D3FB6C58D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B717-8B16-43A1-882C-8F9C3C3DE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5586-B050-4E4D-8495-718722A69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2294-2AB2-4E86-A443-42D6D7184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206D-6334-4B45-9B3A-B0D00BD8B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E3FF-082D-4BDE-A334-78758E865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3A33-DC95-4FC8-9495-1E79006CA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2724-7187-489E-986F-E008D8FF4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55E2A-A48B-4B29-BFE3-53A1E156F7DA}" type="slidenum">
              <a:rPr b="0" lang="lv-LV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rita.birzina@lu.lv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Tahoma"/>
              </a:rPr>
              <a:t>Power Point programmas izmant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Rita Birziņ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U Bioloģijas fakultā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47240" y="2278080"/>
            <a:ext cx="7410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rezentācijas lai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7240" y="2278080"/>
            <a:ext cx="7410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rezentācijas vie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38280" y="181080"/>
            <a:ext cx="73008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990033"/>
                </a:solidFill>
                <a:latin typeface="Arial"/>
              </a:rPr>
              <a:t>Prezentācijas izmantošanas </a:t>
            </a:r>
            <a:br>
              <a:rPr sz="3200"/>
            </a:br>
            <a:r>
              <a:rPr b="0" lang="lv-LV" sz="3200" spc="-1" strike="noStrike">
                <a:solidFill>
                  <a:srgbClr val="990033"/>
                </a:solidFill>
                <a:latin typeface="Arial"/>
              </a:rPr>
              <a:t>negatīvais aspekts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Neveicina labprātīgas diskusijas veidošanos klas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Nevar brīvi darboties ar teks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vispārējie nosacījumi (6x6) ierobež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ja vajag pasniegt plaša apjoma informāciju, nepieciešams daudz slaid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ātra slaidu caurskatīšana prezentācijas laikā nepadara prezentāciju vērtīgā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52560" y="0"/>
            <a:ext cx="667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990033"/>
                </a:solidFill>
                <a:latin typeface="Tahoma"/>
              </a:rPr>
              <a:t>Prezentācijas izmantošanas </a:t>
            </a:r>
            <a:br>
              <a:rPr sz="3200"/>
            </a:br>
            <a:r>
              <a:rPr b="0" lang="lv-LV" sz="3200" spc="-1" strike="noStrike">
                <a:solidFill>
                  <a:srgbClr val="990033"/>
                </a:solidFill>
                <a:latin typeface="Tahoma"/>
              </a:rPr>
              <a:t>negatīvais aspekts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3280" y="12636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r viegli kļūt par prezentācijas vadītāja aizstājēju, nevis palīgspēku. Vizuālā līdzekļa vietā runātājs pats kļūst par audio līdzekli slaid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tiek pievērsta pārāk liela uzmanība slaida struktūrai. Skaidra uzbūve ir raksturīga verbālai prezentācijai, pat ja tiek izmantoti vizuālie līdzekļ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bieži vien neizdodas nodibināt nepieciešamo saikni ar auditoriju, kas tomēr ir svarīga, lai padarītu ziņojumu atmiņā paliekoš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vairāk pievēršas slaida vizualizācijai, cenšoties nodibināt saikni ar klausītājiem, bet tajā pašā laikā  palaiž garām iespēju atkārtot, izmantojot, piemēram, metaforas un citus līdzekļus, lai padarītu prezentāciju par atmiņā paliekoš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bieži vien neizdodas radīt personisko iespai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aldies par uzmanīb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78000" y="104148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Rita Birziņ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Latvijas Universitā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Bioloģijas fakultā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Kronvalda bulv. 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Rīga, LV-1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rita.birzina@lu.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165400" y="3409920"/>
            <a:ext cx="657216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213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Nodarbības mērķi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Ko es zin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as ir prezentā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ādu programmu izmanto tās veidošan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ā to darī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vai ir apgūtas datora lietošanas pamatpras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270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Ko es gribētu uzzinā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veidošanas nosacīju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rezentācijas komponenti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ek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f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krāsu saskaņotī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abu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diagram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attē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animācijas un hipersa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ā izmantot klas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555480" y="334800"/>
          <a:ext cx="80899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5480" y="334800"/>
                    <a:ext cx="80899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13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Kas ir prezentācija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14280" y="1019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rezentācijas mērķis ir komunikā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rezentāciju veid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motivējoša (lai pārliecināt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nstruktīva/apmācoša (sagatavošana uzdevuma izpildei, demonstrējum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nformatī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ar noteiktu tē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ārsk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9240" y="5662440"/>
            <a:ext cx="8273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s for preparing effective presentations</a:t>
            </a: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. ENAR http://www.enar.org/presentationguideline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Marina Canapero. Guidelines for Scientific Presentations. http://claweb.cla.unipd.it/home/mcanapero/presentation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89640" y="3808440"/>
            <a:ext cx="3806640" cy="15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4313160" y="184320"/>
          <a:ext cx="4106880" cy="55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3160" y="184320"/>
                    <a:ext cx="4106880" cy="55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60160" y="324000"/>
            <a:ext cx="297180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Efektīvas prezentācijas izveides nosacījum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1360" y="184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Prezentācijas ilgu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1120" y="123300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Vidējais uzmanības noturīguma līmenis pieaugušajiem ir 20 minūt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Pirmās 20 minūtēs viņi sekos līdzi prezentācijai, bet pēc tam sāks garlaikoties vai darīt ko ci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Lai piesaistītu uzmanību, jāpiedāvā iespēja atpūsties, ko var izdarī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pastāstot kādu notikumu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parādot demonstrējum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Vai arī darot kaut ko tādu, kas ļauj smadzenēm atpūsties. Tikai nevajag pārspīlēt ar atpūtas ilgumu, jo tā garāka, jo grūtāk atkal sasparoties nopietnam darb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Vienā minūtē iespējams parādīt 1-2 slaid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Konferencēs ieteicams plānot - 15 minūtes uzstāšanās laiks </a:t>
            </a:r>
            <a:br>
              <a:rPr sz="2000"/>
            </a:b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+ 5 minūtes – atbildes uz jautājumi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8200" y="5826240"/>
            <a:ext cx="8222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Brad Vander Zanden. Preparing an Effective Presentation. http://www.cs.utk.edu/~bvz/presentation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Slaida struktūr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Tek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F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Grafiskais piedāvāju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tabu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diagram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attē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zīmēju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Hipersa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Animācijas efek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7240" y="2278080"/>
            <a:ext cx="7410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rezentācijas elemen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7240" y="2278080"/>
            <a:ext cx="7410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rezentācijas objek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3:51:05Z</dcterms:created>
  <dc:creator> </dc:creator>
  <dc:description/>
  <dc:language>en-US</dc:language>
  <cp:lastModifiedBy>Viesturs</cp:lastModifiedBy>
  <dcterms:modified xsi:type="dcterms:W3CDTF">2008-12-02T14:55:44Z</dcterms:modified>
  <cp:revision>134</cp:revision>
  <dc:subject/>
  <dc:title>Slide 1</dc:title>
</cp:coreProperties>
</file>