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B32E1A1-3C08-469F-A208-D5533067CA9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73AE3FE-ED1E-4114-9315-0F433252CEB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61C88BB-73C8-4E43-B04C-E586CC96A31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AA0-ED14-41ED-B863-639CA519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795-2D44-422E-A06E-FE22FC84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C6ADDD-53D6-4B22-AFE8-41FAFA9EED4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17B919-40B2-4EF4-8DA2-D7FADB15863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B54354-7DA7-49C6-A818-2170BA98132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C89CF-79C3-4C22-95B0-809F462F7C5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62F73-9D64-4C80-88DC-760222A1B31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058CA2-7DC3-4D56-8F1D-A1F09071782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CEF8B7-1CF8-4D08-98E1-B1888A14957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DF30C2-5115-42C1-B851-A84613D9158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D06086-AC5F-4E83-A0B9-A522BC6CCE1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F8625-15D1-42C7-BCF9-4D2144391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496-F80D-430B-B91F-3EEDAD79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3AEFD-FAAF-4FAD-95F4-19E355844A9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EED787-F5E8-404C-8E0A-47E00AE201D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D6CA5A-CDC8-462A-9962-96256530164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9877DD-ACFC-4374-A07D-58649E8557D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E9DDDF-787A-4202-850C-E3FB16510B2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B8189-F7DC-4DF0-8B69-4B03D3A248F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0385D-8D5A-4C0B-BEEC-60E19779DAD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533EA-D2B8-4DF0-B98B-73763BC07CD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BC7DC-8B7B-4EB4-B7E6-AC8FE5AE5E6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6B9228-06C9-4349-8D8A-47C0D398B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61B-2B7C-413F-ACC9-C4193FE1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974598-120D-439E-8537-40DA02A1CBF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35FA0-67EE-4FDA-90E8-6893A518C31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68A5F-6E9D-4467-8F59-6780918DC04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32E9-856D-41F9-9BF7-8A99A9ED6CD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A2E20-0E14-4726-8571-D17297C863C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332E1-10DC-46DF-B87C-6CC7153D3C4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873CB-FD76-4314-9616-D7F8D6F4B1B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F1DD1-67F2-4A11-B329-09D54E97B93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E34E0-B479-4B8C-81B8-DE33B633B5B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C3977-2B1E-4E03-A4CE-87301FA64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4ACE3-9EC0-4504-9502-A5D23EDA0FB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CB329-5EB9-4F8F-9261-7062828D14B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C32EB-CA9A-446E-9A6D-8642D0831BB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509C33-E1B7-47D3-B1F8-846B57A8D8E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515195-97D6-416C-B819-170B8002B6B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059D2C-3A2F-48F0-9637-3A881554476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28761E-2552-472A-A3D7-B80FDAB6899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7329C0-ED20-43C0-8EB8-DAF9E5B0162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FDA346-6EF0-40E0-B81A-3B0EF793BC0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0681A4-ECC3-4336-966B-C313E8E4D8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E26F6F-C5E0-4193-9A53-3DA51406577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858C57-BD6D-4045-A52D-9BB3E82FCE1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50EC74-43C7-4FA8-8CEF-3C8478F842B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CC1FC1-2013-4CA1-A77E-AF6FDA4157C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AFC5D4-F064-40C1-955C-D170CFEAC68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FCEFE-9543-40BF-ADFC-09438139559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F2D85-0880-428B-9231-E7CB3A1BE4E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A57B0-B84E-463D-B46E-C6C3E90705E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199CE-026D-47FD-873A-75A8CDDC7F1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D1DDC-115E-4314-BA71-3457049A92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5A59D-8633-45DF-9CEC-21EF2C70E04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2E0C4-7AE7-4C4A-AF41-486128E1DFA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DB145-DF5F-4982-8964-63F6438C110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35EE4-AE9D-4E0E-806D-3796794A63B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10EC5-8A61-409E-8C94-FD6EDD3B7AF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B9C70B-8DB8-448F-AB97-0A115D86630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DE8F7-405F-44FB-A503-004BC24BAB6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3AB6D-04DC-4479-B062-4EB125C2A9C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CA2B9-95B4-45BC-B2D1-AED7DFC6546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E1B92-B24C-484D-91E2-0EA1AF6BF8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29C2C-9E0E-4AE2-86BA-E62E77B366F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B4ED7-447B-460B-B581-76B2C68B967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E8A99-DC0B-4CB5-B831-A4AA5DF4F41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07FF2-A1EC-4CFA-8607-10B4AA17210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A33F7-A9FC-4504-8F76-6F20F27CABF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66D4F-ABFC-4512-B8E6-131257965D4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F6654-25C2-42AC-9A42-86E6D561C4B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6B566-74EC-49CD-ABEA-932E9D2FA0E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F1CF8-C18C-4E22-9856-912D6317416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33E02B-3B12-44FC-A8B8-A81566FCA5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EB08F8-02B0-42C6-8F51-A04DC39BCDA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CCDC6B-0951-4E9C-B3C7-8222FDBBE0B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229406-F5D4-420A-BC6A-96D3E269954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33CAC7-F55B-4C0C-9A24-9D8D121CCBC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3B168F-302E-47D9-9E66-D2E2D295BCD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E4B638-865E-4C5C-9A2F-B7EA78E53BF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387B28-8B05-4DB0-8111-132DA7B408E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8E2D95-81B1-463B-984B-AC722504011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EE55F8-7FD1-4A5F-BD7C-7566BD1D481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DA7B02-7856-406D-8510-47302450A7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30B146-197C-4ADC-8139-9F800A2D33C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3EE56-68CD-4193-A94F-4577611464A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6D0DFC-7AD7-49DF-BB03-ECDAA786348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15BF1-1257-4CB5-A2E1-927697F61A6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76410A-87BC-47DE-9954-3F93032A7DF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2E8395-AF7E-45D2-BB10-7064A0D6689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7804B1-728C-419D-A86E-BD051B05B19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1B0290-2067-4282-B7B8-754E2C2501C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5DA50-BF04-4DAD-B588-4DCA4950794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D51D4-C079-4CD2-BF4B-E34B5201F1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8B81F-2276-4F40-BD04-56C524668B8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C6DBF-86F2-48B0-86CF-129C095537A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BA395-FA40-4FAF-876E-1CC1409C020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C1C-D71F-4377-A735-67C3DFF0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D4EAB-66A3-4CFD-BAA9-9CE941AE16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A34D0-814A-4A6A-922F-F9AA86673D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F402F-6956-41A3-BDAC-6ABF10FEC9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031A6-BF21-4457-857F-58F2D6380A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F6BA5-A0EE-456C-943D-69044471B3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C8F-41CA-4D92-85F1-142FE2B1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2D7B9-0628-4D5A-BCD5-A1DCCAD8F6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B1812-C363-4C57-AACB-C7C83C888F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9FF80-7D48-4B07-AF97-8F00338CA6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FC2A3-6730-44BF-A503-969054334F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C14BA-4988-4948-8C0A-BE65C4E70E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5497F-8EC1-404D-BFA4-16705F9346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C281F-AA77-45BD-B999-897256734F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9C67D-4F13-4CFE-B35E-F38397B40D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7B177-5505-40E7-B17B-78FFB47017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5ECF4-E165-407F-88C9-7A3E97142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EC8-7F57-4956-930D-9A61EC55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02E62-B46A-45B2-8068-EC4B1B9F6E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0F967-352E-4D4F-A6E4-D6FB23E243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BDEBF-BF3D-4885-9373-990ABD3287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2F46A-8B35-40AE-AC77-80EC9F3FFF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84E88-9026-4204-8A03-1C8CD30650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DE389-0592-42DE-A587-93A6556159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1257E-FA3D-4B9B-9A18-EEC6E40942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357BF-74AF-41B0-A1F9-911E3B43F2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26B34-278B-411F-A8D7-7C7C8ED3BA1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9888-42D7-4448-9150-8F77D4E99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F7D-2D87-4CDD-94D6-5F200A18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1B54-731A-4CE7-9EAB-05C2915186A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F2EC-B6F8-4794-81A3-63B66752DCD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11A0-501A-488F-B5B9-97A321C3F11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DA32-BE57-4A75-913C-EDE1A571FB7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D073-CECD-406A-BF56-70660FADDF6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13F9-4B46-4D86-833C-362FFCF7ADD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71CF-A535-44F6-A844-9F5D8F15914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3D5C-CB28-4F9C-AE3D-EBDFF7841B6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1A21-E80B-4B1B-9C1C-2120A922F6E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729C-7D27-4C32-A31C-DFACBAB67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A5D-F569-41F5-9C61-1AF31D4C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B71E-5FD0-4383-A095-F9CF3B6FDEC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0DCEE2-B7A0-4DEF-88E0-B3ECB1AB48C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C476D6-46C6-4D6E-837F-EEB6C09E67F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958C47-6771-45F6-B2D1-465FD203828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733582-6465-4F22-8D46-C3899BDA297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F315D1-D57C-4890-9804-BB4F293029D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E91954-6187-4D0E-A26F-CA790E8072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B98165-F834-4F97-9EE7-B4B8F24BD95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B3A70-CC60-4D17-99B9-03FCF60A901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E2EF38-329C-4503-966B-AD1E87EC7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6EE-DCAE-4E94-812D-ADFA7C75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67BB1F-C5B0-4921-9077-1E5C61DB050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C902C9-9194-44EF-AE3D-C2F69FE4DB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082EBB-3ECF-4992-8369-B4FB5E3586F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441C6-78D4-40EE-91CF-BE3CC6108C1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3CF2E-28C4-45E5-8418-823FE4F3442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55BFF-77E4-4BF5-9873-E51AE954376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92EC4-0B2D-431D-8C40-C8D18C2F4FB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E3B99-0FA9-4F9D-936C-F6E4B0DA7C8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A845D-04DA-4A7A-A479-43CFF37D2D8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9D8E8-1A58-4EE5-B977-C101879DC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D06-E001-46C2-9D47-829ED284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14774-1DC5-453B-A7AB-99F629413C2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655DC-455D-4C8D-B6D1-FB97AF42F34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9E8FA-E67D-446E-9666-8773CD52E1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96702-5957-43BE-BE35-D0ED92EA73A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39E45-D32F-4AF6-8AB5-6F0B60A6745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1169A-5185-4F5E-BF8D-2E4671736A8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80EF5-3FA1-427F-96BC-BD2B316ECBF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6B3FD-C4A9-4A3A-9BC9-12404EAEF59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4688C-D927-4257-A792-D3C68784BA9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073A7-5BDD-4D25-8C5F-F5E5F2037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E91-44E9-419F-95DF-BB986CCC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A6772-C13B-4D6F-A4EC-8B00201FDDF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A2D04-1CCF-4376-8EAD-8EBB054FA0A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8E38E-3CA9-49E9-97AA-2F15F7CCDDE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EE714-B2E6-4BCB-BE2F-D83EA50B33F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697F0-1A61-4E9E-B184-8CC808861A7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AC942-D33E-4F0C-964C-97C97CD03D8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14946-2E2E-4EC3-836D-3F2B15CFE11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5E3597-46CF-44B9-A2F9-B49DA1B2401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D64BB4-E05D-485F-9167-94D22C2FCB8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395E1F-CDC6-4635-86D7-614A28600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C1D902-85B3-4C37-BA38-508B8F5827F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86A28EB-79F3-4539-B748-0297026AF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CF85E4-F63B-4FC4-99BD-A48A5D02EE2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C703B84-16EF-4EAF-A73B-7E7D2D4C9DC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D32B0A5-5195-40C8-A04B-CADEFB109D5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19B8E4D-D164-4AC0-BD8C-FE0EAFD34DC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A6833DF-9EBD-4056-9EB0-D457EDAA4DD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DB31F3-8B60-4A7A-955F-18F9A15D5E3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D27AF90-C369-4882-AD76-63CA29F2AD9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EDA086-839E-4D84-9D76-7AF9C3FC434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84BD27-FB6D-4CFC-85FF-4826EE32143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619A0B0-1B99-4440-8AE8-27756567434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AB92D8A-02C0-45CC-BB82-3F2BBC8624D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6A9DA8E-554E-45BD-A583-FF5A7CE8473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15D8E8E-582A-43C5-A8D4-01945657E02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F7EAB92-A479-4C2D-832E-FF045C3958D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2208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sagatavo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šu pieteikumu sagatavošana un iesniegšana Espresso sistē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4300560"/>
            <a:ext cx="5829120" cy="666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5. gada 27. augustā, plkst. 11:00 un 15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52E562-2EA7-44EB-B8FB-63C9E361D93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b050"/>
                </a:solidFill>
                <a:latin typeface="Verdana"/>
                <a:ea typeface="Verdana"/>
              </a:rPr>
              <a:t>Par studiju vizītēm – jaunu projektu veidu Nordplus Jauniešu apakšprogrammā -  atsevišķs seminārs 28.08.25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250920" y="3706920"/>
            <a:ext cx="3465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https://www.viaa.gov.lv/lv/jaunums/notiks-tiessaistes-seminari-par-nordplus-2025-gada-studiju-vizisu-konkurs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3022560" y="2103480"/>
            <a:ext cx="58165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tretch/>
        </p:blipFill>
        <p:spPr>
          <a:xfrm>
            <a:off x="3179880" y="1238400"/>
            <a:ext cx="5816520" cy="5238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rdplus datubāzē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pliecinājuma vēstules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, kuras jāparaksta visu projektā iesaisīt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2731199-0C26-4A70-91A6-EC7F89B32C5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2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3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4" name="Title 1"/>
          <p:cNvSpPr/>
          <p:nvPr/>
        </p:nvSpPr>
        <p:spPr>
          <a:xfrm>
            <a:off x="259092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b7d91"/>
                </a:solidFill>
                <a:latin typeface="Verdana"/>
                <a:ea typeface="Verdana"/>
              </a:rPr>
              <a:t>Projektā iesaistītās organizācijas – koordinators un partne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4673520" y="3238560"/>
            <a:ext cx="3152880" cy="320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3878280" y="-214200"/>
            <a:ext cx="5478480" cy="317160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, ja nav, tad jāpievieno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9" name="Left Arrow 13"/>
          <p:cNvSpPr/>
          <p:nvPr/>
        </p:nvSpPr>
        <p:spPr>
          <a:xfrm rot="16200000">
            <a:off x="5375160" y="2305080"/>
            <a:ext cx="1666800" cy="355320"/>
          </a:xfrm>
          <a:prstGeom prst="leftArrow">
            <a:avLst>
              <a:gd name="adj1" fmla="val 50000"/>
              <a:gd name="adj2" fmla="val 5453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Sagatavošanas vizītes aprak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itle 1"/>
          <p:cNvSpPr/>
          <p:nvPr/>
        </p:nvSpPr>
        <p:spPr>
          <a:xfrm>
            <a:off x="1128600" y="1914480"/>
            <a:ext cx="70423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Rokasgrāmata, 43. lpp (pdf),  sadaļa  «The Application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2" descr=""/>
          <p:cNvPicPr/>
          <p:nvPr/>
        </p:nvPicPr>
        <p:blipFill>
          <a:blip r:embed="rId1"/>
          <a:stretch/>
        </p:blipFill>
        <p:spPr>
          <a:xfrm>
            <a:off x="1128600" y="3162240"/>
            <a:ext cx="7375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tretch/>
        </p:blipFill>
        <p:spPr>
          <a:xfrm>
            <a:off x="2389320" y="919080"/>
            <a:ext cx="6254640" cy="501984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BB7C8C-47E0-4FA6-8A6A-1DD3D9759D3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Īsi jāapraksta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paredzamā  projekta iece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Straight Arrow Connector 12"/>
          <p:cNvCxnSpPr/>
          <p:nvPr/>
        </p:nvCxnSpPr>
        <p:spPr>
          <a:xfrm>
            <a:off x="1958760" y="220932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" descr=""/>
          <p:cNvPicPr/>
          <p:nvPr/>
        </p:nvPicPr>
        <p:blipFill>
          <a:blip r:embed="rId1"/>
          <a:srcRect l="0" t="6263" r="0" b="0"/>
          <a:stretch/>
        </p:blipFill>
        <p:spPr>
          <a:xfrm>
            <a:off x="3405240" y="933480"/>
            <a:ext cx="4903560" cy="4375080"/>
          </a:xfrm>
          <a:prstGeom prst="rect">
            <a:avLst/>
          </a:prstGeom>
          <a:ln w="0">
            <a:noFill/>
          </a:ln>
        </p:spPr>
      </p:pic>
      <p:sp>
        <p:nvSpPr>
          <p:cNvPr id="798" name="Title 1"/>
          <p:cNvSpPr/>
          <p:nvPr/>
        </p:nvSpPr>
        <p:spPr>
          <a:xfrm>
            <a:off x="0" y="1943280"/>
            <a:ext cx="284940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apraksta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i jābalstās uz projekta pieteikuma plānoša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mērķi, uzdevumi, rezultāti, norise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rcRect l="0" t="8694" r="0" b="0"/>
          <a:stretch/>
        </p:blipFill>
        <p:spPr>
          <a:xfrm>
            <a:off x="3948120" y="549360"/>
            <a:ext cx="4456080" cy="30798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D79A9BC-46A8-4551-AF03-9C2598F39C7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9"/>
          <p:cNvCxnSpPr/>
          <p:nvPr/>
        </p:nvCxnSpPr>
        <p:spPr>
          <a:xfrm flipH="1">
            <a:off x="4258800" y="2095200"/>
            <a:ext cx="16560" cy="2265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2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8" descr=""/>
          <p:cNvPicPr/>
          <p:nvPr/>
        </p:nvPicPr>
        <p:blipFill>
          <a:blip r:embed="rId2"/>
          <a:stretch/>
        </p:blipFill>
        <p:spPr>
          <a:xfrm>
            <a:off x="3208320" y="4361040"/>
            <a:ext cx="3828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rcRect l="0" t="0" r="0" b="76419"/>
          <a:stretch/>
        </p:blipFill>
        <p:spPr>
          <a:xfrm>
            <a:off x="4597560" y="4807080"/>
            <a:ext cx="3828960" cy="720720"/>
          </a:xfrm>
          <a:prstGeom prst="rect">
            <a:avLst/>
          </a:prstGeom>
          <a:ln w="0">
            <a:noFill/>
          </a:ln>
        </p:spPr>
      </p:pic>
      <p:sp>
        <p:nvSpPr>
          <p:cNvPr id="805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tle 1"/>
          <p:cNvSpPr/>
          <p:nvPr/>
        </p:nvSpPr>
        <p:spPr>
          <a:xfrm>
            <a:off x="100080" y="4184640"/>
            <a:ext cx="34480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u apliecinājuma vēstules (tai skaitā arī no savas organizācijas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Straight Arrow Connector 6"/>
          <p:cNvCxnSpPr/>
          <p:nvPr/>
        </p:nvCxnSpPr>
        <p:spPr>
          <a:xfrm>
            <a:off x="2827440" y="4327200"/>
            <a:ext cx="1745280" cy="626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8" name="Picture 2" descr=""/>
          <p:cNvPicPr/>
          <p:nvPr/>
        </p:nvPicPr>
        <p:blipFill>
          <a:blip r:embed="rId2"/>
          <a:srcRect l="0" t="15722" r="0" b="0"/>
          <a:stretch/>
        </p:blipFill>
        <p:spPr>
          <a:xfrm>
            <a:off x="2749680" y="2050920"/>
            <a:ext cx="5676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Straight Arrow Connector 8"/>
          <p:cNvCxnSpPr/>
          <p:nvPr/>
        </p:nvCxnSpPr>
        <p:spPr>
          <a:xfrm>
            <a:off x="1714320" y="2827440"/>
            <a:ext cx="1410120" cy="101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11" name="Straight Arrow Connector 11"/>
          <p:cNvCxnSpPr/>
          <p:nvPr/>
        </p:nvCxnSpPr>
        <p:spPr>
          <a:xfrm>
            <a:off x="2095200" y="502416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12" name="Picture 2" descr=""/>
          <p:cNvPicPr/>
          <p:nvPr/>
        </p:nvPicPr>
        <p:blipFill>
          <a:blip r:embed="rId1"/>
          <a:srcRect l="0" t="9362" r="0" b="0"/>
          <a:stretch/>
        </p:blipFill>
        <p:spPr>
          <a:xfrm>
            <a:off x="3124080" y="2827440"/>
            <a:ext cx="563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25EE002-8650-499B-977F-AC2AD11FE7F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itle 1"/>
          <p:cNvSpPr/>
          <p:nvPr/>
        </p:nvSpPr>
        <p:spPr>
          <a:xfrm>
            <a:off x="0" y="1943280"/>
            <a:ext cx="2332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tiks pārskaitīts piešķirtais finansējum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Pie bankas rekvizītiem – «Your reference» ir organizācijas iekšējais identifikators (ja tāds i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  <p:cxnSp>
        <p:nvCxnSpPr>
          <p:cNvPr id="816" name="Straight Arrow Connector 2"/>
          <p:cNvCxnSpPr/>
          <p:nvPr/>
        </p:nvCxnSpPr>
        <p:spPr>
          <a:xfrm>
            <a:off x="2158560" y="4808160"/>
            <a:ext cx="5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Nordic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le 1"/>
          <p:cNvSpPr/>
          <p:nvPr/>
        </p:nvSpPr>
        <p:spPr>
          <a:xfrm>
            <a:off x="106200" y="2120760"/>
            <a:ext cx="247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2" descr=""/>
          <p:cNvPicPr/>
          <p:nvPr/>
        </p:nvPicPr>
        <p:blipFill>
          <a:blip r:embed="rId1"/>
          <a:stretch/>
        </p:blipFill>
        <p:spPr>
          <a:xfrm>
            <a:off x="2583000" y="1582560"/>
            <a:ext cx="6227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tālr.  29554403 (GSM, WhatsAp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ff0000"/>
                </a:solidFill>
                <a:latin typeface="Calibri"/>
                <a:ea typeface="Verdana"/>
              </a:rPr>
              <a:t>VIAA sagatavotajiem materiāliem latviešu valodā ir </a:t>
            </a:r>
            <a:r>
              <a:rPr b="1" lang="lv-LV" sz="1900" spc="-1" strike="noStrike" u="sng">
                <a:solidFill>
                  <a:srgbClr val="ff0000"/>
                </a:solidFill>
                <a:uFillTx/>
                <a:latin typeface="Calibri"/>
                <a:ea typeface="Verdana"/>
              </a:rPr>
              <a:t>informatīvs un paskaidrojošs raksturs</a:t>
            </a:r>
            <a:r>
              <a:rPr b="1" lang="lv-LV" sz="1900" spc="-1" strike="noStrike">
                <a:solidFill>
                  <a:srgbClr val="ff0000"/>
                </a:solidFill>
                <a:latin typeface="Calibri"/>
                <a:ea typeface="Verdan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cējiem ir saistoši dokumenti, kas publicēti angļu valodā  </a:t>
            </a: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www.nordplusonline.org un norādījumi projekta pieteikuma veidlap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Content Placeholder 1" descr=""/>
          <p:cNvPicPr/>
          <p:nvPr/>
        </p:nvPicPr>
        <p:blipFill>
          <a:blip r:embed="rId1"/>
          <a:stretch/>
        </p:blipFill>
        <p:spPr>
          <a:xfrm>
            <a:off x="2901960" y="1695600"/>
            <a:ext cx="5907240" cy="4071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5924520" y="3772080"/>
            <a:ext cx="3156120" cy="957240"/>
          </a:xfrm>
          <a:prstGeom prst="rect">
            <a:avLst/>
          </a:prstGeom>
          <a:ln w="0">
            <a:noFill/>
          </a:ln>
        </p:spPr>
      </p:pic>
      <p:sp>
        <p:nvSpPr>
          <p:cNvPr id="749" name="Title 1"/>
          <p:cNvSpPr/>
          <p:nvPr/>
        </p:nvSpPr>
        <p:spPr>
          <a:xfrm>
            <a:off x="-165240" y="2860560"/>
            <a:ext cx="3016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8440" y="1635120"/>
            <a:ext cx="85870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lv-LV" sz="2800" spc="-1" strike="noStrike">
                <a:solidFill>
                  <a:srgbClr val="002060"/>
                </a:solidFill>
                <a:latin typeface="Verdana"/>
                <a:ea typeface="Verdana"/>
              </a:rPr>
              <a:t>Espresso sistēma -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hkdir.no</a:t>
            </a: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/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2" descr=""/>
          <p:cNvPicPr/>
          <p:nvPr/>
        </p:nvPicPr>
        <p:blipFill>
          <a:blip r:embed="rId1"/>
          <a:stretch/>
        </p:blipFill>
        <p:spPr>
          <a:xfrm>
            <a:off x="517680" y="2470320"/>
            <a:ext cx="7702560" cy="329544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eft Arrow 6"/>
          <p:cNvSpPr/>
          <p:nvPr/>
        </p:nvSpPr>
        <p:spPr>
          <a:xfrm rot="1692600">
            <a:off x="5667120" y="483984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393560"/>
            <a:ext cx="6870600" cy="74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>
                <a:solidFill>
                  <a:srgbClr val="1f4e79"/>
                </a:solidFill>
                <a:latin typeface="Calibri"/>
                <a:ea typeface="Verdana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1" descr=""/>
          <p:cNvPicPr/>
          <p:nvPr/>
        </p:nvPicPr>
        <p:blipFill>
          <a:blip r:embed="rId1"/>
          <a:srcRect l="0" t="24891" r="0" b="0"/>
          <a:stretch/>
        </p:blipFill>
        <p:spPr>
          <a:xfrm>
            <a:off x="4025880" y="4721400"/>
            <a:ext cx="4660920" cy="2041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660760" y="2238480"/>
            <a:ext cx="4916520" cy="2036520"/>
          </a:xfrm>
          <a:prstGeom prst="rect">
            <a:avLst/>
          </a:prstGeom>
          <a:ln w="0">
            <a:noFill/>
          </a:ln>
        </p:spPr>
      </p:pic>
      <p:cxnSp>
        <p:nvCxnSpPr>
          <p:cNvPr id="758" name="Straight Arrow Connector 4"/>
          <p:cNvCxnSpPr/>
          <p:nvPr/>
        </p:nvCxnSpPr>
        <p:spPr>
          <a:xfrm>
            <a:off x="5638320" y="3633840"/>
            <a:ext cx="1080" cy="1270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0" y="1882800"/>
            <a:ext cx="9144000" cy="3924360"/>
          </a:xfrm>
          <a:prstGeom prst="rect">
            <a:avLst/>
          </a:prstGeom>
          <a:ln w="0">
            <a:noFill/>
          </a:ln>
        </p:spPr>
      </p:pic>
      <p:sp>
        <p:nvSpPr>
          <p:cNvPr id="761" name="Left Arrow 6"/>
          <p:cNvSpPr/>
          <p:nvPr/>
        </p:nvSpPr>
        <p:spPr>
          <a:xfrm rot="8365800">
            <a:off x="1991880" y="6081840"/>
            <a:ext cx="3019320" cy="529920"/>
          </a:xfrm>
          <a:prstGeom prst="leftArrow">
            <a:avLst>
              <a:gd name="adj1" fmla="val 50000"/>
              <a:gd name="adj2" fmla="val 545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91960" y="415440"/>
            <a:ext cx="6095880" cy="776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zvēlamies apakšprogrammu, kurā iesniegsim sagatavošanas vizītes pieteikum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77760" y="1814400"/>
            <a:ext cx="91440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1DE7FE9-FC98-48EA-87D9-E56B2C77B68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590920" cy="22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2495520" y="237960"/>
            <a:ext cx="60897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988C25-857F-4596-AFED-74767136F32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801880" cy="14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 – šajā gadījumā 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i («Preparatory visit») 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7" descr="A screenshot of a computer&#10;&#10;Description automatically generated"/>
          <p:cNvPicPr/>
          <p:nvPr/>
        </p:nvPicPr>
        <p:blipFill>
          <a:blip r:embed="rId1"/>
          <a:srcRect l="8189" t="15003" r="56997" b="25478"/>
          <a:stretch/>
        </p:blipFill>
        <p:spPr>
          <a:xfrm>
            <a:off x="3143160" y="228600"/>
            <a:ext cx="5391360" cy="5761080"/>
          </a:xfrm>
          <a:prstGeom prst="rect">
            <a:avLst/>
          </a:prstGeom>
          <a:ln w="0">
            <a:noFill/>
          </a:ln>
        </p:spPr>
      </p:pic>
      <p:cxnSp>
        <p:nvCxnSpPr>
          <p:cNvPr id="771" name="Straight Arrow Connector 9"/>
          <p:cNvCxnSpPr/>
          <p:nvPr/>
        </p:nvCxnSpPr>
        <p:spPr>
          <a:xfrm>
            <a:off x="2090520" y="3230640"/>
            <a:ext cx="1532520" cy="169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2" name="Title 1"/>
          <p:cNvSpPr/>
          <p:nvPr/>
        </p:nvSpPr>
        <p:spPr>
          <a:xfrm>
            <a:off x="54000" y="4772160"/>
            <a:ext cx="2036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Studiju vizīte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r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cits projektu veids (seminārs 28.08.25.)</a:t>
            </a: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12"/>
          <p:cNvCxnSpPr/>
          <p:nvPr/>
        </p:nvCxnSpPr>
        <p:spPr>
          <a:xfrm>
            <a:off x="1662120" y="5106600"/>
            <a:ext cx="1961280" cy="8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24-09-17T09:25:17Z</cp:lastPrinted>
  <dcterms:modified xsi:type="dcterms:W3CDTF">2025-08-27T10:52:01Z</dcterms:modified>
  <cp:revision>189</cp:revision>
  <dc:subject/>
  <dc:title>PowerPoint Presentation</dc:title>
</cp:coreProperties>
</file>