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0C09-BB82-4BE8-A187-C70961CB78D9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57BB-AACD-447D-98AE-ED73A58CB17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2A49-2C25-494B-96E2-F3ECDDE1D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513A-E9C9-452A-AF1A-594F07CB6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60DF-39C0-49FA-9768-75A8F0DBC96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72D7-5761-4756-BF02-49328929251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5197-631D-4F34-80A9-2164F25B7A2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F0BE-FC19-4129-A149-20B7D2752BC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5BC3-D1DC-4D0E-97C9-DCF28097C17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79F9-278C-4B03-B547-BB4B518B06A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79DF-FFB7-4F34-9CE9-1F999D924D5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B264-2A80-491D-AB11-EB38483C87D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5597-F6C0-4BCB-90B7-DFBC9BF06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F64E-8776-4AE3-88C5-346A98B1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D979-C1C8-43D6-97D6-712552DB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700C-7CB6-4E81-BD71-8E5D4F55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318-C709-4956-A86F-19D035F6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669C-7E00-4D6F-B4A2-A432E3CF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0D7D-F287-423E-8246-71B45C72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BD54-4138-41EA-814D-219E167B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D55A-AB44-4FC4-A6EB-6E7B4819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3081-6F60-48AA-886F-DBD6ACC9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55BF-061B-4530-8F65-0A23F034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0F1F-30E4-4493-BEAD-48274CCC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4574-6EAE-44AE-A14B-3A55B3CF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0C76-C08F-4519-8F18-C28FAAC7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D60B-6980-47CC-8E28-BE8E46B6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8ADC-526E-4779-A532-F209A71E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7783-6139-4F15-B6B0-863EE424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5F0C-0245-4190-BB02-5437341F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88B-A572-4D14-9667-5CB7BBF1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36AF-D550-4249-972F-D6B11BB1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9EB7-5C66-4AA6-B4B7-68AEC292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7A9C-EB39-4DED-9B90-95C70A34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997A-919E-4C02-A2CD-202C05F1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8A5-5B38-41EF-BDC7-859787B8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5F0D-8C20-46F5-84E7-9BFC8E14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FBCC-8FA8-4728-BD3E-CF908A7F623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1F02-7463-42B3-BD1D-C8344C5C56D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-7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58920" y="1700280"/>
          <a:ext cx="6769080" cy="1677960"/>
        </p:xfrm>
        <a:graphic>
          <a:graphicData uri="http://schemas.openxmlformats.org/drawingml/2006/table">
            <a:tbl>
              <a:tblPr/>
              <a:tblGrid>
                <a:gridCol w="3589200"/>
                <a:gridCol w="3179880"/>
              </a:tblGrid>
              <a:tr h="12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SMJU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06320" y="1700280"/>
          <a:ext cx="7993080" cy="1555560"/>
        </p:xfrm>
        <a:graphic>
          <a:graphicData uri="http://schemas.openxmlformats.org/drawingml/2006/table">
            <a:tbl>
              <a:tblPr/>
              <a:tblGrid>
                <a:gridCol w="3218040"/>
                <a:gridCol w="2327040"/>
                <a:gridCol w="244800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</a:t>
                      </a: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dod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71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400" spc="-1" strike="noStrike">
                <a:solidFill>
                  <a:srgbClr val="800080"/>
                </a:solidFill>
                <a:latin typeface="Calibri"/>
              </a:rPr>
              <a:t>KĀDĀS PROFESIJĀS NEPIECIEŠAMAS MANAS STIPRĀS PUS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844640"/>
          <a:ext cx="8713800" cy="18907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ijas, kurās tās nepiecieša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ešvalodu zināša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lks, tulkotājs, skolotājs, diplomāts, gids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Dažādu materiālu sagatavošana, kam nepieciešama informācijas vākšana un atlase, kā arī secinājumu izdarī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Mūsdienu informācijas tehnoloģiju izmant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700280"/>
          <a:ext cx="8640720" cy="2927160"/>
        </p:xfrm>
        <a:graphic>
          <a:graphicData uri="http://schemas.openxmlformats.org/drawingml/2006/table">
            <a:tbl>
              <a:tblPr/>
              <a:tblGrid>
                <a:gridCol w="2879640"/>
                <a:gridCol w="3600360"/>
                <a:gridCol w="21607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1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6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intereses un stiprās puses saistās ar profesijā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6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inātnisko projek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19:39Z</dcterms:modified>
  <cp:revision>345</cp:revision>
  <dc:subject/>
  <dc:title>Slide 1</dc:title>
</cp:coreProperties>
</file>