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E0AA-3F4D-440C-96F8-F9FC1522B8BF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6117-CF6C-4DF6-B757-1F9BD266E83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24DD-90D4-4A2D-BB46-33466AA7697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7AB1-705C-402B-AE48-0EA7D42AE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67E7-7431-490A-BF74-A42913B0E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AED4-860F-4FE1-9F7A-D6E467D41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88EA-7D92-46FA-B950-CEDB3219820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8A55-7C6E-4BD3-BE7F-F6AF8CF9CCD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7B40-4FE4-4462-A680-2BBBBD767C1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215D-0AD2-470A-8576-5DBE487BE27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ED4F-A9B9-48D6-AE7F-91B0831089C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D0B5-730A-4B78-A391-6B5CE11005D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628-B3AD-4A32-80F5-4A0F9E8B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9A1-B5E6-46BA-B143-0F1775BA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5A4D-C37E-45E3-8C9F-1BAE8132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88AE-480C-40EA-AB8F-E69BD197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5AA8-8203-47E1-98BB-ED4FC48E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D789-273A-485F-93BD-A47A523F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321B-C693-4BBA-BFC4-4DCC4FF0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0974-D41D-4760-B0CF-7E388597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0D5E-4A17-457A-B399-56CA24B3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33D7-66EA-45F6-8447-195F98DA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537E-FA8C-4B14-9EC6-6F8F2459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F995-50F7-4B6D-9744-D58EBFED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AAF0-76A2-4CE7-92D4-C28190DA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BBDA-61D0-416A-AA9D-A06D6CA2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D261-252B-4A99-AD36-B907C376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C32C-2012-4D95-AAE8-317E02D1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761A-1687-470C-BF82-4D4DDAE6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2B64-EE95-432D-B408-9A7CCF4F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6CF4-8D3D-4D37-8CF8-7B344BA5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1782-CD42-402B-9BBC-CFD0594F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8A69-6001-4384-813D-5BC3CD41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268-BD4B-45DD-8422-557C89F9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6F80-8101-4186-97A5-95335C0F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BE6E-99FC-40AF-B86A-51CB4AB6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DAA1-DAB3-48FE-BD3C-E5739577ED6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CA41-9822-49B6-A2E0-8083C59D07C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8.-9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49:47Z</dcterms:modified>
  <cp:revision>343</cp:revision>
  <dc:subject/>
  <dc:title>Slide 1</dc:title>
</cp:coreProperties>
</file>