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F1B9E-03D3-4008-B516-8F4D31F97717}" type="slidenum"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3621A-415A-4271-8309-95FC3434965A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BC18F-2C4D-4A10-AB44-A31A591BD329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EBFBD-A316-4529-93C5-A1DABD7A223B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9EA95-C387-45AC-A7AC-7047F774EA95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679C1-EB55-4966-A629-B88F620AD7F2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3FB61-1540-43FC-A14D-6301FA154E79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52B0-917D-49CC-B80E-6499EDDFF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164C-F714-4707-8DC2-3627D7452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8F33-8470-43BC-BD59-8DF500C8C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A225-EA5E-4A5C-A6E8-FF46F2894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8C541-A159-4AD6-A999-9419F3EB4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19F0B-C034-46CA-983E-AD733A45F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C9510-39F4-46B8-BFC0-1E94C49E0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1B99F-15BC-4C2D-AC6C-E7500D501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9EEDE-C21D-49AC-A830-EC8551707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5204E-AF9B-4017-AA00-765205A6C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B1264-D17F-43A0-A75B-64B70BA0A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96F9-E2D8-4F79-88A7-497BC0896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F019A-1BE0-4B1D-8470-1D6E111E9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97AD5-5F5F-4AD3-B770-F88FC4871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1036C-8AAC-4EEE-9162-31764538B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3DD38-86DD-48A0-B259-CFBC44D4C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8E367-B517-4F46-8DDC-8EEF62F3A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CA40-78B9-4081-AC2E-E2FA41499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E341-7992-490C-8062-607B95A3D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EB40-B2E6-40A7-A2B7-B7F73D763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05DA-7670-47B4-8EE0-46CFF38AC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6422-EF74-4738-9137-E0286D5F8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7AA8-C312-40D2-A31C-693CDD1BD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6DA2-2A62-4618-9F2A-8C6B6D933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55117-190C-48BB-9B3A-EC8FACDB5074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0A4DC-CAB3-4207-A894-ADF31E43A8F7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4.bp.blogspot.com/-bc28VhVz2zE/Ttu4tpzhPSI/AAAAAAAACmo/57J5t0bgZmc/s1600/Non-effective_listening.jpg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22160" y="39304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KĀ INTERVĒT DARBA DEVĒJU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50560" y="5157720"/>
            <a:ext cx="87138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00080"/>
                </a:solidFill>
                <a:latin typeface="Calibri"/>
              </a:rPr>
              <a:t>ATBALSTS DARBAM AR 8. – 9. KLASES SKOLĒN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468360" y="1557360"/>
            <a:ext cx="82072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saki paldies par tev veltīto laik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lūdz ieteikt vēl kādu, kurš varētu tev pastāstīt par nozari vai darba tirg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ēc intervijas pieraksti iegūtās atziņa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ārdomā, ko esi uzzinājis un kā to izmantot savas karjeras plānošanai 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31640" y="475920"/>
            <a:ext cx="8229600" cy="84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KO DARĪT PĒC INTERVIJAS?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3" name="Picture 7" descr="bright ideas,business concepts,businesses,characters,concepts,ideas,inspirations,light bulbs,lightbulbs,people"/>
          <p:cNvPicPr/>
          <p:nvPr/>
        </p:nvPicPr>
        <p:blipFill>
          <a:blip r:embed="rId1"/>
          <a:stretch/>
        </p:blipFill>
        <p:spPr>
          <a:xfrm>
            <a:off x="6804000" y="4581360"/>
            <a:ext cx="165564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PATEICĪBAS VĒSTULE 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Pateicības vēstule ir būtiska biznesa etiķetes sastāvdaļa. 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algn="ctr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Pateicoties par tev veltīto laiku un atbalstu, tu parādi, ka proti novērtēt pūles un radi labu priekšstatu par sevi. 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algn="ctr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26" name="Picture 5" descr="business,gestures,greetings,meetings,men,people,shaking hands,women"/>
          <p:cNvPicPr/>
          <p:nvPr/>
        </p:nvPicPr>
        <p:blipFill>
          <a:blip r:embed="rId1"/>
          <a:stretch/>
        </p:blipFill>
        <p:spPr>
          <a:xfrm>
            <a:off x="3419640" y="4581360"/>
            <a:ext cx="208728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312480" y="1428840"/>
            <a:ext cx="850716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dresāta vārds, uzvārds datīvā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Uzņēmuma nosaukums</a:t>
            </a: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mats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.god. .............. k-gs/ Ļ.cien. .......... K-dze!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1.rindkopa: </a:t>
            </a:r>
            <a:r>
              <a:rPr b="1" i="1" lang="lv-LV" sz="2000" spc="-1" strike="noStrike">
                <a:solidFill>
                  <a:srgbClr val="006a7b"/>
                </a:solidFill>
                <a:latin typeface="Calibri"/>
              </a:rPr>
              <a:t>pateicies intervētajai personai par palīdzību un tev atvēlēto laiku.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2.rindkopa: </a:t>
            </a:r>
            <a:r>
              <a:rPr b="1" i="1" lang="lv-LV" sz="2000" spc="-1" strike="noStrike">
                <a:solidFill>
                  <a:srgbClr val="006a7b"/>
                </a:solidFill>
                <a:latin typeface="Calibri"/>
              </a:rPr>
              <a:t>īsumā apraksti, kāpēc gūtā pieredze tev ir svarīga. Piemini dažas no gūtajām atziņām.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r cieņu,</a:t>
            </a: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(Vārds, uzvārds) 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.......................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(paraksts)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PATEICĪBAS VĒSTULE 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KOPSAVILKUM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Ko Jūs šodien jaunu guvāt?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Jūsu secinājumi, atziņas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Paldies par uzmanību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31" name="Picture 5" descr="checklists,clipboards,clipped images,cropped images,cropped pictures,households,icons,lists,office supplies,offices,pencils,PNG,things to do,to do,to do list,to do lists,transparent background,web elements"/>
          <p:cNvPicPr/>
          <p:nvPr/>
        </p:nvPicPr>
        <p:blipFill>
          <a:blip r:embed="rId1"/>
          <a:srcRect l="27922" t="30248" r="27899" b="27899"/>
          <a:stretch/>
        </p:blipFill>
        <p:spPr>
          <a:xfrm>
            <a:off x="3995640" y="4452840"/>
            <a:ext cx="187164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NODARBĪBAS MĒRĶI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Content Placeholder 2"/>
          <p:cNvSpPr/>
          <p:nvPr/>
        </p:nvSpPr>
        <p:spPr>
          <a:xfrm>
            <a:off x="455760" y="1700280"/>
            <a:ext cx="84247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zprast darba devēja intervijas mērķus un iegūstamo informācij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zveidot intervijas jautājumu krāju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Apgūt intervijas etiķe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business concepts,businesses,Communications,concepts,correspondences,icons,people,speech balloons,speech bubbles,speeches,symbols,talking"/>
          <p:cNvPicPr/>
          <p:nvPr/>
        </p:nvPicPr>
        <p:blipFill>
          <a:blip r:embed="rId1"/>
          <a:srcRect l="0" t="10524" r="0" b="10524"/>
          <a:stretch/>
        </p:blipFill>
        <p:spPr>
          <a:xfrm>
            <a:off x="3203640" y="4292640"/>
            <a:ext cx="273672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7920" y="47628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SATUR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539640" y="1557360"/>
            <a:ext cx="842508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Kāpēc intervēt darba devēj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Kādu informāciju var iegūt no darba devē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ntervijas «jautājumu bankas» izve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ntervijas etiķe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Kopsavilku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49356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KĀPĒC INTERVĒT DARBA DEVĒJU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7" name="Picture 2" descr="C:\Users\Nora.Kaleja\Desktop\Picture1.png"/>
          <p:cNvPicPr/>
          <p:nvPr/>
        </p:nvPicPr>
        <p:blipFill>
          <a:blip r:embed="rId1"/>
          <a:srcRect l="18135" t="1702" r="22935" b="-409"/>
          <a:stretch/>
        </p:blipFill>
        <p:spPr>
          <a:xfrm>
            <a:off x="2720880" y="2219400"/>
            <a:ext cx="3407040" cy="2960640"/>
          </a:xfrm>
          <a:prstGeom prst="rect">
            <a:avLst/>
          </a:prstGeom>
          <a:ln w="0">
            <a:noFill/>
          </a:ln>
        </p:spPr>
      </p:pic>
      <p:sp>
        <p:nvSpPr>
          <p:cNvPr id="98" name="Rounded Rectangular Callout 5"/>
          <p:cNvSpPr/>
          <p:nvPr/>
        </p:nvSpPr>
        <p:spPr>
          <a:xfrm>
            <a:off x="900000" y="1844640"/>
            <a:ext cx="1563840" cy="1297080"/>
          </a:xfrm>
          <a:prstGeom prst="wedgeRoundRectCallout">
            <a:avLst>
              <a:gd name="adj1" fmla="val 97851"/>
              <a:gd name="adj2" fmla="val 46365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NTERES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L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RT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ounded Rectangular Callout 6"/>
          <p:cNvSpPr/>
          <p:nvPr/>
        </p:nvSpPr>
        <p:spPr>
          <a:xfrm>
            <a:off x="6299280" y="1484280"/>
            <a:ext cx="2355840" cy="1727280"/>
          </a:xfrm>
          <a:prstGeom prst="wedgeRoundRectCallout">
            <a:avLst>
              <a:gd name="adj1" fmla="val -80805"/>
              <a:gd name="adj2" fmla="val 4321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AS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ZINĀŠAN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RAKSTURA ĪPAŠ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ESELĪBAS STĀVOKLI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Ā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ounded Rectangular Callout 7"/>
          <p:cNvSpPr/>
          <p:nvPr/>
        </p:nvSpPr>
        <p:spPr>
          <a:xfrm>
            <a:off x="539640" y="4003560"/>
            <a:ext cx="2808360" cy="2232000"/>
          </a:xfrm>
          <a:prstGeom prst="wedgeRoundRectCallout">
            <a:avLst>
              <a:gd name="adj1" fmla="val 67217"/>
              <a:gd name="adj2" fmla="val -33148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DARBA TIRG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JU “+” un “-”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VID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IEPRASĪJUMS un PROGNOZ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ATALGOJUMS UN IZAUGSME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NODARBINĀTĪBAS VEID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MEKLĒŠAN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ular Callout 8"/>
          <p:cNvSpPr/>
          <p:nvPr/>
        </p:nvSpPr>
        <p:spPr>
          <a:xfrm>
            <a:off x="5724360" y="4076640"/>
            <a:ext cx="2845080" cy="2183040"/>
          </a:xfrm>
          <a:prstGeom prst="wedgeRoundRectCallout">
            <a:avLst>
              <a:gd name="adj1" fmla="val -75912"/>
              <a:gd name="adj2" fmla="val -3703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IZGLĪTĪBAS IESPĒJ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ONĀLĀS KVALIFIKĀCIJAS  UN IZGLĪTĪBAS LĪMEŅ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SATUR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ESTĀŠANĀS NOTEIKUM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ILGUMS UN VIET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AIS IEGULDĪJUM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7040" y="476280"/>
            <a:ext cx="843624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O VARI UZZINĀT, INTERVĒJOT DARBA DEVĒJU?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8360" y="1789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uzņēmumu un nozari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uzņēmumā strādājošo profesijā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tirgu un darba meklēšan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devēja personīgo karjeras ceļ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vadītāja profesij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04" name="Picture 5" descr="co-workers,cubicles,men,office,office staff,offices,people,people at work,staffs,women,occupations"/>
          <p:cNvPicPr/>
          <p:nvPr/>
        </p:nvPicPr>
        <p:blipFill>
          <a:blip r:embed="rId1"/>
          <a:srcRect l="0" t="20933" r="0" b="20909"/>
          <a:stretch/>
        </p:blipFill>
        <p:spPr>
          <a:xfrm>
            <a:off x="5445000" y="4653000"/>
            <a:ext cx="359100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8000" y="500040"/>
            <a:ext cx="89280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VEIDOSIM INTERVIJAS JAUTĀJUMU “BANKU”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79280" y="155736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Izdomājiet pēc iespējas vairāk jautājumu, kurus uzdot darba devējam, lai uzzinātu par: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uzņēmumu un nozari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uzņēmumā strādājošo profesijā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tirgu un darba meklēšan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devēja personīgo karjeras ceļ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AS NEPIECIEŠAMS, LAI INTERVIJA IZDOTO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24000" y="1989000"/>
            <a:ext cx="619272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Sagatavoti jautājumi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Laba klausīšanās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Ieinteresētība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Atbilstošs izskats un izturēšanās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</p:txBody>
      </p:sp>
      <p:grpSp>
        <p:nvGrpSpPr>
          <p:cNvPr id="109" name="Group 7"/>
          <p:cNvGrpSpPr/>
          <p:nvPr/>
        </p:nvGrpSpPr>
        <p:grpSpPr>
          <a:xfrm>
            <a:off x="5148360" y="3500280"/>
            <a:ext cx="3600360" cy="2592720"/>
            <a:chOff x="5148360" y="3500280"/>
            <a:chExt cx="3600360" cy="2592720"/>
          </a:xfrm>
        </p:grpSpPr>
        <p:pic>
          <p:nvPicPr>
            <p:cNvPr id="110" name="Picture 7" descr="http://4.bp.blogspot.com/-bc28VhVz2zE/Ttu4tpzhPSI/AAAAAAAACmo/57J5t0bgZmc/s320/Non-effective_listening.jpg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5148360" y="3500280"/>
              <a:ext cx="3600360" cy="259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Oval 5"/>
            <p:cNvSpPr/>
            <p:nvPr/>
          </p:nvSpPr>
          <p:spPr>
            <a:xfrm>
              <a:off x="5589360" y="3500280"/>
              <a:ext cx="1514520" cy="547560"/>
            </a:xfrm>
            <a:prstGeom prst="ellipse">
              <a:avLst/>
            </a:prstGeom>
            <a:solidFill>
              <a:srgbClr val="ffc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1100" spc="-1" strike="noStrike">
                  <a:solidFill>
                    <a:srgbClr val="000000"/>
                  </a:solidFill>
                  <a:latin typeface="Calibri"/>
                </a:rPr>
                <a:t>Vai viņš vispār klausās?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6"/>
            <p:cNvSpPr/>
            <p:nvPr/>
          </p:nvSpPr>
          <p:spPr>
            <a:xfrm>
              <a:off x="7292880" y="3500280"/>
              <a:ext cx="1323720" cy="547560"/>
            </a:xfrm>
            <a:prstGeom prst="ellipse">
              <a:avLst/>
            </a:prstGeom>
            <a:solidFill>
              <a:srgbClr val="ffc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1200" spc="-1" strike="noStrike">
                  <a:solidFill>
                    <a:srgbClr val="000000"/>
                  </a:solidFill>
                  <a:latin typeface="Calibri"/>
                </a:rPr>
                <a:t>Blā, blā, blā, blā..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Straight Connector 11"/>
          <p:cNvSpPr/>
          <p:nvPr/>
        </p:nvSpPr>
        <p:spPr>
          <a:xfrm flipH="1">
            <a:off x="4932000" y="3645000"/>
            <a:ext cx="4032360" cy="244800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traight Connector 13"/>
          <p:cNvSpPr/>
          <p:nvPr/>
        </p:nvSpPr>
        <p:spPr>
          <a:xfrm flipH="1" flipV="1">
            <a:off x="4932000" y="3715920"/>
            <a:ext cx="4032360" cy="230508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324000" y="1483920"/>
            <a:ext cx="8496000" cy="374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901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Izlasi visu, ko vari par uzņēmumu un nozari, kurā tas darbojas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05280" indent="-305280">
              <a:spcBef>
                <a:spcPts val="876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500" spc="-1" strike="noStrike">
                <a:solidFill>
                  <a:srgbClr val="006a7b"/>
                </a:solidFill>
                <a:latin typeface="Calibri"/>
              </a:rPr>
              <a:t>Nospraud intervijas mērķi – ko gribi uzzināt</a:t>
            </a:r>
            <a:endParaRPr b="0" lang="en-US" sz="3500" spc="-1" strike="noStrike">
              <a:solidFill>
                <a:srgbClr val="006a7b"/>
              </a:solidFill>
              <a:latin typeface="Calibri"/>
            </a:endParaRPr>
          </a:p>
          <a:p>
            <a:pPr marL="305280" indent="-305280">
              <a:spcBef>
                <a:spcPts val="876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500" spc="-1" strike="noStrike">
                <a:solidFill>
                  <a:srgbClr val="006a7b"/>
                </a:solidFill>
                <a:latin typeface="Calibri"/>
              </a:rPr>
              <a:t>Atlasi no «jautājumu bankas» tos jautājumus, kuri palīdzēs sasniegt intervijas mērķi</a:t>
            </a:r>
            <a:endParaRPr b="0" lang="en-US" sz="3500" spc="-1" strike="noStrike">
              <a:solidFill>
                <a:srgbClr val="006a7b"/>
              </a:solidFill>
              <a:latin typeface="Calibri"/>
            </a:endParaRPr>
          </a:p>
          <a:p>
            <a:pPr marL="305280" indent="-305280">
              <a:spcBef>
                <a:spcPts val="876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500" spc="-1" strike="noStrike">
                <a:solidFill>
                  <a:srgbClr val="006a7b"/>
                </a:solidFill>
                <a:latin typeface="Calibri"/>
              </a:rPr>
              <a:t>Sagatavo pieraksta papīru un pildspalvu</a:t>
            </a:r>
            <a:endParaRPr b="0" lang="en-US" sz="35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4000" y="582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SAGATAVOŠANĀS INTERVIJAI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7" name="Picture 7" descr="books,covers,files,notes,paper clips,papers,pencils,readings"/>
          <p:cNvPicPr/>
          <p:nvPr/>
        </p:nvPicPr>
        <p:blipFill>
          <a:blip r:embed="rId1"/>
          <a:stretch/>
        </p:blipFill>
        <p:spPr>
          <a:xfrm>
            <a:off x="7596360" y="1413000"/>
            <a:ext cx="143964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178920" y="1341000"/>
            <a:ext cx="8820360" cy="34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Pieraksti intervējamās personas vārdu, uzvārdu un amatu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Noskaidro, kur notiks intervija un kā tur nokļūt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Nekavē, taču neierodies arī pārāk savlaicīgi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Noteikti informē, ja nevarēsi ierasties vai kavēsi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Ievēro uzņēmuma iekšējās kārtības noteikumus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74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00000"/>
                </a:solidFill>
                <a:latin typeface="Calibri"/>
              </a:rPr>
              <a:t>Atceries, ka tu jau tagad veido savu darbinieka reputāciju!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lvl="1" marL="3657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4000" y="582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SAGATAVOŠANĀS INTERVIJAI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0" name="Picture 5" descr="agreements,businesses,conversations,customers,executives,greeting,handshakes,meeting,negotiations,partnership,professionals,silhouettes,PresentationPro"/>
          <p:cNvPicPr/>
          <p:nvPr/>
        </p:nvPicPr>
        <p:blipFill>
          <a:blip r:embed="rId1"/>
          <a:srcRect l="11629" t="4652" r="11606" b="11606"/>
          <a:stretch/>
        </p:blipFill>
        <p:spPr>
          <a:xfrm>
            <a:off x="1332000" y="5516640"/>
            <a:ext cx="109692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2:41:07Z</dcterms:created>
  <dc:creator>rinalds</dc:creator>
  <dc:description/>
  <dc:language>en-US</dc:language>
  <cp:lastModifiedBy>Nora.Kaleja</cp:lastModifiedBy>
  <dcterms:modified xsi:type="dcterms:W3CDTF">2013-10-21T08:46:05Z</dcterms:modified>
  <cp:revision>349</cp:revision>
  <dc:subject/>
  <dc:title>Slide 1</dc:title>
</cp:coreProperties>
</file>