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F5991-9F7F-41AA-98E2-B345A0A81E59}" type="slidenum"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C1552-EFCE-4FEE-AFEC-1AE72B60F164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1A560-C88D-437F-ABA5-6756A9A75DE0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EA3AA-D6BF-41C1-9326-4866119A9536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F4AFB-7B39-40BD-ADA4-7C94F1E8EA7A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81799-E6DA-4DB8-8161-0E1423F50DF4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ECF5B-EDDB-4BC5-8D73-16CDA94B3FD7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8EEE3-4C1D-4DC5-A360-ACE31F379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86E98-AFE7-41A6-AB28-8AFC10079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C8C4D-FD0A-4063-9FC8-8457E94FF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4BDBF-67C8-4620-B32E-88B005F2B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42657-F767-43C7-BC4A-B37646A62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93050-27FF-4335-8250-E23614CFD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4CE07-243D-408A-8135-5F36749FC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3B90E-4564-4A84-9A64-14DDFDD27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59E20-CF7A-4522-B0F2-31A4B2351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500040"/>
            <a:ext cx="82296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1C839-D490-4C7E-98E9-C1A7748B6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D93BC-3FFC-41F2-9328-12D0DF2E0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ECB4E-770E-4ABA-8C89-962CDD17B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38084-5B65-4F28-A006-0620BA493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FF7FA-AA88-4AB4-8764-155E9A5BB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A811A-C079-4EE6-AE4C-15B26B082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07036-E14B-45A3-B373-019A87851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5CE75-5E2F-427C-92B6-D6279030D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F68B6-2944-45BC-8DE6-B266541D8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6C3FC-1336-47A6-A15F-939A28ADF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FFAE4-20A5-4C20-8A29-FCD052951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500040"/>
            <a:ext cx="82296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5008C-D053-44E1-B87A-18C827675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6C68E-E89C-4B7B-B4DB-F6741A160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46097-1EE3-4078-9BF6-3D2E08FAD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C4363-6B9C-49F3-89EB-D742F9F2F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6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DD944-6D4C-41B8-BBDF-9D4F37E2F093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6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AC5D9-A011-453A-B728-4A974E8D6345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4.bp.blogspot.com/-bc28VhVz2zE/Ttu4tpzhPSI/AAAAAAAACmo/57J5t0bgZmc/s1600/Non-effective_listening.jpg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22160" y="39304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800" spc="-1" strike="noStrike">
                <a:solidFill>
                  <a:srgbClr val="215968"/>
                </a:solidFill>
                <a:latin typeface="Calibri"/>
              </a:rPr>
              <a:t>KĀ INTERVĒT DARBA DEVĒJU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50560" y="5157720"/>
            <a:ext cx="871380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800080"/>
                </a:solidFill>
                <a:latin typeface="Calibri"/>
              </a:rPr>
              <a:t>ATBALSTS DARBAM AR 8. – 9. KLASES SKOLĒNIE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468360" y="1557360"/>
            <a:ext cx="820728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saki paldies par tev veltīto laik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lūdz ieteikt vēl kādu, kurš varētu tev pastāstīt par nozari vai darba tirg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ēc intervijas pieraksti iegūtās atziņa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ārdomā, ko esi uzzinājis un kā to izmantot savas karjeras plānošanai 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31640" y="475920"/>
            <a:ext cx="8229600" cy="84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KO DARĪT PĒC INTERVIJAS?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3" name="Picture 7" descr="bright ideas,business concepts,businesses,characters,concepts,ideas,inspirations,light bulbs,lightbulbs,people"/>
          <p:cNvPicPr/>
          <p:nvPr/>
        </p:nvPicPr>
        <p:blipFill>
          <a:blip r:embed="rId1"/>
          <a:stretch/>
        </p:blipFill>
        <p:spPr>
          <a:xfrm>
            <a:off x="6804000" y="4581360"/>
            <a:ext cx="1655640" cy="16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PATEICĪBAS VĒSTULE 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600200"/>
            <a:ext cx="8075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Pateicības vēstule ir būtiska biznesa etiķetes sastāvdaļa. 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algn="ctr"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Pateicoties par tev veltīto laiku un atbalstu, tu parādi, ka proti novērtēt pūles un radi labu priekšstatu par sevi. 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algn="ctr"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26" name="Picture 5" descr="business,gestures,greetings,meetings,men,people,shaking hands,women"/>
          <p:cNvPicPr/>
          <p:nvPr/>
        </p:nvPicPr>
        <p:blipFill>
          <a:blip r:embed="rId1"/>
          <a:stretch/>
        </p:blipFill>
        <p:spPr>
          <a:xfrm>
            <a:off x="3419640" y="4581360"/>
            <a:ext cx="208728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312480" y="1428840"/>
            <a:ext cx="850716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Adresāta vārds, uzvārds datīvā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Uzņēmuma nosaukums</a:t>
            </a:r>
            <a:br>
              <a:rPr sz="2000"/>
            </a:b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amats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A.god. .............. k-gs/ Ļ.cien. .......... K-dze!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1.rindkopa: </a:t>
            </a:r>
            <a:r>
              <a:rPr b="1" i="1" lang="lv-LV" sz="2000" spc="-1" strike="noStrike">
                <a:solidFill>
                  <a:srgbClr val="006a7b"/>
                </a:solidFill>
                <a:latin typeface="Calibri"/>
              </a:rPr>
              <a:t>pateicies intervētajai personai par palīdzību un tev atvēlēto laiku.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2.rindkopa: </a:t>
            </a:r>
            <a:r>
              <a:rPr b="1" i="1" lang="lv-LV" sz="2000" spc="-1" strike="noStrike">
                <a:solidFill>
                  <a:srgbClr val="006a7b"/>
                </a:solidFill>
                <a:latin typeface="Calibri"/>
              </a:rPr>
              <a:t>īsumā apraksti, kāpēc gūtā pieredze tev ir svarīga. Piemini dažas no gūtajām atziņām.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Ar cieņu,</a:t>
            </a:r>
            <a:br>
              <a:rPr sz="2000"/>
            </a:b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(Vārds, uzvārds) 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.......................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(paraksts)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PATEICĪBAS VĒSTULE 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800" spc="-1" strike="noStrike">
                <a:solidFill>
                  <a:srgbClr val="215968"/>
                </a:solidFill>
                <a:latin typeface="Calibri"/>
              </a:rPr>
              <a:t>KOPSAVILKUMS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Ko Jūs šodien jaunu guvāt?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Jūsu secinājumi, atziņas!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Paldies par uzmanību!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31" name="Picture 5" descr="checklists,clipboards,clipped images,cropped images,cropped pictures,households,icons,lists,office supplies,offices,pencils,PNG,things to do,to do,to do list,to do lists,transparent background,web elements"/>
          <p:cNvPicPr/>
          <p:nvPr/>
        </p:nvPicPr>
        <p:blipFill>
          <a:blip r:embed="rId1"/>
          <a:srcRect l="27922" t="30248" r="27899" b="27899"/>
          <a:stretch/>
        </p:blipFill>
        <p:spPr>
          <a:xfrm>
            <a:off x="3995640" y="4452840"/>
            <a:ext cx="1871640" cy="17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NODARBĪBAS MĒRĶI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Content Placeholder 2"/>
          <p:cNvSpPr/>
          <p:nvPr/>
        </p:nvSpPr>
        <p:spPr>
          <a:xfrm>
            <a:off x="455760" y="1700280"/>
            <a:ext cx="842472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Izprast darba devēja intervijas mērķus un iegūstamo informācij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Izveidot intervijas jautājumu krājum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Apgūt intervijas etiķe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5" descr="business concepts,businesses,Communications,concepts,correspondences,icons,people,speech balloons,speech bubbles,speeches,symbols,talking"/>
          <p:cNvPicPr/>
          <p:nvPr/>
        </p:nvPicPr>
        <p:blipFill>
          <a:blip r:embed="rId1"/>
          <a:srcRect l="0" t="10524" r="0" b="10524"/>
          <a:stretch/>
        </p:blipFill>
        <p:spPr>
          <a:xfrm>
            <a:off x="3203640" y="4292640"/>
            <a:ext cx="273672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77920" y="47628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SATUR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539640" y="1557360"/>
            <a:ext cx="8425080" cy="47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Kāpēc intervēt darba devēj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Kādu informāciju var iegūt no darba devē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Intervijas «jautājumu bankas» izve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Intervijas etiķe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Kopsavilku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49356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KĀPĒC INTERVĒT DARBA DEVĒJU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7" name="Picture 2" descr="C:\Users\Nora.Kaleja\Desktop\Picture1.png"/>
          <p:cNvPicPr/>
          <p:nvPr/>
        </p:nvPicPr>
        <p:blipFill>
          <a:blip r:embed="rId1"/>
          <a:srcRect l="18135" t="1702" r="22935" b="-409"/>
          <a:stretch/>
        </p:blipFill>
        <p:spPr>
          <a:xfrm>
            <a:off x="2720880" y="2219400"/>
            <a:ext cx="3407040" cy="2960640"/>
          </a:xfrm>
          <a:prstGeom prst="rect">
            <a:avLst/>
          </a:prstGeom>
          <a:ln w="0">
            <a:noFill/>
          </a:ln>
        </p:spPr>
      </p:pic>
      <p:sp>
        <p:nvSpPr>
          <p:cNvPr id="98" name="Rounded Rectangular Callout 5"/>
          <p:cNvSpPr/>
          <p:nvPr/>
        </p:nvSpPr>
        <p:spPr>
          <a:xfrm>
            <a:off x="900000" y="1844640"/>
            <a:ext cx="1563840" cy="1297080"/>
          </a:xfrm>
          <a:prstGeom prst="wedgeRoundRectCallout">
            <a:avLst>
              <a:gd name="adj1" fmla="val 97851"/>
              <a:gd name="adj2" fmla="val 46365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MAN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INTERES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VĒLM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VĒRTĪB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ounded Rectangular Callout 6"/>
          <p:cNvSpPr/>
          <p:nvPr/>
        </p:nvSpPr>
        <p:spPr>
          <a:xfrm>
            <a:off x="6299280" y="1484280"/>
            <a:ext cx="2355840" cy="1727280"/>
          </a:xfrm>
          <a:prstGeom prst="wedgeRoundRectCallout">
            <a:avLst>
              <a:gd name="adj1" fmla="val -80805"/>
              <a:gd name="adj2" fmla="val 43217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MAN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SPĒJ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RASM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ZINĀŠAN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RAKSTURA ĪPAŠĪB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VESELĪBAS STĀVOKLI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FINANSIĀLĀS IESPĒJ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ounded Rectangular Callout 7"/>
          <p:cNvSpPr/>
          <p:nvPr/>
        </p:nvSpPr>
        <p:spPr>
          <a:xfrm>
            <a:off x="539640" y="4003560"/>
            <a:ext cx="2808360" cy="2232000"/>
          </a:xfrm>
          <a:prstGeom prst="wedgeRoundRectCallout">
            <a:avLst>
              <a:gd name="adj1" fmla="val 67217"/>
              <a:gd name="adj2" fmla="val -33148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DARBA TIRG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ROFESIJU “+” un “-”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DARBA VID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IEPRASĪJUMS un PROGNOZ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ATALGOJUMS UN IZAUGSMES IESPĒJ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NODARBINĀTĪBAS VEID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DARBA MEKLĒŠAN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ounded Rectangular Callout 8"/>
          <p:cNvSpPr/>
          <p:nvPr/>
        </p:nvSpPr>
        <p:spPr>
          <a:xfrm>
            <a:off x="5724360" y="4076640"/>
            <a:ext cx="2845080" cy="2183040"/>
          </a:xfrm>
          <a:prstGeom prst="wedgeRoundRectCallout">
            <a:avLst>
              <a:gd name="adj1" fmla="val -75912"/>
              <a:gd name="adj2" fmla="val -37037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IZGLĪTĪBAS IESPĒJ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ROFESIONĀLĀS KVALIFIKĀCIJAS  UN IZGLĪTĪBAS LĪMEŅ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MĀCĪBU SATUR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IESTĀŠANĀS NOTEIKUM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MĀCĪBU ILGUMS UN VIET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FINANSIĀLAIS IEGULDĪJUM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57040" y="476280"/>
            <a:ext cx="843624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O VARI UZZINĀT, INTERVĒJOT DARBA DEVĒJU?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8360" y="1789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uzņēmumu un nozari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uzņēmumā strādājošo profesijā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darba tirgu un darba meklēšan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darba devēja personīgo karjeras ceļ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vadītāja profesij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04" name="Picture 5" descr="co-workers,cubicles,men,office,office staff,offices,people,people at work,staffs,women,occupations"/>
          <p:cNvPicPr/>
          <p:nvPr/>
        </p:nvPicPr>
        <p:blipFill>
          <a:blip r:embed="rId1"/>
          <a:srcRect l="0" t="20933" r="0" b="20909"/>
          <a:stretch/>
        </p:blipFill>
        <p:spPr>
          <a:xfrm>
            <a:off x="5445000" y="4653000"/>
            <a:ext cx="359100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8000" y="500040"/>
            <a:ext cx="89280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VEIDOSIM INTERVIJAS JAUTĀJUMU “BANKU”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79280" y="1557360"/>
            <a:ext cx="8785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Izdomājiet pēc iespējas vairāk jautājumu, kurus uzdot darba devējam, lai uzzinātu par: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uzņēmumu un nozari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uzņēmumā strādājošo profesijā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darba tirgu un darba meklēšan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darba devēja personīgo karjeras ceļ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AS NEPIECIEŠAMS, LAI INTERVIJA IZDOTO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24000" y="1989000"/>
            <a:ext cx="619272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Sagatavoti jautājumi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Laba klausīšanās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Ieinteresētība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Atbilstošs izskats un izturēšanās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</p:txBody>
      </p:sp>
      <p:grpSp>
        <p:nvGrpSpPr>
          <p:cNvPr id="109" name="Group 7"/>
          <p:cNvGrpSpPr/>
          <p:nvPr/>
        </p:nvGrpSpPr>
        <p:grpSpPr>
          <a:xfrm>
            <a:off x="5148360" y="3500280"/>
            <a:ext cx="3600360" cy="2592720"/>
            <a:chOff x="5148360" y="3500280"/>
            <a:chExt cx="3600360" cy="2592720"/>
          </a:xfrm>
        </p:grpSpPr>
        <p:pic>
          <p:nvPicPr>
            <p:cNvPr id="110" name="Picture 7" descr="http://4.bp.blogspot.com/-bc28VhVz2zE/Ttu4tpzhPSI/AAAAAAAACmo/57J5t0bgZmc/s320/Non-effective_listening.jpg">
              <a:hlinkClick r:id="rId2"/>
            </p:cNvPr>
            <p:cNvPicPr/>
            <p:nvPr/>
          </p:nvPicPr>
          <p:blipFill>
            <a:blip r:embed="rId3"/>
            <a:stretch/>
          </p:blipFill>
          <p:spPr>
            <a:xfrm>
              <a:off x="5148360" y="3500280"/>
              <a:ext cx="3600360" cy="259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Oval 5"/>
            <p:cNvSpPr/>
            <p:nvPr/>
          </p:nvSpPr>
          <p:spPr>
            <a:xfrm>
              <a:off x="5589360" y="3500280"/>
              <a:ext cx="1514520" cy="547560"/>
            </a:xfrm>
            <a:prstGeom prst="ellipse">
              <a:avLst/>
            </a:prstGeom>
            <a:solidFill>
              <a:srgbClr val="ffc0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1100" spc="-1" strike="noStrike">
                  <a:solidFill>
                    <a:srgbClr val="000000"/>
                  </a:solidFill>
                  <a:latin typeface="Calibri"/>
                </a:rPr>
                <a:t>Vai viņš vispār klausās?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Oval 6"/>
            <p:cNvSpPr/>
            <p:nvPr/>
          </p:nvSpPr>
          <p:spPr>
            <a:xfrm>
              <a:off x="7292880" y="3500280"/>
              <a:ext cx="1323720" cy="547560"/>
            </a:xfrm>
            <a:prstGeom prst="ellipse">
              <a:avLst/>
            </a:prstGeom>
            <a:solidFill>
              <a:srgbClr val="ffc0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1200" spc="-1" strike="noStrike">
                  <a:solidFill>
                    <a:srgbClr val="000000"/>
                  </a:solidFill>
                  <a:latin typeface="Calibri"/>
                </a:rPr>
                <a:t>Blā, blā, blā, blā..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Straight Connector 11"/>
          <p:cNvSpPr/>
          <p:nvPr/>
        </p:nvSpPr>
        <p:spPr>
          <a:xfrm flipH="1">
            <a:off x="4932000" y="3645000"/>
            <a:ext cx="4032360" cy="244800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traight Connector 13"/>
          <p:cNvSpPr/>
          <p:nvPr/>
        </p:nvSpPr>
        <p:spPr>
          <a:xfrm flipH="1" flipV="1">
            <a:off x="4932000" y="3715920"/>
            <a:ext cx="4032360" cy="230508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324000" y="1483920"/>
            <a:ext cx="8496000" cy="374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901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Izlasi visu, ko vari par uzņēmumu un nozari, kurā tas darbojas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marL="305280" indent="-305280">
              <a:spcBef>
                <a:spcPts val="876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500" spc="-1" strike="noStrike">
                <a:solidFill>
                  <a:srgbClr val="006a7b"/>
                </a:solidFill>
                <a:latin typeface="Calibri"/>
              </a:rPr>
              <a:t>Nospraud intervijas mērķi – ko gribi uzzināt</a:t>
            </a:r>
            <a:endParaRPr b="0" lang="en-US" sz="3500" spc="-1" strike="noStrike">
              <a:solidFill>
                <a:srgbClr val="006a7b"/>
              </a:solidFill>
              <a:latin typeface="Calibri"/>
            </a:endParaRPr>
          </a:p>
          <a:p>
            <a:pPr marL="305280" indent="-305280">
              <a:spcBef>
                <a:spcPts val="876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500" spc="-1" strike="noStrike">
                <a:solidFill>
                  <a:srgbClr val="006a7b"/>
                </a:solidFill>
                <a:latin typeface="Calibri"/>
              </a:rPr>
              <a:t>Atlasi no «jautājumu bankas» tos jautājumus, kuri palīdzēs sasniegt intervijas mērķi</a:t>
            </a:r>
            <a:endParaRPr b="0" lang="en-US" sz="3500" spc="-1" strike="noStrike">
              <a:solidFill>
                <a:srgbClr val="006a7b"/>
              </a:solidFill>
              <a:latin typeface="Calibri"/>
            </a:endParaRPr>
          </a:p>
          <a:p>
            <a:pPr marL="305280" indent="-305280">
              <a:spcBef>
                <a:spcPts val="876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500" spc="-1" strike="noStrike">
                <a:solidFill>
                  <a:srgbClr val="006a7b"/>
                </a:solidFill>
                <a:latin typeface="Calibri"/>
              </a:rPr>
              <a:t>Sagatavo pieraksta papīru un pildspalvu</a:t>
            </a:r>
            <a:endParaRPr b="0" lang="en-US" sz="35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24000" y="5824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SAGATAVOŠANĀS INTERVIJAI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17" name="Picture 7" descr="books,covers,files,notes,paper clips,papers,pencils,readings"/>
          <p:cNvPicPr/>
          <p:nvPr/>
        </p:nvPicPr>
        <p:blipFill>
          <a:blip r:embed="rId1"/>
          <a:stretch/>
        </p:blipFill>
        <p:spPr>
          <a:xfrm>
            <a:off x="7596360" y="1413000"/>
            <a:ext cx="1439640" cy="14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178920" y="1341000"/>
            <a:ext cx="8820360" cy="34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spcBef>
                <a:spcPts val="82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300" spc="-1" strike="noStrike">
                <a:solidFill>
                  <a:srgbClr val="006a7b"/>
                </a:solidFill>
                <a:latin typeface="Calibri"/>
              </a:rPr>
              <a:t>Pieraksti intervējamās personas vārdu, uzvārdu un amatu</a:t>
            </a:r>
            <a:endParaRPr b="0" lang="en-US" sz="3300" spc="-1" strike="noStrike">
              <a:solidFill>
                <a:srgbClr val="006a7b"/>
              </a:solidFill>
              <a:latin typeface="Calibri"/>
            </a:endParaRPr>
          </a:p>
          <a:p>
            <a:pPr marL="274320" indent="-274320">
              <a:spcBef>
                <a:spcPts val="82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300" spc="-1" strike="noStrike">
                <a:solidFill>
                  <a:srgbClr val="006a7b"/>
                </a:solidFill>
                <a:latin typeface="Calibri"/>
              </a:rPr>
              <a:t>Noskaidro, kur notiks intervija un kā tur nokļūt</a:t>
            </a:r>
            <a:endParaRPr b="0" lang="en-US" sz="3300" spc="-1" strike="noStrike">
              <a:solidFill>
                <a:srgbClr val="006a7b"/>
              </a:solidFill>
              <a:latin typeface="Calibri"/>
            </a:endParaRPr>
          </a:p>
          <a:p>
            <a:pPr marL="274320" indent="-274320">
              <a:spcBef>
                <a:spcPts val="82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300" spc="-1" strike="noStrike">
                <a:solidFill>
                  <a:srgbClr val="006a7b"/>
                </a:solidFill>
                <a:latin typeface="Calibri"/>
              </a:rPr>
              <a:t>Nekavē, taču neierodies arī pārāk savlaicīgi</a:t>
            </a:r>
            <a:endParaRPr b="0" lang="en-US" sz="3300" spc="-1" strike="noStrike">
              <a:solidFill>
                <a:srgbClr val="006a7b"/>
              </a:solidFill>
              <a:latin typeface="Calibri"/>
            </a:endParaRPr>
          </a:p>
          <a:p>
            <a:pPr marL="274320" indent="-274320">
              <a:spcBef>
                <a:spcPts val="82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300" spc="-1" strike="noStrike">
                <a:solidFill>
                  <a:srgbClr val="006a7b"/>
                </a:solidFill>
                <a:latin typeface="Calibri"/>
              </a:rPr>
              <a:t>Noteikti informē, ja nevarēsi ierasties vai kavēsi</a:t>
            </a:r>
            <a:endParaRPr b="0" lang="en-US" sz="3300" spc="-1" strike="noStrike">
              <a:solidFill>
                <a:srgbClr val="006a7b"/>
              </a:solidFill>
              <a:latin typeface="Calibri"/>
            </a:endParaRPr>
          </a:p>
          <a:p>
            <a:pPr marL="274320" indent="-274320">
              <a:spcBef>
                <a:spcPts val="82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300" spc="-1" strike="noStrike">
                <a:solidFill>
                  <a:srgbClr val="006a7b"/>
                </a:solidFill>
                <a:latin typeface="Calibri"/>
              </a:rPr>
              <a:t>Ievēro uzņēmuma iekšējās kārtības noteikumus</a:t>
            </a:r>
            <a:endParaRPr b="0" lang="en-US" sz="3300" spc="-1" strike="noStrike">
              <a:solidFill>
                <a:srgbClr val="006a7b"/>
              </a:solidFill>
              <a:latin typeface="Calibri"/>
            </a:endParaRPr>
          </a:p>
          <a:p>
            <a:pPr marL="274320" indent="-274320">
              <a:spcBef>
                <a:spcPts val="74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6a7b"/>
              </a:solidFill>
              <a:latin typeface="Calibri"/>
            </a:endParaRPr>
          </a:p>
          <a:p>
            <a:pPr marL="274320" indent="-274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c00000"/>
                </a:solidFill>
                <a:latin typeface="Calibri"/>
              </a:rPr>
              <a:t>Atceries, ka tu jau tagad veido savu darbinieka reputāciju!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lvl="1" marL="36576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24000" y="5824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SAGATAVOŠANĀS INTERVIJAI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0" name="Picture 5" descr="agreements,businesses,conversations,customers,executives,greeting,handshakes,meeting,negotiations,partnership,professionals,silhouettes,PresentationPro"/>
          <p:cNvPicPr/>
          <p:nvPr/>
        </p:nvPicPr>
        <p:blipFill>
          <a:blip r:embed="rId1"/>
          <a:srcRect l="11629" t="4652" r="11606" b="11606"/>
          <a:stretch/>
        </p:blipFill>
        <p:spPr>
          <a:xfrm>
            <a:off x="1332000" y="5516640"/>
            <a:ext cx="1096920" cy="11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3T12:41:07Z</dcterms:created>
  <dc:creator>rinalds</dc:creator>
  <dc:description/>
  <dc:language>en-US</dc:language>
  <cp:lastModifiedBy>Nora.Kaleja</cp:lastModifiedBy>
  <dcterms:modified xsi:type="dcterms:W3CDTF">2013-10-21T08:46:05Z</dcterms:modified>
  <cp:revision>349</cp:revision>
  <dc:subject/>
  <dc:title>Slide 1</dc:title>
</cp:coreProperties>
</file>