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7E34-195D-4498-81F2-C9ED630F0871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E0AD-3740-465F-91C7-A43F352046C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6D16-6A18-47C7-8156-D4E43672697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CDB5-60C3-46FD-8424-448301FD2AF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D0CD-02AC-4E56-AA8E-02FE96DF891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ACA4-6621-4AF9-87AE-F5D44EA4864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0121-9EC7-40FE-84C3-B795CD2AB06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AF33-35F6-41FF-855D-19151B31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921-CA54-4348-9EE4-41F0E8C4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D881-31AA-4FA7-8632-D005AF187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C5E7-FD9B-4919-BB18-B4FA7DED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A013-90A5-4296-AF4A-4FE13C21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178C-979C-4075-A6AD-FB7BF720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D5EA-88B1-4B21-ACF0-963BB348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D4DF-A629-4D75-9E50-A50A340A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5597-8068-47FB-8868-8A1D0AAB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E955-24EF-492C-83FF-70D31551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1BD6-706C-494E-BD17-24104DBB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3593-4799-4B72-B18A-28378803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9AF1-5A07-4E73-A442-BA2A3549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4F94-E884-4B54-A0D6-C367802C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09EE-A4A8-4E2F-B39C-739D875F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47C9-884C-4039-9C93-F5883DC8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CF33-7FD9-4584-BE85-25837FEF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E65-7DEA-4C91-8A2E-D10A4C02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18A-926A-4F09-9D8A-B3FDF0F6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389D-64DE-406F-9860-8372DAEA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12F5-4735-49C2-BA50-0AD7E96F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3A1E-5BD0-4DFC-8A23-B3523338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80EB-EE5D-46AD-B822-FF73EAAC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D21D-A7EB-4937-99AE-0EC03C73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CEDB-CA5D-41FD-8003-9874EDFD13B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C533-4DFC-4782-B2FE-C01CA981298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jiet ar jaunieti sagatavošanos intervijai, uzvedību intervijas laikā un pēc t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Atcerēties, ka jau tagad tiek veidota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jaunieša-darbinieka reputācija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INTERVIJAS ETIĶ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3924360" y="4581360"/>
            <a:ext cx="12952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915920"/>
            <a:ext cx="6192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22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īt visu, ko var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st intervijas mērķi – kas jāuzzina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īt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t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1557360"/>
            <a:ext cx="828036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erakstīt intervējamās personas vārdu, uzvārdu un amat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skaidrot, kur notiks intervija un kā tur nokļū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kavēt, taču neierasties arī pārāk savlaicīg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teikti informēt par kavēšanu vai neierašan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evērot uzņēmuma iekšējās kārtības noteikum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  <a:p>
            <a:pPr lvl="1" marL="42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teikties par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gt ieteikt vēl kādu, kurš varētu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īt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t uzzināto informāciju un kā to izmantot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veltīto laiku un atbalstu, jaunietis parāda, ka prot novērtēt pūles un rada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7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2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savus aizspriedumus un stereotipus par darba tir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iespējas atbalstīt jaunieš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76720" y="4653000"/>
            <a:ext cx="2447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209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es varu palīdzēt savam bērnam iepazīt darba tir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Mani aizspriedumi un stereotipi, to ietekme uz manu bēr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profesijas pārstāv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darba vietas darbi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eredzējis darba meklē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lsētas/ciema/novada iedzīvo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Latvijas pilson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VARU PALĪDZĒT SAVAM BĒRNAM IEPAZĪT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builds,business,businessmen,challenges,complete,Concepts,Fotolia,ideas,jigsaws,men,Photographs,pieces,pushes,puzzles,solutions,solve,struggles,teams,teamwork,work"/>
          <p:cNvPicPr/>
          <p:nvPr/>
        </p:nvPicPr>
        <p:blipFill>
          <a:blip r:embed="rId1"/>
          <a:srcRect l="9303" t="16281" r="9280" b="13932"/>
          <a:stretch/>
        </p:blipFill>
        <p:spPr>
          <a:xfrm>
            <a:off x="5867280" y="4324320"/>
            <a:ext cx="22338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557000"/>
            <a:ext cx="82296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Aizspriedumi vai stereotipi var atturēt jaunieti no mēģinājumiem iepazīt noteiktas profesionālās jom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gatīva pieredze var radīt negatīvu attieksmi pret darba devējiem, darba interviju vai noteiktām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ANI AIZSPRIEDUMI UN STEREOTIPI PAR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800080"/>
                </a:solidFill>
                <a:latin typeface="Calibri"/>
              </a:rPr>
              <a:t>AIZSPRIEDUMI UN STEREOTIP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412640"/>
            <a:ext cx="8650080" cy="53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m jā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s nedrīkst 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nav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profesionāl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augstāk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9" name="Picture 7" descr="negative.WMF"/>
          <p:cNvPicPr/>
          <p:nvPr/>
        </p:nvPicPr>
        <p:blipFill>
          <a:blip r:embed="rId1"/>
          <a:srcRect l="8527" t="8641" r="8984" b="12122"/>
          <a:stretch/>
        </p:blipFill>
        <p:spPr>
          <a:xfrm>
            <a:off x="7164360" y="4941720"/>
            <a:ext cx="1714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2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JIET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184464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līdziet jaunietim sagatavot jautājumus, ko uzdot, norādiet uz tēmām, par kurām jautāt un paskaidrojiet, kāpēc to ir svarīgi uzzināt.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academic,careers,children,daughters,education,employees,families,females,girls,instructors,jobs,mothers,occupations,parents,people,people at work,persons,schools,students,teachers,tutors,vocations,women,workers,working"/>
          <p:cNvPicPr/>
          <p:nvPr/>
        </p:nvPicPr>
        <p:blipFill>
          <a:blip r:embed="rId1"/>
          <a:stretch/>
        </p:blipFill>
        <p:spPr>
          <a:xfrm>
            <a:off x="3348000" y="378936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10:33:26Z</dcterms:modified>
  <cp:revision>374</cp:revision>
  <dc:subject/>
  <dc:title>Slide 1</dc:title>
</cp:coreProperties>
</file>