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8C09-5CA4-443E-B3A9-47DE0D18FE5C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AA8F-869E-4540-844F-CE86701A902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7C7D-6D95-40E1-BE32-2650BCC5DF2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E505-788E-4B13-8B33-1D91A02037D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18AA-8AF2-466A-91C3-998A4B11658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A6CF-544E-4E2A-AC64-E08E05F1618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83E2-C0E5-4FC3-8169-1F4B3850F08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BE4-66B4-4321-B24A-DFBE3CCE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1ED-4B84-4326-ADCA-6C3C0CA4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0A9D-8333-4914-A901-304056D4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6AB-A97A-4398-BAB5-7A87F3DC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B13B-14E2-4DC1-AAB7-DB643B17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94FD-C2B6-4D5B-B8CF-BB672EA7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6E0E-D29F-420A-8FBC-B0AE40AB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BC26-A3AC-4520-88E6-98C24B78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C5E0-CF7C-49D4-B0D7-B6C0FD64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C79D-4DB2-4526-AAF9-2CDD3747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BF72-CBB6-4228-83AA-C0F3D182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6C2-52BD-49F9-B45E-E6A43BD3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3454-6282-4827-A861-5C063626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FDFC-0F44-4F73-884A-44828C87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31B6-A352-40AA-A418-E49D75D2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FE0A-30C4-4217-8259-DAC829ED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BD61-54CE-48EB-84DC-D6259371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106-6C4A-4106-A823-1F1F417B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8C1-6BB9-4B18-961F-97B66B50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0E8-6EB6-4FB7-92BA-EAC93BFD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619-E462-4226-B429-34EA56FA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269A-98F4-4AEE-9A19-074363DE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01D-E7C5-4A1E-8343-59ED12FF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E2CE-B4A9-4916-A8A9-5C75637D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E463-A6CB-45AB-A0A0-B97DAD89ECB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D384-B01E-4BB8-ABE3-4271427AB04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9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4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AS IR DARBA DEVĒJ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ējs, uzņēmuma īpaš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a valdes locekli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Vadītājs (uzņēmuma, nodaļas, filiāles)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ersonāla daļas speciālist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iCLIPART, silhouettes, women, men, people, teamwork, plannings, leaders, brainstorming, community, cooperation, lifestyle, city, business concepts, corporate"/>
          <p:cNvPicPr/>
          <p:nvPr/>
        </p:nvPicPr>
        <p:blipFill>
          <a:blip r:embed="rId1"/>
          <a:srcRect l="0" t="24131" r="0" b="8420"/>
          <a:stretch/>
        </p:blipFill>
        <p:spPr>
          <a:xfrm>
            <a:off x="2124000" y="4221000"/>
            <a:ext cx="3416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7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3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8T14:24:03Z</dcterms:modified>
  <cp:revision>346</cp:revision>
  <dc:subject/>
  <dc:title>Slide 1</dc:title>
</cp:coreProperties>
</file>