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52A0-4B9E-47AA-92FD-64E1CB47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48E-5EC7-47CD-B65A-201B4CB1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2BD460-0B70-4D65-83D5-319D652224A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D1C214-C264-4DFC-B52C-9B3D3654E1B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D0D98-515C-4B08-A482-B3A85CB2677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0CAC41-FE6E-4907-8989-127DD0A3B38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CE33D5-5B15-435D-9C54-CEE4E3A03C6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FC3D30-1857-4FD7-BED5-EA251348AC4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FA71B-6030-4750-92DE-CDC9959DC62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C8EC58-6602-495E-8221-F0C2812935D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8E938-C62F-4A02-867D-D3B6ABB9657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75B-83FA-482D-9F57-585B5767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B25-AFD6-43A4-B9F9-4104B799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9A3-C14D-4120-B150-52CFA485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D5190-64E6-47CA-A185-364D9BA4D3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F1C6E-62C8-4D4A-A8F1-E6958A2191B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84D21-5C18-448F-978E-D9AA42D224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D26C9-B038-4E24-8642-89DA39E566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F889B-7D22-4C21-AEF8-ED31BAD617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D4A-B7A0-4C3B-8EE9-E8329B8A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0D8F1-5F93-4C4D-A158-26DE04DDA6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F88A4-5080-4FD9-ABD7-C67B618059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DE77E-0B3A-4078-B54C-4FA0A7E99F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31191-3E3D-424B-A62D-4430BC6CBE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D13BE-6E99-432F-B6A2-9681F44B00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936A4-B9A4-44D3-8F81-358A3BC830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0E157-ACB8-40ED-BD20-97FA3E73BC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FFF15-4743-4949-83DE-91010CE62B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F804F-A62E-4985-AB2F-9ACD50EE99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A24D6-109A-4E64-BB86-1A1AFC6A1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5C1-85CB-4654-943E-6B279F8B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AB504-CFE8-45D7-9999-01C91A20D7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93636-8A18-443C-A1E1-C3E1948656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6D129-70B6-4FB6-9764-345E363E46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A2A51-9C47-4FD9-9436-CF58EB7E28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C6930-5C6A-4C10-BB85-215E8F5DB8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69E2E-8165-4AC6-A9D2-8F957CD01D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F1A62-6215-41A7-B714-36D489AB0E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80C3D-B929-4538-9F95-DFBB1919EB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A9C5B-6C83-4700-8563-C273FC6039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BC7C-4CE8-430D-B120-00F8295CC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3EC-78D5-4758-ACB1-82AD055E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B8F0-8583-48CF-9269-A624BDB9086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04D5-D98D-4FC3-8C83-812DF7700E4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4CE0-1EFE-4F9C-A790-A9E4481285C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025A-814B-4036-A674-11A00A0409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E964-25BC-4490-98EA-57744F9DAC4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1D80-7434-44FA-9163-7248E5612DD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C496-8275-4A55-A042-6E2169EC4FC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298E-4509-414D-B986-C825E1D87EE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7789-17C0-4030-AAF5-2DF0A62B728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389A-9492-4D3B-A5FF-FDBD15DAE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D51-2503-4BD6-B59B-87442ED8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4560-B69E-4CBD-A32E-737E0A0C45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B6F0C7-6BE9-4F1E-AE0C-C956F3AF34D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D8122-A30C-4FF6-828A-9AC5105589D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718FDB-948B-44A7-A3A5-3490122BE32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963E30-E73C-4474-8C12-9423F800C5C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CAE1FD-BA78-43FD-97CD-CC82F56AAE6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7543F-3F51-4C2A-A967-2C5CD90F165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4C7B57-6A7D-4B26-B6D4-E08C21914E4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409BF4-7212-4837-BFFD-595C006367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205E55-7B9B-449C-9F52-1579FB936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1FF-5006-4C50-8B9F-4B5648CB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7ECFDE-5AC4-4D5C-BA54-64E51BDE121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8F55A1-D48A-43CE-9EE9-0A5855AF925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1C6026-0614-43E5-983C-C487AF6F98B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7323A-688C-4B60-A136-C0E3144E20B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3512E-06B8-4E99-BC46-E81DBDFABD6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2EDE6-8EB7-4292-B80B-F681DA174FA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931D1-5761-4429-92A4-2150EAD3787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54BE4-9E2F-4BCE-A03F-5221CAE0052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021CC-1507-4957-8544-7AA1FC6ADE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62F7B-0B2D-4E3E-B321-7D33FD284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058-5513-44F7-9545-86A5286C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A43C3-AB35-4284-81F0-B489C59269D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84B02-C6FD-4E2C-8382-4CB3E1EA70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D8828-9DC2-4C0E-80CA-3806387C47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B5633-A3C6-4A27-B9BD-BB24CFA7A9F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217ED-DE75-45E4-8C40-BC599DD24D2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15DF3-976D-4519-A2DC-A923216EE1C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A447-2C9D-4D8E-A732-284CF9BEC22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01CB4-A086-4766-B1A6-6493C50F944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F5E2F-61A4-4475-87BE-70817BE3812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1FD2-38D2-4D50-8A0D-DB946FE95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CE2D-AB4D-43DC-833C-18BC6F20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2B65A-6635-4428-B9AE-175110FDDF6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7B9AC-F751-4FA1-9507-4FDCED5FCDA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406A1-0F45-41A9-B7F9-E97818DB3E1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885D-43C8-4D71-B479-9B368DF7203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AF06-3053-43E6-9C5F-633F8316B99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C1CBD-2DDE-4D0C-B6AE-4F8094F4D7F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A5099-EFD1-42C4-A216-F4BD58265A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378DDE-E970-445E-91CC-59CF37F6820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DA8E00-FF94-4463-97E5-4886791BD8D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68E342-C733-402E-AEE7-85BD1CA7E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BB5B9B-B344-4B2F-80EC-B5A3FD256A6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2F0625B-15BF-470F-B227-0FDD6AA37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1E4B2F-7808-47A6-8568-3761181EEEF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544ADC-B575-4849-B37A-D21C722F7AF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3C8F7E3-B305-4AAB-8753-989CCC5E9CF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EFD65CA-F1FA-4642-A823-CB6C4C5DA2D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0F53E77-67A2-484C-8F95-359C227980C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E941711-9DEF-414D-99B1-0ACA4A7B1F4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43D66A1-BC08-4AB3-B29D-3D36C033B06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1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programma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s mērķ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698480" y="1752120"/>
            <a:ext cx="6988320" cy="3699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programmas mērķis ir sekmēt starptautisko sadarbību zinātnē un inovācij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ot konkurētspējīgu projektu pieteikumu izstrā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paši atbalstot sadarbību starp Baltijas valstu zinātniekie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ļēji kompensējot projektu pieteikumu izstrādes izdev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47F8E5-251F-47AF-9099-97515BC053C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program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003040" y="1752120"/>
            <a:ext cx="668340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rogramm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ievieš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Valsts izglītības attīstības aģentūras Zinātnes, pētniecības un inovācijas politikas atbalsta departamenta Pētniecības starptautisko programmu nodaļ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Lēmumu</a:t>
            </a:r>
            <a:r>
              <a:rPr b="0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par finansiāla atbalsta piešķiršanu </a:t>
            </a:r>
            <a:r>
              <a:rPr b="1" lang="lv-LV" sz="2000" spc="-1" strike="noStrike" u="sng">
                <a:solidFill>
                  <a:srgbClr val="404040"/>
                </a:solidFill>
                <a:uFillTx/>
                <a:latin typeface="Verdana"/>
                <a:ea typeface="Verdana"/>
              </a:rPr>
              <a:t>pieņem</a:t>
            </a:r>
            <a:r>
              <a:rPr b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misija, kuras sastāvu veido Izglītības un zinātnes ministrijas, Valsts izglītības attīstības aģentūras, Latvijas Zinātnes padomes un Latvijas investīciju un attīstības aģentūras pārstāvj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2FCF733-5CFB-424A-896C-21D8FBE6607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as var saņemt atbals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793520" y="1752120"/>
            <a:ext cx="689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Zinātnisko institūciju reģistrā reģistrēta zinātniskā institūcija vai mazais un vidējais uzņēmu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projekta izstrādi, kas iesniegts 2014., 2015. vai 2016.gada projektu konkursā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m ekspertu dotā novērtējuma skaitliskā vērtība ir sasniegusi nepieciešamo sliekšņa vērtīb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B7C0D0-D138-4557-BDB8-1BE3BB64187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Atbalstu var saņemt p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11200" y="1752480"/>
            <a:ext cx="7275600" cy="3611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Apvārsnis 2020 inovācij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ATOM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UROSTARS 2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ONUS programmas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CSEL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IMI 2 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Clean Sky 2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Bio-Based Industries </a:t>
            </a: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kopuzņēmuma projek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404040"/>
                </a:solidFill>
                <a:latin typeface="Verdana"/>
                <a:ea typeface="Verdana"/>
              </a:rPr>
              <a:t>ERA-NET aktivitātes ietvaros iesniegtu projekt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5D45167-BD91-4E6C-BF9D-B182EB5C4F5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Verdana"/>
                <a:ea typeface="Verdana"/>
              </a:rPr>
              <a:t>Atbalstu nevar saņe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046240" y="1752120"/>
            <a:ext cx="664056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tādu projektu, kura izstrādei ir piešķirts finansējums no Eiropas Struktūrfondu darbības programmas "Uzņēmējdarbība un inovācijas" papildinājuma 2.1.1.2. aktivitātes "Atbalsts starptautiskās sadarbības projektiem zinātnē un tehnoloģijās" resurs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073BE3-8A2E-43F3-A5F3-0CF875FE38D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Lai saņemtu atbalst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523520" y="1752120"/>
            <a:ext cx="716292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s pretendents VIAA lietvedībā iesniedz iesniegumu (iesnieguma veidlapa pieejama internetā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strādātā projekta sadaļas, kurā ir norādīti projekta dalībnieki, kopij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Izdrukas n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Research Participant Portal 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vietnes vai citu dokumentāciju, kas satur informāciju p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iesniegšanas laik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balsta pretendenta budžeta apjo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 novērtējum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- komersanta uzskaites  veidlapu par saņemto </a:t>
            </a:r>
            <a:r>
              <a:rPr b="0" i="1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de minimis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atbalstu (ja attiecinām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86DFC5-8E40-499F-BE60-B8F05EFC7B1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4AF0B1-5F37-4875-9041-FE495C3E189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1"/>
          <a:stretch/>
        </p:blipFill>
        <p:spPr>
          <a:xfrm>
            <a:off x="1889280" y="606600"/>
            <a:ext cx="71467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404040"/>
                </a:solidFill>
                <a:latin typeface="Verdana"/>
                <a:ea typeface="Verdana"/>
              </a:rPr>
              <a:t>Kontakti un informā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06560" y="1752120"/>
            <a:ext cx="67802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lsts izglītības attīstības aģentū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Vaļņu iela 1, Rīga, LV-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Kontaktpersona – Lelde Val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E.pasts: lelde.valeine@viaa.gov.lv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Tel. 677854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nformācija par </a:t>
            </a:r>
            <a:r>
              <a:rPr b="0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Baltic Bonu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2015 programmu un  iesnieguma veidlapa ir pieejama internetā www.viaa.gov.lv/lat/zinatnes_inovacijas_prog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FCFE451-66EE-42D4-8473-E309C8E805D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Maija Bundule</cp:lastModifiedBy>
  <dcterms:modified xsi:type="dcterms:W3CDTF">2016-05-12T14:04:19Z</dcterms:modified>
  <cp:revision>16</cp:revision>
  <dc:subject/>
  <dc:title>PowerPoint Presentation</dc:title>
</cp:coreProperties>
</file>