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1F7-520F-4E17-9934-EAFFB7BB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DE1-81FE-4E0E-ACBF-6CF4936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B7694-94A4-4932-A3F7-CC2412FE124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02108D-AC67-413F-B9F3-9EECE17B9C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025A2-4741-44D5-B656-BC23115D35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B97EAC-3A25-47EF-B13A-ECDEB28081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0AF42-640F-4275-95EF-22C18388EE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1F4A4-AB1D-4358-B170-EDF043896C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DEB618-74F8-4A80-8E70-C1A2E76689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2AB79-5C48-4D73-8455-90CD60DA809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E6127-0F45-41D6-A486-9CCF169F051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494-7AB2-4FCC-AF1F-7C895E97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41D-0FC0-4CE8-B06E-B8071E1B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F50-80CD-4D5E-8017-731F6A4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955EA-131D-4BA7-AFC1-12C46B8F70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A4F8-DCA7-43E2-92C9-6B30446FD9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BD46D-ECA0-4D5B-9D4A-C491F68F46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23A14-6546-4FBA-9CE0-6A52A8AE6D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4ACAF-DBD7-4D73-A55F-17C3B4737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614-A251-48C0-BEAD-67164945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A3A14-0470-4266-AE20-18EBCBAECC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F740D-2F3C-4E0D-8668-91EB651460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87C0-E879-4E37-A95E-357CAE462E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8846-722A-4358-B3E6-47FE13F844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5D69-E4F1-4EB8-9E35-2E07A3ECE1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2909E-5DA6-4FC8-807A-2F6D2FA5EF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4AF34-056F-4476-BB95-93E1CCB33A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6AFFD-AB64-43BB-BCEF-F9C1C38273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3DC26-99AC-49DE-8DD7-38491C3EB0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CC335-35F5-4E89-A731-2985C2697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6A6-2FEC-4A3F-9168-B5052919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21A39-C4B8-4BD9-AA77-8866D9F5CD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F066-4D25-4E56-88AB-44C149D215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4ACD2-A306-4631-8369-BC93505C72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D0C2-A3C6-4DDC-9828-20E50BE681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9141-B5A5-4789-AB4E-6570723B94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E8399-79D8-4F43-8F7C-A6B4BC0859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82B9-E2B1-4D68-B371-2247517E41C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1E8BC-7A73-4B63-8810-6964057CFF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A4870-8E41-4CF9-AA5F-7FF6892057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DF4E-AFFA-48D4-A4FE-C0B663360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8AF-0496-46A6-AA53-0B9FAC83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3DA3-7196-4270-A416-C42034D83F0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094D-B6F3-4EFF-A83B-B9B0DF0F7C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B3AD-DE5F-4262-A267-0CE1C166AD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4916-110F-4829-824E-760DC3EDB9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9C7-7F0E-4DAD-BE29-AF1A5B0D25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7336-562F-402C-BBB7-06CF93FE970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2C7A-78C1-48D7-9137-E524B3DADF4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9F1D-3ABA-4AD4-B79C-9B2953EBFD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8E7-9EAB-4F11-9765-A573E19306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A1AB-0D8A-4736-81AE-8611D51A7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E24-4F69-4F14-8DAA-C426A982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93B-D008-4F79-8A9E-C6E81DFC680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D011A7-F9B3-444D-B118-A4CC707C33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8CCB0-ADA6-49B7-838D-83DA2DD65E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AF2798-9D9F-496F-8A2A-DD3A858938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5E617-9FCF-4D1A-AE12-6492B36585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ECC68-3481-457A-B14F-D2BB7C4BAE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BC5E34-4DD3-4630-9DD5-4F87E3AC01C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5DD1F-472B-46DE-9C48-B5D7D8FA4B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6ED24-8629-4921-A629-EB60BED047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35020B-A6CA-4448-B96C-B031BEEE0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516-DAF2-4DEE-AFD6-84883FE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4F6A10-6F07-4595-A630-77B1A4BAE0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84CF3-A7C8-4048-AAC2-20F4DE2B30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25ADB-4C07-4B1D-A73E-90C2AB4EAF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97E4E-C079-4C6B-B093-D9DE2D2D1E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C00ED-5B2F-4181-A7B9-6729D83E95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126B7-047C-4F9A-951B-BC4B1F08FAF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FB2329-4CF8-4F3A-9744-1D09FBEDF2F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D072B-5534-460C-9977-B2A461A79F9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6C45-C755-4C5C-9BAA-51949F8DB9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40938-4D37-49F5-B760-392428DD5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DBDC-F11F-4DB8-87C2-E8B83B8B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0F6CB-A416-4082-99CD-5C096797CB7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70652-2238-40C4-ABD1-B54FAC6D3B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F10F9-09C1-4221-965E-5A251C4904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E335A-D850-4F5F-905A-0AAAE25268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97671-9E51-4AD1-BACF-8942DFE765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14FE-C0AE-4C59-B309-A4584254FA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E67E-08AD-4AA8-A913-26B969956D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EC2D9-CA41-42BB-89DF-DF3830A438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4F7E-AC8F-4710-8A72-4F69015E14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AD37-DCE9-4E22-81AB-553F282D0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885-A111-42BC-AB4F-7D4BD3AB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3152-8023-4E08-90AF-FFC25CF06D1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086C-683F-4088-970F-00AE15488A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A84F-67F8-4EA2-A4B2-C14C4C137EB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8E93-C744-4E1B-8E3A-40630C6F699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5031-3511-4229-8DE3-F124932E44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40C2-AF99-4C99-B558-526212A80E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BA84-EF11-4DEE-BF30-F416BF08EE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121D6-AF61-4F85-A465-610B72B3ED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F17A7-1737-4550-A3F8-0DD81A4574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B3E8F-08D2-4131-B7E9-81FF5B386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246EA0-B1D5-49F0-A797-FF10F6087B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DA6696-11B7-4314-B42E-82E384CB9C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B7E573-F6F5-4719-8F78-90ACF64531B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B6BB49-7FD3-46BD-AE7A-3BBC0167DE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5AB373-A658-4294-82C2-AEAD5C12DA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10C802-629C-4235-A629-7F6B0882F4C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E494EA-7DBF-4092-B432-55A486656CE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DE8648-2BBA-4364-94C6-5BE82FE7E4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F50F05-8A1F-497C-8A12-F075479CFB8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Maija.Bundule@lza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-era.net/joint-call-2016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9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–                       2016.gada projektu konkurss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projek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733040" y="1752120"/>
            <a:ext cx="695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mērķ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ordinēt “M.ERA-Net” projekta konsorcija dalībnieku sadarbību materiālzinātņu un inženierzinātņu jom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rojekta uzdevum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– kopīgu projektu konkursu organizēš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darbības laiks: 1.03.2016.-28.02.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koordinators – Austrijas Zinātnes fonds (Austrij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atviju pārstāv Valsts izglītības attīstības aģentūra, kontaktpersonas:  Dr. Maija Bundule, tel. 67785423, e-pasts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Maija.Bundule@viaa.gov.lv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A8F512-2BC6-463B-932F-5ACB356730B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Bild 1" descr=""/>
          <p:cNvPicPr/>
          <p:nvPr/>
        </p:nvPicPr>
        <p:blipFill>
          <a:blip r:embed="rId2"/>
          <a:stretch/>
        </p:blipFill>
        <p:spPr>
          <a:xfrm>
            <a:off x="730872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46400" y="380880"/>
            <a:ext cx="64404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projekta dalībnie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14000" y="1752120"/>
            <a:ext cx="73724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 Eiropas 41 zinātni finansējoša organizācija pārstāvot 23 Eiropas valst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onkursā piedalā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aivānas Zinātnes un tehnoloģija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ievijas inovācij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envidkorejas pētniecības atbalsta fon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razīlijas Izglītības un zinātnes ministri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D29A53-AD47-4961-B335-801748BAE7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Bild 1" descr=""/>
          <p:cNvPicPr/>
          <p:nvPr/>
        </p:nvPicPr>
        <p:blipFill>
          <a:blip r:embed="rId1"/>
          <a:stretch/>
        </p:blipFill>
        <p:spPr>
          <a:xfrm>
            <a:off x="7454880" y="28728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2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76240" y="1752120"/>
            <a:ext cx="6910560" cy="3899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onkursa tematik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ed computational materials engineering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novative surfaces, coatings and interfac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gh performance synthetic and bi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ased composite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unctional material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rfaces between materials and biological hosts for health application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als for additive manufactu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E76006-918E-4C48-B9F1-DEBF5F5D4C1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ild 1" descr=""/>
          <p:cNvPicPr/>
          <p:nvPr/>
        </p:nvPicPr>
        <p:blipFill>
          <a:blip r:embed="rId1"/>
          <a:stretch/>
        </p:blipFill>
        <p:spPr>
          <a:xfrm>
            <a:off x="7607160" y="3348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95440" y="380880"/>
            <a:ext cx="62913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34680" y="1684080"/>
            <a:ext cx="827388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Konkursam var iesniegt projektus ar īstenošanas ilgumu līdz trīs gad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a konsorcija minimālais sastāvs: trīs dalībnieki no vismaz divām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Informācija par konkursu atrodama projekta mājas lapā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www.m-era.net/joint-call-2016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Latvijas dalībnieki var plānot projekta izdevumus līdz 70 000 EUR/gadā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Partner</a:t>
            </a:r>
            <a:r>
              <a:rPr b="1" lang="lv-LV" sz="1900" spc="-1" strike="noStrike">
                <a:solidFill>
                  <a:srgbClr val="000000"/>
                </a:solidFill>
                <a:latin typeface="Verdana"/>
                <a:ea typeface="Verdana"/>
              </a:rPr>
              <a:t>u meklēšanas instrumenti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PTeAm3 piedāvā partneru meklēšanas instrumentu interneta vietnē  https://www.nmp-partnersearch.eu/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pas Uzņēmumu tīkla (EEN, </a:t>
            </a:r>
            <a:r>
              <a:rPr b="0" i="1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erprise Europe Network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v-LV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ības vietne internetā http://een.ec.europa.eu/tools/services/SearchCenter/Search/ProfileSimpleSearch?shid=32db25cb-726f-43b0-8b5f-7742d0935799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A94676-76E9-4D06-8606-7B9E2077FA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Bild 1" descr=""/>
          <p:cNvPicPr/>
          <p:nvPr/>
        </p:nvPicPr>
        <p:blipFill>
          <a:blip r:embed="rId2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M-era.Net konku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93760" y="1752120"/>
            <a:ext cx="7493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notiks divās kārtā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mājas lapa www.m-era.ne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konkurss atvērts 2016.gada 15.mar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ideju iesniegšanas termiņš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016.gada 14.jūnij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lno projektu iesniegšanas termiņš – 2016.gada 10.novembri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Lēmums par atbalstāmajiem projektiem  2017.gada 24.janvār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D6970E-D148-4CBB-AB39-C17DB6C6757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ild 1" descr=""/>
          <p:cNvPicPr/>
          <p:nvPr/>
        </p:nvPicPr>
        <p:blipFill>
          <a:blip r:embed="rId1"/>
          <a:stretch/>
        </p:blipFill>
        <p:spPr>
          <a:xfrm>
            <a:off x="7607160" y="336600"/>
            <a:ext cx="10796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30:05Z</dcterms:modified>
  <cp:revision>17</cp:revision>
  <dc:subject/>
  <dc:title>PowerPoint Presentation</dc:title>
</cp:coreProperties>
</file>