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CCC-104A-4A6E-8E9E-71F599A4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A613-ED69-418D-AE60-5967D966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A0D150-2C0B-452A-8225-8138762E33F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C3B32C-41F9-4A59-8F7D-53EE1E56ABA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E37A00-79B6-4114-8EE9-1B956885D55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DD741D-2EED-4C04-99E8-E83B14539B7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4B54C7-6B2A-465E-BC2A-39F9F751C55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A198D8-4FBA-4FD5-8540-72297648C0D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F1C239-5045-4F87-9F84-85E57DB5B9E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837F3A-A4C5-49E1-A224-749E18D5B44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6F19C3-BE5E-4913-A2D1-424286DE571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D50D-95E5-430F-9ADB-682FDCA0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EC3-C906-4F6E-9DB9-97DE5D85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EFC9-DD9C-44B6-9626-C58C6F11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394C9-1927-429A-9880-76FC0B2A57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0543A-DD10-4729-B69F-42AF240CEC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04AC2-21C0-43F4-911F-A4B2BD21BF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5A7E8-0014-4318-BD00-54329E4EBE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E9B96-6BA6-4490-8A46-A9CCB9687F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B11-0CD0-4D2E-B332-5C370743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B4C3F-3671-4449-81F1-B56B701581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1223E-6DF4-47EE-B114-6B88763E25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CA91B-2B40-452B-B2B1-01171B2273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EA3A5-EF3E-4A38-BFB2-4C5DA4C595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E8E4E-AE96-4AC3-9090-A7EB01C062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18703-335B-455D-8484-74B70EF9C1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D35E4-F81F-413C-BD0E-60D7D93576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6E8A6-0F17-4E22-ACED-1A2962ACD0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D3ED7-C2BF-4C30-884F-62A1962E92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0DC19-3435-4D6D-89E5-46EFC1202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F1C-85B1-49B1-A94B-4C9D39A3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2FB6A-B495-405A-8C22-283EC9A42E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CEEE4-DE99-48DE-8636-8D06972EA42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24CB6-4151-4F69-B3FB-C9A65D3BAD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C0A1E-05A6-41B6-B6E8-82A31A95BB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98EAB-AB79-4124-8B5E-93B02677EE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D0BB2-1E5C-4909-8A25-C85A016181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A6786-6586-49E7-998A-3F540F3342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77F39-2AD0-4E80-9DF6-494E784E13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BD378-7FE4-40A0-AE6F-1067F84BE1E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0F7C-6570-4597-A223-556251AF0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CB4-771C-40B8-8824-EA218599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2830-E912-45D9-AE40-D3AFE42EB35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992A-07E9-4B4B-ADFE-B8EA47D4CE8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33A3-C8AD-42A8-9722-BC0552197F7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379B-5C67-495D-9022-7A75EE97764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BDB9-EC80-4384-B5DE-ECCAA4DD847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4DE2-7166-437E-8F16-D85CBAD7C5D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4A4A-9BC1-4114-9843-8BFF2581F1A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1A60-3E7F-4826-94D1-0EA9B78BE12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17A9-7E5C-47E7-B8E5-4DF8306ED3A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F418-22A1-4200-AFEB-C403A2947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BE1E-D289-4B20-959A-6AD8A614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3970-1431-442D-813A-53A6A325CD2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ED572E-5474-4136-9A65-2ECE936EF35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2806E1-1E87-4482-8623-20FF7752757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0A0EF4-2FC0-43D7-A061-0354A07F0D0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144EB8-1CE1-4E65-83BC-4653F7BC52A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9C4A25-9D43-4637-9633-99D5787002D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DA6850-942E-43E0-A16C-BBF1284FC5F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53C302-7EE8-426C-94A1-ECBB13B6901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DE144-04E7-4403-AB2B-02417EB71B8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AFE800-82B0-489E-AA04-DB4A59374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55BE-114E-4A14-905E-45BF0701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BEC0B8-5A98-4916-80C9-105EF4DCF54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B49D75-34C3-48C4-99AE-262D468AE91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8D0C8D-2C0A-496E-A2E0-1EF95984C5C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B49FA-A337-41E9-A3ED-CF472CFE56E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0DF58-82D0-4D44-8612-ADAF7B8CB0A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1EF12-3224-4B12-8392-B91C99C7E33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0003F-942F-48A6-9784-1787037D038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32310-0D47-4B5B-B595-5A6CCFD92D3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8BF0D-CE91-4F9F-9C21-AE211A95DAD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64A78-8B21-41F0-A328-AD1F64047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AF3-23AF-49B4-A445-E6DEAFBD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23E03-8233-4546-8019-6F0BF8ED7D8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C0BB5-EDED-4239-8AD8-BF82BCED5EA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CAF74-13C8-4538-BAC3-0593C1B2DF8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6A521-FCE3-4E4F-BD39-1BD056EFEEE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701C8-EB40-4B06-A4AE-BDD418EE093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86FA7-6AAF-47E7-B2A6-43E76425483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6659B-6E55-48DF-A521-8494ECA83CE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74088-45C9-4C4A-A4EA-511FA577603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AB610-D49C-46BE-8AC1-12BCE455081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E34F2-809E-40D0-B369-DFD4680C4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38A-2E1D-4463-B5D4-E7DCDE45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153BD-F92E-4C62-933B-0DF3A46E132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1796C-FE8B-4A92-926B-25D024FC874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3ABD0-2606-4AA3-8DE6-6D8461E76BE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97DE3-918E-435F-A2E9-DFF74FFB527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86CC2-5DA5-4A64-AEFE-A86C5054010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F7C76-ACC4-405E-A5E5-874D60116EA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759E3-A95C-436F-AE45-1F3BDD4587F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AB306B-212E-4025-9C02-AB32F33E56B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C110F4-D4AE-418D-8459-BB19CDFE3B9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E0E256-D76C-4BC5-8B4D-25C06CD52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E5AC8DA-86CC-4AAE-A213-68FA65153A2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60099B-35EE-4904-A128-3A5139DF0D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1A1FD1F-EE04-4512-9149-415FFCFDAC4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9A99ACF-7175-4331-AC89-D9C73F38508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4C35F1-9C59-4848-BEAD-F2AA9B6AA40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A6AF317-8EB0-463D-A6E9-AEE3B7F383B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1E170F5-ECD7-4004-B192-EAF2C5D3A85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4EBB5E5-735D-4F1A-A8C2-EF781FB448A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1D9BC4-65CA-4319-8E6F-9B9DEC21449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programma 2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s mērķ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698480" y="1752120"/>
            <a:ext cx="6988320" cy="3699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programmas mērķis ir sekmēt starptautisko sadarbību zinātnē un inovācij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ot konkurētspējīgu projektu pieteikumu izstrād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paši atbalstot sadarbību starp Baltijas valstu zinātnieki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ļēji kompensējot projektu pieteikumu izstrādes izdev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0136177-EA86-4AB8-BA87-D7E8E2924BC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003040" y="1752120"/>
            <a:ext cx="668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rogramm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ievieš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Valsts izglītības attīstības aģentūras Zinātnes, pētniecības un inovācijas politikas atbalsta departamenta Pētniecības starptautisko programmu nodaļ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Lēmumu</a:t>
            </a:r>
            <a:r>
              <a:rPr b="0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ar finansiāla atbalsta piešķiršan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ieņem</a:t>
            </a:r>
            <a:r>
              <a:rPr b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misija, kuras sastāvu veido Izglītības un zinātnes ministrijas, Valsts izglītības attīstības aģentūras, Latvijas Zinātnes padomes un Latvijas investīciju un attīstības aģentūras pārstāv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AE94228-44D7-4DB5-9980-4A70F0B1189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as var saņemt atbal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3520" y="1752120"/>
            <a:ext cx="689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Zinātnisko institūciju reģistrā reģistrēta zinātniskā institūcija vai mazais un vidējais uzņēmu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projekta izstrādi, kas iesniegts 2014., 2015. vai 2016.gada projektu konkursā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m ekspertu dotā novērtējuma skaitliskā vērtība ir sasniegusi nepieciešamo sliekšņa vērtīb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4264313-7648-4657-AA09-2D8DFD64334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Atbalstu var saņemt p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11200" y="1752480"/>
            <a:ext cx="7275600" cy="3611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Apvārsnis 2020 inovācij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ATOM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OSTARS 2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ONUS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CSEL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IMI 2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Clean Sky 2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io-Based Industrie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RA-NET aktivitātes ietvaros iesniegtu projektu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BB45410-45EE-4186-B754-36A70E4FBA3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Atbalstu nevar saņ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046240" y="1752120"/>
            <a:ext cx="66405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tādu projektu, kura izstrādei ir piešķirts finansējums no Eiropas Struktūrfondu darbības programmas "Uzņēmējdarbība un inovācijas" papildinājuma 2.1.1.2. aktivitātes "Atbalsts starptautiskās sadarbības projektiem zinātnē un tehnoloģijās" resursi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3977C5E-BAF9-444A-98E6-602A6E58FAF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Lai saņemtu atbals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523520" y="175212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s pretendents VIAA lietvedībā iesniedz iesniegumu (iesnieguma veidlapa pieejama internetā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strādātā projekta sadaļas, kurā ir norādīti projekta dalībnieki, kopij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drukas n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Research Participant Portal 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vietnes vai citu dokumentāciju, kas satur informāciju p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iesniegšanas laik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a pretendenta budžeta apjo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novērtēju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komersanta uzskaites  veidlapu par saņemt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de minimis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u (ja attiecinām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2CBD91D-E30C-4FCF-BA36-F6DAC152FA4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721CC68-E656-45BA-9099-D60477FDB03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tretch/>
        </p:blipFill>
        <p:spPr>
          <a:xfrm>
            <a:off x="1889280" y="606600"/>
            <a:ext cx="71467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ontakti un informā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06560" y="1752120"/>
            <a:ext cx="67802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lsts izglītības attīstības aģentū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ļņu iela 1, Rīga, LV-1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Kontaktpersona – Lelde Vale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E.pasts: lelde.valeine@viaa.gov.lv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Tel. 677854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nformācija par </a:t>
            </a:r>
            <a:r>
              <a:rPr b="0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2015 programmu un  iesnieguma veidlapa ir pieejama internetā www.viaa.gov.lv/lat/zinatnes_inovacijas_progr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F2402BC-7BE3-400A-9E5D-B749B8574B9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04:19Z</dcterms:modified>
  <cp:revision>16</cp:revision>
  <dc:subject/>
  <dc:title>PowerPoint Presentation</dc:title>
</cp:coreProperties>
</file>