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64112-9AC4-4B63-865B-F56047638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A95C6-2E26-4996-B48F-D1CF62C7A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48A0AAD8-DDE8-4D09-AC59-09BF1CECCCF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C03A000D-D07C-4011-9AD0-4604468A9A1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A622BA1E-963A-4750-877D-C40F267AD21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A9FF177C-B015-49BD-A9EE-4DF540D8946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BB6A807D-3EED-46DE-B08C-E33DA76CE92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F69A2B65-16AC-40FD-B7CC-ACF078210D7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BBE66415-8CCD-4901-9785-413406CAA5B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B0FCB643-3E2D-471F-A629-AB57137C8B7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64F2BF01-8EAF-4ADA-9094-A1924E01798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7C986-328F-422F-93E1-510A74967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51DFB-1F77-436B-A561-FD9930273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61A37-7EC8-4C79-9FC0-BB244D5FA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9EB318-BE1F-4D39-8A1F-690083CBB3F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8535F8D1-73E7-4FDC-B034-4DC196FD99F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85B509DE-D003-4C01-847C-06C1F220A26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701960B1-4150-42E4-87ED-8BC72E35702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FF27387F-F15B-4EF8-84A1-758A058D15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08F67-3114-4461-966C-8D4350D86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5E215EC0-5582-4697-BFB4-D2E4609D97B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6D44038E-3A20-43C3-91CA-152502B05A6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4DA963C7-61DB-4841-BC61-BA92160C263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8625D222-E70D-4D0F-A297-108ECBDBD8A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88953F1B-F672-4B95-A1CA-D773C0431CD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577F77C0-BDD4-4634-BA54-666C8A70D2D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45197970-A75A-4906-AD65-DCF51E6DFF4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68E4A88-017B-4F72-9E83-CC930000A75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8414A261-7ED3-4F58-A16D-F918E02348A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CDA1DC04-BCD7-4615-A2C8-665AB37EE4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97A2C-6DAA-416E-A360-590D714AF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F989FC5C-A578-4C33-9AC9-F31F428FDD6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9D51BB3E-E0FC-45FF-A78B-D4EC1B36313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D1329D37-A34A-490C-9318-156A8330AF1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8175A3B0-BD02-4861-884F-2E4B1E3C08F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17E1298C-0927-4499-9180-663024E38D6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995D94CA-DD03-48E8-A95F-82C36C383B9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4721942F-0997-4634-8DB4-F2C081AA9D9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425B50C2-05EC-405E-A753-E9F302C0560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048E526E-628D-4200-9A99-20402D21A16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9D59919-EEC6-467D-B822-672822C40B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18A1C-76F2-4A30-8551-EB2839C35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A3754010-3521-4A08-B626-0C361AFBAB2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FB240AEC-B4DB-4C85-AFE1-E24FAA84887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E606D82A-3C89-428F-87B3-859006388F8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8A3E3A21-B6BE-4977-92FE-E198D1BD1BB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0932F519-BC4C-492E-9036-4061ED5CE86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E4ECF10B-1851-44D1-AE89-4C4515D3602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C9E9A9F1-7CB5-43EC-8897-02EE3539B00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AF6DD47F-6F1F-437F-B1F7-ED54C9FC5BE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EE95B52C-930A-40A5-88BA-9E80931EC05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3B43C56E-34E4-4B7A-8D53-E8E8E0DEF3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36777-A2C3-41CB-8434-DAB34AEFA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C4A66B26-4D72-434E-80E5-0B376172BA8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7D84282-1DDC-4E60-8967-04ED6170299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65A320FD-1A03-49E3-B929-2615A7585CF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27671A32-7E91-4CA7-9E5D-5C688B53273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016B85F9-D93E-4C29-825A-A3F1502BB3A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97377DE0-95FA-45EF-978F-5BC9B7DF93D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89F65034-4321-481F-97B6-A0FAB56E7E6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53FAA009-3AE8-4664-B28A-1CECD4A5E3B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8C70F48B-247A-4044-A732-6063CC78089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6359C421-9892-4E67-BCEA-0D2AA79C99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C2565-A57D-4112-A6D7-B6D927BAB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64EA32C4-49B2-4164-B78E-70E8A036038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7B9A5A64-9783-4838-8080-2235EB91DF7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956F1134-BA3B-4EB3-B414-398F024E17C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6D84175-1585-435B-AF4A-8B55314510F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B7E020A1-8EA9-4156-A6D8-E247F5B6CAF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CAF76D78-827F-470A-B8B4-8C497F17431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3CE30D96-B913-4BE3-8360-287E4006452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54C87014-A354-4957-872A-F4C7B8788C0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DADBECE2-F8CF-4191-974D-AD80CAAD387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E3BFB40F-EA5A-414B-9058-B1EA673164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6CD20-FE44-4816-9DF2-E299A8F29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C6D86407-60F0-4B24-B1F0-FCDE74DF5D0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76D2AFB3-18FF-47FD-AB75-5A99B1D12C4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76C49A2E-0CC1-4F51-B052-E76E1A82165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6AC16BFD-581D-420D-9060-954D0A7BE57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6277A0F5-0D07-45EB-AED4-F7DF688C013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94DDAE1-4CFB-44C1-9B37-8F2AA41A5C9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2D712347-1446-42E0-8721-B48C7B5DBC1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4568DC1A-4621-437C-9B65-C65E5EB3B72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3DC20901-70B9-4FA0-AB33-3DAC8180951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BE3731AC-9EEE-4C49-9259-285954CA1E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05B45-6E09-4668-B867-1D3DA06B6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3606F49F-DEF7-4BD6-9813-1796E375234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1E4537F0-E0A7-4CF5-ABB9-D672941E9AC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E96EA2C7-6631-4F8E-84A8-67344F7DC66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B104A064-7031-48C6-BBC8-F0A2CD2DEEF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60ED6BB8-022B-4378-87A0-C7E497A1E23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CACC0558-A5DC-4D89-93F5-C2C52227EBC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CC56BB13-1DD2-4AC7-83AE-E040779DD1E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4E0F5B6-4595-4298-A35C-D6F412BDF43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CA9DE636-8F23-4D30-9C92-8CE3DDAA939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74026A20-306C-4A61-8A08-C47F1CBFB3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A5B42DF-415E-4485-8C90-C886475C82A0}"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572A4B1-B302-477A-8018-149C2948C0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BEDCEF0-B98C-45B6-B2DD-AF2B1E4E82E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4520B7E-31C1-4B94-8180-C8CA576F17C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4CE87DA-367C-435E-A36D-798B9E7DBFE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8273FC2-EAEB-4058-BCE6-FA664301017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19482CC-8953-4361-84D2-513091D6952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061BC80-1E7D-4F8C-AABC-492838DDA29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B3153B0-CE86-4FE3-8C1E-619EA2EAB43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24000" y="3152880"/>
            <a:ext cx="8496000" cy="30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c00000"/>
                </a:solidFill>
                <a:latin typeface="Calibri"/>
              </a:rPr>
              <a:t>Ministru kabineta 2015. gada 26. maija noteikumi Nr. 259</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a:t>
            </a:r>
            <a:r>
              <a:rPr b="1" lang="lv-LV" sz="2000" spc="-1" strike="noStrike">
                <a:solidFill>
                  <a:srgbClr val="000000"/>
                </a:solidFill>
                <a:latin typeface="Calibri"/>
              </a:rPr>
              <a:t>Atbalsta piešķiršanas kārtība dalībai</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starptautiskās sadarbības programmā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pētniecības un tehnoloģiju jomā”</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Programmas Eurostars-2 informatīvais seminārs</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017. gada 16. februārī, Rīgā</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3"/>
          <p:cNvSpPr/>
          <p:nvPr/>
        </p:nvSpPr>
        <p:spPr>
          <a:xfrm>
            <a:off x="8273880" y="6324480"/>
            <a:ext cx="5652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6C19208-BE6B-426E-97D3-8E7BA971B71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7" name="Content Placeholder 2"/>
          <p:cNvSpPr/>
          <p:nvPr/>
        </p:nvSpPr>
        <p:spPr>
          <a:xfrm>
            <a:off x="324000" y="922320"/>
            <a:ext cx="8496000" cy="5783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u="sng">
                <a:solidFill>
                  <a:srgbClr val="000000"/>
                </a:solidFill>
                <a:uFillTx/>
                <a:latin typeface="Calibri"/>
              </a:rPr>
              <a:t>Valsts atbalstu piešķir sekojošām pētniecības un attīstības darbību kategorijām:</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4) </a:t>
            </a:r>
            <a:r>
              <a:rPr b="1" lang="lv-LV" sz="1400" spc="-1" strike="noStrike">
                <a:solidFill>
                  <a:srgbClr val="000000"/>
                </a:solidFill>
                <a:latin typeface="Calibri"/>
              </a:rPr>
              <a:t>fundamentālajiem pētījumiem </a:t>
            </a:r>
            <a:r>
              <a:rPr b="0" lang="lv-LV" sz="1400" spc="-1" strike="noStrike">
                <a:solidFill>
                  <a:srgbClr val="000000"/>
                </a:solidFill>
                <a:latin typeface="Calibri"/>
              </a:rPr>
              <a:t>– eksperimentālam vai teorētiskam darbam, ko galvenokārt veic, lai </a:t>
            </a:r>
            <a:r>
              <a:rPr b="1" lang="lv-LV" sz="1400" spc="-1" strike="noStrike">
                <a:solidFill>
                  <a:srgbClr val="c00000"/>
                </a:solidFill>
                <a:latin typeface="Calibri"/>
              </a:rPr>
              <a:t>iegūtu jaunas zināšanas </a:t>
            </a:r>
            <a:r>
              <a:rPr b="0" lang="lv-LV" sz="1400" spc="-1" strike="noStrike">
                <a:solidFill>
                  <a:srgbClr val="000000"/>
                </a:solidFill>
                <a:latin typeface="Calibri"/>
              </a:rPr>
              <a:t>par lietām un parādībām, neparedzot nekādu tiešu komerciālu lietojumu vai izmantošanu;</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5) </a:t>
            </a:r>
            <a:r>
              <a:rPr b="1" lang="lv-LV" sz="1400" spc="-1" strike="noStrike">
                <a:solidFill>
                  <a:srgbClr val="000000"/>
                </a:solidFill>
                <a:latin typeface="Calibri"/>
              </a:rPr>
              <a:t>rūpnieciskajiem pētījumiem </a:t>
            </a:r>
            <a:r>
              <a:rPr b="0" lang="lv-LV" sz="1400" spc="-1" strike="noStrike">
                <a:solidFill>
                  <a:srgbClr val="000000"/>
                </a:solidFill>
                <a:latin typeface="Calibri"/>
              </a:rPr>
              <a:t>– plānveida pētījumiem vai nozīmīgam izpētes darbam, lai </a:t>
            </a:r>
            <a:r>
              <a:rPr b="1" lang="lv-LV" sz="1400" spc="-1" strike="noStrike">
                <a:solidFill>
                  <a:srgbClr val="c00000"/>
                </a:solidFill>
                <a:latin typeface="Calibri"/>
              </a:rPr>
              <a:t>iegūtu jaunas zināšanas un prasmes </a:t>
            </a:r>
            <a:r>
              <a:rPr b="0" lang="lv-LV" sz="1400" spc="-1" strike="noStrike">
                <a:solidFill>
                  <a:srgbClr val="000000"/>
                </a:solidFill>
                <a:latin typeface="Calibri"/>
              </a:rPr>
              <a:t>jaunu produktu, procesu vai pakalpojumu </a:t>
            </a:r>
            <a:r>
              <a:rPr b="1" lang="lv-LV" sz="1400" spc="-1" strike="noStrike">
                <a:solidFill>
                  <a:srgbClr val="c00000"/>
                </a:solidFill>
                <a:latin typeface="Calibri"/>
              </a:rPr>
              <a:t>izstrādei</a:t>
            </a:r>
            <a:r>
              <a:rPr b="0" lang="lv-LV" sz="1400" spc="-1" strike="noStrike">
                <a:solidFill>
                  <a:srgbClr val="000000"/>
                </a:solidFill>
                <a:latin typeface="Calibri"/>
              </a:rPr>
              <a:t> vai jau esošo produktu, procesu vai pakalpojumu </a:t>
            </a:r>
            <a:r>
              <a:rPr b="1" lang="lv-LV" sz="1400" spc="-1" strike="noStrike">
                <a:solidFill>
                  <a:srgbClr val="c00000"/>
                </a:solidFill>
                <a:latin typeface="Calibri"/>
              </a:rPr>
              <a:t>būtiskai uzlabošanai</a:t>
            </a:r>
            <a:r>
              <a:rPr b="0" lang="lv-LV" sz="1400" spc="-1" strike="noStrike">
                <a:solidFill>
                  <a:srgbClr val="000000"/>
                </a:solidFill>
                <a:latin typeface="Calibri"/>
              </a:rPr>
              <a:t>.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6) </a:t>
            </a:r>
            <a:r>
              <a:rPr b="1" lang="lv-LV" sz="1400" spc="-1" strike="noStrike">
                <a:solidFill>
                  <a:srgbClr val="000000"/>
                </a:solidFill>
                <a:latin typeface="Calibri"/>
              </a:rPr>
              <a:t>eksperimentālajai izstrādnei </a:t>
            </a:r>
            <a:r>
              <a:rPr b="0" lang="lv-LV" sz="1400" spc="-1" strike="noStrike">
                <a:solidFill>
                  <a:srgbClr val="000000"/>
                </a:solidFill>
                <a:latin typeface="Calibri"/>
              </a:rPr>
              <a:t>(tai skaitā prototipu izgatavošanai) – </a:t>
            </a:r>
            <a:r>
              <a:rPr b="1" lang="lv-LV" sz="1400" spc="-1" strike="noStrike">
                <a:solidFill>
                  <a:srgbClr val="c00000"/>
                </a:solidFill>
                <a:latin typeface="Calibri"/>
              </a:rPr>
              <a:t>esošo zinātnisko atziņu</a:t>
            </a:r>
            <a:r>
              <a:rPr b="0" lang="lv-LV" sz="1400" spc="-1" strike="noStrike">
                <a:solidFill>
                  <a:srgbClr val="000000"/>
                </a:solidFill>
                <a:latin typeface="Calibri"/>
              </a:rPr>
              <a:t>, tehnoloģisko, darījumdarbības un citu attiecīgu zināšanu un prasmju iegūšanai, kombinēšanai, modelēšanai un izmantošanai, </a:t>
            </a:r>
            <a:r>
              <a:rPr b="1" lang="lv-LV" sz="1400" spc="-1" strike="noStrike">
                <a:solidFill>
                  <a:srgbClr val="c00000"/>
                </a:solidFill>
                <a:latin typeface="Calibri"/>
              </a:rPr>
              <a:t>lai izstrādātu jaunus vai uzlabotus produktus, procesus vai pakalpojumus</a:t>
            </a:r>
            <a:r>
              <a:rPr b="0" lang="lv-LV" sz="1400" spc="-1" strike="noStrike">
                <a:solidFill>
                  <a:srgbClr val="000000"/>
                </a:solidFill>
                <a:latin typeface="Calibri"/>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Eksperimentālā izstrādne var ietvert </a:t>
            </a:r>
            <a:r>
              <a:rPr b="0" lang="lv-LV" sz="1400" spc="-1" strike="noStrike" u="sng">
                <a:solidFill>
                  <a:srgbClr val="000000"/>
                </a:solidFill>
                <a:uFillTx/>
                <a:latin typeface="Calibri"/>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Calibri"/>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51000" indent="-3510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7) </a:t>
            </a:r>
            <a:r>
              <a:rPr b="1" lang="lv-LV" sz="1400" spc="-1" strike="noStrike">
                <a:solidFill>
                  <a:srgbClr val="000000"/>
                </a:solidFill>
                <a:latin typeface="Calibri"/>
              </a:rPr>
              <a:t>priekšizpētei</a:t>
            </a:r>
            <a:r>
              <a:rPr b="0" lang="lv-LV" sz="1400" spc="-1" strike="noStrike">
                <a:solidFill>
                  <a:srgbClr val="000000"/>
                </a:solidFill>
                <a:latin typeface="Calibri"/>
              </a:rPr>
              <a:t> - </a:t>
            </a:r>
            <a:r>
              <a:rPr b="0" lang="lv-LV" sz="1400" spc="-1" strike="noStrike" u="sng">
                <a:solidFill>
                  <a:srgbClr val="000000"/>
                </a:solidFill>
                <a:uFillTx/>
                <a:latin typeface="Calibri"/>
              </a:rPr>
              <a:t>projekta potenciāla novērtējumam un analīzei </a:t>
            </a:r>
            <a:r>
              <a:rPr b="0" lang="lv-LV" sz="1400" spc="-1" strike="noStrike">
                <a:solidFill>
                  <a:srgbClr val="000000"/>
                </a:solidFill>
                <a:latin typeface="Calibri"/>
              </a:rPr>
              <a:t>ar mērķi atvieglot lēmuma pieņemšanas procesu, objektīvi un racionāli apzinot projekta priekšrocības, trūkumus, iespējas un draudus, kā arī nosakot tā īstenošanai vajadzīgos resursus un vispārīgi – tā izdošanās izredzes;</a:t>
            </a:r>
            <a:endParaRPr b="0" lang="en-US" sz="1400" spc="-1" strike="noStrike">
              <a:solidFill>
                <a:srgbClr val="000000"/>
              </a:solidFill>
              <a:latin typeface="Times New Roman"/>
            </a:endParaRPr>
          </a:p>
        </p:txBody>
      </p:sp>
      <p:sp>
        <p:nvSpPr>
          <p:cNvPr id="438" name="Title 1"/>
          <p:cNvSpPr/>
          <p:nvPr/>
        </p:nvSpPr>
        <p:spPr>
          <a:xfrm>
            <a:off x="71280" y="149400"/>
            <a:ext cx="8964720" cy="77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āmās pētniecības un attīstības darbību kategorijas</a:t>
            </a:r>
            <a:br>
              <a:rPr sz="2400"/>
            </a:br>
            <a:r>
              <a:rPr b="0" lang="lv-LV" sz="1800" spc="-1" strike="noStrike">
                <a:solidFill>
                  <a:srgbClr val="000000"/>
                </a:solidFill>
                <a:latin typeface="Calibri"/>
              </a:rPr>
              <a:t>(</a:t>
            </a:r>
            <a:r>
              <a:rPr b="0" i="1" lang="lv-LV" sz="1800" spc="-1" strike="noStrike">
                <a:solidFill>
                  <a:srgbClr val="000000"/>
                </a:solidFill>
                <a:latin typeface="Calibri"/>
              </a:rPr>
              <a:t>Regulas Nr. 651/2014 2. panta 84), 85), 86) un 87) punk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400960" y="6324480"/>
            <a:ext cx="438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B10B903-A086-4C73-956C-F40D42D9FB3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1" name="PlaceHolder 1"/>
          <p:cNvSpPr>
            <a:spLocks noGrp="1"/>
          </p:cNvSpPr>
          <p:nvPr>
            <p:ph/>
          </p:nvPr>
        </p:nvSpPr>
        <p:spPr>
          <a:xfrm>
            <a:off x="539640" y="1052640"/>
            <a:ext cx="8136000" cy="5184720"/>
          </a:xfrm>
          <a:prstGeom prst="rect">
            <a:avLst/>
          </a:prstGeom>
          <a:solidFill>
            <a:srgbClr val="ffffff"/>
          </a:solidFill>
          <a:ln w="0">
            <a:noFill/>
          </a:ln>
        </p:spPr>
        <p:txBody>
          <a:bodyPr lIns="93960" rIns="93960" tIns="46800" bIns="46800" anchor="t">
            <a:normAutofit fontScale="99000"/>
          </a:bodyPr>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2. panta 90) punk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90) “efektīva sadarbība” </a:t>
            </a:r>
            <a:r>
              <a:rPr b="0" lang="lv-LV" sz="1400" spc="-1" strike="noStrike">
                <a:solidFill>
                  <a:srgbClr val="000000"/>
                </a:solidFill>
                <a:latin typeface="Calibri"/>
              </a:rPr>
              <a:t>ir sadarbība starp vismaz divām neatkarīgām pusēm, lai apmainītos ar zināšanām vai tehnoloģiju vai sasniegtu kopīgu mērķi, pamatojoties uz darba dalīšanu, un iesaistītās puses kopīgi nosaka sadarbības projekta tvērumu, dod ieguldījumu tā īstenošanā un </a:t>
            </a:r>
            <a:r>
              <a:rPr b="0" lang="lv-LV" sz="1400" spc="-1" strike="noStrike" u="sng">
                <a:solidFill>
                  <a:srgbClr val="000000"/>
                </a:solidFill>
                <a:uFillTx/>
                <a:latin typeface="Calibri"/>
              </a:rPr>
              <a:t>dala projekta riskus un rezultātus. </a:t>
            </a:r>
            <a:r>
              <a:rPr b="0" lang="lv-LV" sz="1400" spc="-1" strike="noStrike">
                <a:solidFill>
                  <a:srgbClr val="000000"/>
                </a:solidFill>
                <a:latin typeface="Calibri"/>
              </a:rPr>
              <a:t>Viena vai vairākas puses var segt pilnībā visas projekta izmaksas un tādējādi atbrīvot pārējās puses no projekta finanšu riskiem. </a:t>
            </a:r>
            <a:r>
              <a:rPr b="0" lang="lv-LV" sz="1400" spc="-1" strike="noStrike" u="sng">
                <a:solidFill>
                  <a:srgbClr val="000000"/>
                </a:solidFill>
                <a:uFillTx/>
                <a:latin typeface="Calibri"/>
              </a:rPr>
              <a:t>Līgumpētījumus un pētniecības pakalpojumu sniegšanu neuzskata par sadarbības veidiem;</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I pielikums, 2. pan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Darbinieku skaits un finansiālās robežvērtības, pēc kurām nosaka uzņēmumu kategorija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 </a:t>
            </a:r>
            <a:r>
              <a:rPr b="1" lang="lv-LV" sz="1400" spc="-1" strike="noStrike" u="sng">
                <a:solidFill>
                  <a:srgbClr val="c00000"/>
                </a:solidFill>
                <a:uFillTx/>
                <a:latin typeface="Calibri"/>
              </a:rPr>
              <a:t>Mikrouzņēmumu, mazo un vidējo uzņēmumu (“MVU”) </a:t>
            </a:r>
            <a:r>
              <a:rPr b="0" lang="lv-LV" sz="1400" spc="-1" strike="noStrike">
                <a:solidFill>
                  <a:srgbClr val="000000"/>
                </a:solidFill>
                <a:latin typeface="Calibri"/>
              </a:rPr>
              <a:t>kategorijā ietilpst uzņēmumi, kam ir mazāk nekā 250 darbinieku un kuru gada apgrozījums nepārsniedz EUR 50 miljonus un/vai gada bilances kopsumma nepārsniedz EUR 43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2. MVU kategorijas </a:t>
            </a:r>
            <a:r>
              <a:rPr b="1" lang="lv-LV" sz="1400" spc="-1" strike="noStrike" u="sng">
                <a:solidFill>
                  <a:srgbClr val="c00000"/>
                </a:solidFill>
                <a:uFillTx/>
                <a:latin typeface="Calibri"/>
              </a:rPr>
              <a:t>mazu uzņēmumu </a:t>
            </a:r>
            <a:r>
              <a:rPr b="0" lang="lv-LV" sz="1400" spc="-1" strike="noStrike">
                <a:solidFill>
                  <a:srgbClr val="000000"/>
                </a:solidFill>
                <a:latin typeface="Calibri"/>
              </a:rPr>
              <a:t>definē kā uzņēmumu, kurā ir nodarbināti mazāk nekā 50 darbinieki un kura gada apgrozījums un/vai gada bilances kopsumma nepārsniedz EUR 10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3. MVU kategorijas </a:t>
            </a:r>
            <a:r>
              <a:rPr b="1" lang="lv-LV" sz="1400" spc="-1" strike="noStrike" u="sng">
                <a:solidFill>
                  <a:srgbClr val="c00000"/>
                </a:solidFill>
                <a:uFillTx/>
                <a:latin typeface="Calibri"/>
              </a:rPr>
              <a:t>mikrouzņēmumu </a:t>
            </a:r>
            <a:r>
              <a:rPr b="0" lang="lv-LV" sz="1400" spc="-1" strike="noStrike">
                <a:solidFill>
                  <a:srgbClr val="000000"/>
                </a:solidFill>
                <a:latin typeface="Calibri"/>
              </a:rPr>
              <a:t>definē kā uzņēmumu, kurā ir nodarbināti mazāk nekā 10 darbinieki un kura gada apgrozījums un/vai gada bilances kopsumma nepārsniedz EUR 2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Regulas Nr. 651/2014 2. panta 24. punktā</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24) “lieli uzņēmumi” </a:t>
            </a:r>
            <a:r>
              <a:rPr b="0" lang="lv-LV" sz="1400" spc="-1" strike="noStrike">
                <a:solidFill>
                  <a:srgbClr val="000000"/>
                </a:solidFill>
                <a:latin typeface="Calibri"/>
              </a:rPr>
              <a:t>ir uzņēmumi, kas neatbilst I pielikumā noteiktajiem kritērijiem;</a:t>
            </a:r>
            <a:endParaRPr b="0" lang="en-US" sz="1400" spc="-1" strike="noStrike">
              <a:solidFill>
                <a:srgbClr val="000000"/>
              </a:solidFill>
              <a:latin typeface="Times New Roman"/>
            </a:endParaRPr>
          </a:p>
        </p:txBody>
      </p:sp>
      <p:sp>
        <p:nvSpPr>
          <p:cNvPr id="442" name="Title 1"/>
          <p:cNvSpPr/>
          <p:nvPr/>
        </p:nvSpPr>
        <p:spPr>
          <a:xfrm>
            <a:off x="1924200" y="263520"/>
            <a:ext cx="6829200" cy="70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Efektīva sadarbīb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8CF971F-8844-4DD3-B973-4AE72D78FB5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5" name="PlaceHolder 1"/>
          <p:cNvSpPr>
            <a:spLocks noGrp="1"/>
          </p:cNvSpPr>
          <p:nvPr>
            <p:ph/>
          </p:nvPr>
        </p:nvSpPr>
        <p:spPr>
          <a:xfrm>
            <a:off x="566640" y="1131840"/>
            <a:ext cx="8043840" cy="5192640"/>
          </a:xfrm>
          <a:prstGeom prst="rect">
            <a:avLst/>
          </a:prstGeom>
          <a:solidFill>
            <a:srgbClr val="ffffff"/>
          </a:solidFill>
          <a:ln w="0">
            <a:noFill/>
          </a:ln>
        </p:spPr>
        <p:txBody>
          <a:bodyPr lIns="93960" rIns="93960" tIns="46800" bIns="46800" anchor="t">
            <a:normAutofit/>
          </a:bodyPr>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4. Saskaņā ar noteikumiem Nr. 259 nodrošina:</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 valsts atbalstu atbilstoši regulas Nr. 651/2014 25. un 28. pantam (</a:t>
            </a:r>
            <a:r>
              <a:rPr b="0" i="1" lang="lv-LV" sz="1600" spc="-1" strike="noStrike">
                <a:solidFill>
                  <a:srgbClr val="000000"/>
                </a:solidFill>
                <a:latin typeface="Calibri"/>
              </a:rPr>
              <a:t>25.pants </a:t>
            </a:r>
            <a:r>
              <a:rPr b="0" i="1" lang="en-GB" sz="1600" spc="-1" strike="noStrike">
                <a:solidFill>
                  <a:srgbClr val="000000"/>
                </a:solidFill>
                <a:latin typeface="Calibri"/>
              </a:rPr>
              <a:t>Atbalsts pētniecības un attīstības projektiem</a:t>
            </a:r>
            <a:r>
              <a:rPr b="0" i="1" lang="lv-LV" sz="1600" spc="-1" strike="noStrike">
                <a:solidFill>
                  <a:srgbClr val="000000"/>
                </a:solidFill>
                <a:latin typeface="Calibri"/>
              </a:rPr>
              <a:t>; 28.pants Inovācijas atbalsts MVU)</a:t>
            </a:r>
            <a:r>
              <a:rPr b="0" lang="lv-LV" sz="1600" spc="-1" strike="noStrike">
                <a:solidFill>
                  <a:srgbClr val="000000"/>
                </a:solidFill>
                <a:latin typeface="Calibri"/>
              </a:rPr>
              <a:t> un valsts līdzfinansējumu:</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2. Līguma par Eiropas Savienības darbību 185. panta ietvaros vairāku dalībvalstu izveidoto kopīgās pētniecības vai inovāciju programmu (turpmāk – kopīgās programmas) projektiem un Līguma par Eiropas Savienības darbību 187. panta ietvaros izveidoto publiskās un privātās partnerības kopuzņēmumu (turpmāk – kopuzņēmumi) projektiem; </a:t>
            </a:r>
            <a:r>
              <a:rPr b="0" i="1" lang="lv-LV" sz="1600" spc="-1" strike="noStrike">
                <a:solidFill>
                  <a:srgbClr val="000000"/>
                </a:solidFill>
                <a:latin typeface="Calibri"/>
              </a:rPr>
              <a:t>Attiecas uz arī uz programmu Eurostars-2);</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5. Atbalstu piešķir:</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5.1. </a:t>
            </a:r>
            <a:r>
              <a:rPr b="1" lang="lv-LV" sz="1600" spc="-1" strike="noStrike" u="sng">
                <a:solidFill>
                  <a:srgbClr val="000000"/>
                </a:solidFill>
                <a:uFillTx/>
                <a:latin typeface="Calibri"/>
              </a:rPr>
              <a:t>dotāciju veidā </a:t>
            </a:r>
            <a:r>
              <a:rPr b="0" lang="lv-LV" sz="1600" spc="-1" strike="noStrike">
                <a:solidFill>
                  <a:srgbClr val="000000"/>
                </a:solidFill>
                <a:latin typeface="Calibri"/>
              </a:rPr>
              <a:t>no Izglītības un zinātnes ministrijas valsts budžeta programmas 70.00.00 "Citu Eiropas Savienības politiku instrumentu projektu un pasākumu īstenošana" apakšprogrammas 70.06.00 "Dalība Eiropas Savienības pētniecības un tehnoloģiju attīstības programmās" kārtējam gadam valsts budžetā šim mērķim pieejamo resursu ietvaros;</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a:t>
            </a:r>
            <a:r>
              <a:rPr b="1" lang="lv-LV" sz="1600" spc="-1" strike="noStrike">
                <a:solidFill>
                  <a:srgbClr val="000000"/>
                </a:solidFill>
                <a:latin typeface="Calibri"/>
              </a:rPr>
              <a:t>valsts atbalstu nepiešķir</a:t>
            </a:r>
            <a:r>
              <a:rPr b="0" lang="lv-LV" sz="1600" spc="-1" strike="noStrike">
                <a:solidFill>
                  <a:srgbClr val="000000"/>
                </a:solidFill>
                <a:latin typeface="Calibri"/>
              </a:rPr>
              <a:t>, ja atbilstoši regulas Nr. 651/2014 6. panta 2. punktam </a:t>
            </a:r>
            <a:r>
              <a:rPr b="0" lang="lv-LV" sz="1600" spc="-1" strike="noStrike" u="sng">
                <a:solidFill>
                  <a:srgbClr val="000000"/>
                </a:solidFill>
                <a:uFillTx/>
                <a:latin typeface="Calibri"/>
              </a:rPr>
              <a:t>ir uzsākta projekta īstenošana, pirms aģentūrā ir iesniegts pieteikums.</a:t>
            </a:r>
            <a:endParaRPr b="0" lang="en-US" sz="1600" spc="-1" strike="noStrike">
              <a:solidFill>
                <a:srgbClr val="000000"/>
              </a:solidFill>
              <a:latin typeface="Times New Roman"/>
            </a:endParaRPr>
          </a:p>
        </p:txBody>
      </p:sp>
      <p:sp>
        <p:nvSpPr>
          <p:cNvPr id="446" name="Title 1"/>
          <p:cNvSpPr/>
          <p:nvPr/>
        </p:nvSpPr>
        <p:spPr>
          <a:xfrm>
            <a:off x="2144880" y="298440"/>
            <a:ext cx="588960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piešķir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3D74BF0-9BAF-4E21-BAA6-0A7B17DA103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9" name="PlaceHolder 1"/>
          <p:cNvSpPr>
            <a:spLocks noGrp="1"/>
          </p:cNvSpPr>
          <p:nvPr>
            <p:ph/>
          </p:nvPr>
        </p:nvSpPr>
        <p:spPr>
          <a:xfrm>
            <a:off x="468360" y="1197000"/>
            <a:ext cx="8207280" cy="4896000"/>
          </a:xfrm>
          <a:prstGeom prst="rect">
            <a:avLst/>
          </a:prstGeom>
          <a:solidFill>
            <a:srgbClr val="ffffff"/>
          </a:solidFill>
          <a:ln w="0">
            <a:noFill/>
          </a:ln>
        </p:spPr>
        <p:txBody>
          <a:bodyPr lIns="93960" rIns="93960" tIns="46800" bIns="46800" anchor="t">
            <a:normAutofit/>
          </a:bodyPr>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7. Atbalsta pretendentam ir noteiktas šādas prasības:</a:t>
            </a:r>
            <a:endParaRPr b="0" lang="en-US" sz="16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 tas ir </a:t>
            </a:r>
            <a:r>
              <a:rPr b="0" lang="lv-LV" sz="1400" spc="-1" strike="noStrike" u="sng">
                <a:solidFill>
                  <a:srgbClr val="000000"/>
                </a:solidFill>
                <a:uFillTx/>
                <a:latin typeface="Calibri"/>
              </a:rPr>
              <a:t>tieši atbildīgs </a:t>
            </a:r>
            <a:r>
              <a:rPr b="0" lang="lv-LV" sz="1400" spc="-1" strike="noStrike">
                <a:solidFill>
                  <a:srgbClr val="000000"/>
                </a:solidFill>
                <a:latin typeface="Calibri"/>
              </a:rPr>
              <a:t>par projekta sagatavošanu un izpildi;</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2. tam ir </a:t>
            </a:r>
            <a:r>
              <a:rPr b="0" lang="lv-LV" sz="1400" spc="-1" strike="noStrike" u="sng">
                <a:solidFill>
                  <a:srgbClr val="000000"/>
                </a:solidFill>
                <a:uFillTx/>
                <a:latin typeface="Calibri"/>
              </a:rPr>
              <a:t>pieejami stabili un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3. uz atbalsta pretendentu </a:t>
            </a:r>
            <a:r>
              <a:rPr b="0" lang="lv-LV" sz="1400" spc="-1" strike="noStrike" u="sng">
                <a:solidFill>
                  <a:srgbClr val="000000"/>
                </a:solidFill>
                <a:uFillTx/>
                <a:latin typeface="Calibri"/>
              </a:rPr>
              <a:t>neattiecas</a:t>
            </a:r>
            <a:r>
              <a:rPr b="0" lang="lv-LV" sz="1400" spc="-1" strike="noStrike">
                <a:solidFill>
                  <a:srgbClr val="000000"/>
                </a:solidFill>
                <a:latin typeface="Calibri"/>
              </a:rPr>
              <a:t> līdzekļu atgūšanas rīkojums atbilstoši regulas Nr. 651/2014 1. panta 4. punkta "a" apakšpunktam, ja viņš pretendē uz valsts atbalst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4. tam saskaņā ar Valsts ieņēmumu dienesta administrēto nodokļu (nodevu) parādnieku datubāzē pieejamo informāciju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5. tam </a:t>
            </a:r>
            <a:r>
              <a:rPr b="0" lang="lv-LV" sz="1400" spc="-1" strike="noStrike" u="sng">
                <a:solidFill>
                  <a:srgbClr val="000000"/>
                </a:solidFill>
                <a:uFillTx/>
                <a:latin typeface="Calibri"/>
              </a:rPr>
              <a:t>nav ar tiesas nolēmumu pasludināts </a:t>
            </a:r>
            <a:r>
              <a:rPr b="0" lang="lv-LV" sz="1400" spc="-1" strike="noStrike">
                <a:solidFill>
                  <a:srgbClr val="000000"/>
                </a:solidFill>
                <a:latin typeface="Calibri"/>
              </a:rPr>
              <a:t>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6. tas </a:t>
            </a:r>
            <a:r>
              <a:rPr b="0" lang="lv-LV" sz="1400" spc="-1" strike="noStrike" u="sng">
                <a:solidFill>
                  <a:srgbClr val="000000"/>
                </a:solidFill>
                <a:uFillTx/>
                <a:latin typeface="Calibri"/>
              </a:rPr>
              <a:t>nav sodīts </a:t>
            </a:r>
            <a:r>
              <a:rPr b="0" lang="lv-LV" sz="1400" spc="-1" strike="noStrike">
                <a:solidFill>
                  <a:srgbClr val="000000"/>
                </a:solidFill>
                <a:latin typeface="Calibri"/>
              </a:rPr>
              <a:t>par Latvijas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7. ja tiek saņemts valsts atbalsts, tas </a:t>
            </a: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regulas Nr. 651/2014 2. panta 18. punktam;</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8. tas </a:t>
            </a:r>
            <a:r>
              <a:rPr b="0" lang="lv-LV" sz="1400" spc="-1" strike="noStrike" u="sng">
                <a:solidFill>
                  <a:srgbClr val="000000"/>
                </a:solidFill>
                <a:uFillTx/>
                <a:latin typeface="Calibri"/>
              </a:rPr>
              <a:t>nav saņēmis vai neplāno </a:t>
            </a:r>
            <a:r>
              <a:rPr b="0" lang="lv-LV" sz="1400" spc="-1" strike="noStrike">
                <a:solidFill>
                  <a:srgbClr val="000000"/>
                </a:solidFill>
                <a:latin typeface="Calibri"/>
              </a:rPr>
              <a:t>saņemt par tām pašām projekta attiecināmajām izmaksām 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p:txBody>
      </p:sp>
      <p:sp>
        <p:nvSpPr>
          <p:cNvPr id="450" name="Title 1"/>
          <p:cNvSpPr/>
          <p:nvPr/>
        </p:nvSpPr>
        <p:spPr>
          <a:xfrm>
            <a:off x="1730520" y="254160"/>
            <a:ext cx="64656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52A6ECD-9C8D-4888-B4C4-80375E51AE7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3" name="Title 1"/>
          <p:cNvSpPr/>
          <p:nvPr/>
        </p:nvSpPr>
        <p:spPr>
          <a:xfrm>
            <a:off x="1241280" y="189000"/>
            <a:ext cx="77724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
        <p:nvSpPr>
          <p:cNvPr id="454" name="PlaceHolder 1"/>
          <p:cNvSpPr>
            <a:spLocks noGrp="1"/>
          </p:cNvSpPr>
          <p:nvPr>
            <p:ph/>
          </p:nvPr>
        </p:nvSpPr>
        <p:spPr>
          <a:xfrm>
            <a:off x="324000" y="1125000"/>
            <a:ext cx="8208720" cy="5040360"/>
          </a:xfrm>
          <a:prstGeom prst="rect">
            <a:avLst/>
          </a:prstGeom>
          <a:solidFill>
            <a:srgbClr val="ffffff"/>
          </a:solidFill>
          <a:ln w="0">
            <a:noFill/>
          </a:ln>
        </p:spPr>
        <p:txBody>
          <a:bodyPr lIns="93960" rIns="93960" tIns="46800" bIns="46800" anchor="t">
            <a:normAutofit fontScale="99000"/>
          </a:bodyPr>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9. tam 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0. tas šo noteikumu ietvaros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 atbalstu;</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1. </a:t>
            </a:r>
            <a:r>
              <a:rPr b="0" lang="lv-LV" sz="1400" spc="-1" strike="noStrike" u="sng">
                <a:solidFill>
                  <a:srgbClr val="000000"/>
                </a:solidFill>
                <a:uFillTx/>
                <a:latin typeface="Calibri"/>
              </a:rPr>
              <a:t>vienas un tās pašas izmaksas </a:t>
            </a:r>
            <a:r>
              <a:rPr b="0" lang="lv-LV" sz="1400" spc="-1" strike="noStrike">
                <a:solidFill>
                  <a:srgbClr val="000000"/>
                </a:solidFill>
                <a:latin typeface="Calibri"/>
              </a:rPr>
              <a:t>un darbības projekta ietvaros nav finansētas no nacionālā finansējuma;</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2. ja atbalsta pretendents ir uzņēmums, tas </a:t>
            </a:r>
            <a:r>
              <a:rPr b="0" lang="lv-LV" sz="1400" spc="-1" strike="noStrike" u="sng">
                <a:solidFill>
                  <a:srgbClr val="000000"/>
                </a:solidFill>
                <a:uFillTx/>
                <a:latin typeface="Calibri"/>
              </a:rPr>
              <a:t>ir iesniedzis </a:t>
            </a:r>
            <a:r>
              <a:rPr b="0" lang="lv-LV" sz="1400" spc="-1" strike="noStrike">
                <a:solidFill>
                  <a:srgbClr val="000000"/>
                </a:solidFill>
                <a:latin typeface="Calibri"/>
              </a:rPr>
              <a:t>finanšu pārskatus par diviem pēdējiem noslēgtajiem saimnieciskajiem gadiem;</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3. ja atbalsta pretendents ir pētniecības organizācija, tā atbilstoši zinātnisko darbību reglamentējošajiem normatīvajiem aktiem ir iesniegusi Izglītības un zinātnes ministrijā publiskos </a:t>
            </a:r>
            <a:r>
              <a:rPr b="0" lang="lv-LV" sz="1400" spc="-1" strike="noStrike" u="sng">
                <a:solidFill>
                  <a:srgbClr val="000000"/>
                </a:solidFill>
                <a:uFillTx/>
                <a:latin typeface="Calibri"/>
              </a:rPr>
              <a:t>pārskatus par pēdējiem diviem </a:t>
            </a:r>
            <a:r>
              <a:rPr b="0" lang="lv-LV" sz="1400" spc="-1" strike="noStrike">
                <a:solidFill>
                  <a:srgbClr val="000000"/>
                </a:solidFill>
                <a:latin typeface="Calibri"/>
              </a:rPr>
              <a:t>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4. ja pretendē uz valsts atbalstu, tas sniedz informāciju par </a:t>
            </a:r>
            <a:r>
              <a:rPr b="1" lang="lv-LV" sz="1400" spc="-1" strike="noStrike" u="sng">
                <a:solidFill>
                  <a:srgbClr val="c00000"/>
                </a:solidFill>
                <a:uFillTx/>
                <a:latin typeface="Calibri"/>
              </a:rPr>
              <a:t>atbalsta stimulējošo ietekmi </a:t>
            </a:r>
            <a:r>
              <a:rPr b="0" lang="lv-LV" sz="1400" spc="-1" strike="noStrike">
                <a:solidFill>
                  <a:srgbClr val="000000"/>
                </a:solidFill>
                <a:latin typeface="Calibri"/>
              </a:rPr>
              <a:t>atbilstoši regulas Nr. 651/2014 6. panta 2. punktam, ja attiecinām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5. ja atbalsta pretendents ir pētniecības organizācija, saņemot valsts atbalstu, tā </a:t>
            </a:r>
            <a:r>
              <a:rPr b="0" lang="lv-LV" sz="1400" spc="-1" strike="noStrike" u="sng">
                <a:solidFill>
                  <a:srgbClr val="000000"/>
                </a:solidFill>
                <a:uFillTx/>
                <a:latin typeface="Calibri"/>
              </a:rPr>
              <a:t>nodala saimniecisku darbību no darbības, kurai nav saimnieciska rakstura, </a:t>
            </a:r>
            <a:r>
              <a:rPr b="0" lang="lv-LV" sz="1400" spc="-1" strike="noStrike">
                <a:solidFill>
                  <a:srgbClr val="000000"/>
                </a:solidFill>
                <a:latin typeface="Calibri"/>
              </a:rPr>
              <a:t>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3"/>
          <p:cNvSpPr/>
          <p:nvPr/>
        </p:nvSpPr>
        <p:spPr>
          <a:xfrm>
            <a:off x="8296200" y="6324480"/>
            <a:ext cx="542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62C40AC-EE89-41E5-B09B-47AC15F4BA3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7" name="PlaceHolder 1"/>
          <p:cNvSpPr>
            <a:spLocks noGrp="1"/>
          </p:cNvSpPr>
          <p:nvPr>
            <p:ph/>
          </p:nvPr>
        </p:nvSpPr>
        <p:spPr>
          <a:xfrm>
            <a:off x="755640" y="1452600"/>
            <a:ext cx="7704000" cy="4403520"/>
          </a:xfrm>
          <a:prstGeom prst="rect">
            <a:avLst/>
          </a:prstGeom>
          <a:noFill/>
          <a:ln w="0">
            <a:noFill/>
          </a:ln>
        </p:spPr>
        <p:txBody>
          <a:bodyPr lIns="93960" rIns="93960" tIns="46800" bIns="46800" anchor="t">
            <a:normAutofit fontScale="98000"/>
          </a:bodyPr>
          <a:p>
            <a:pPr marL="3438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Regula Nr. 651/2014, </a:t>
            </a:r>
            <a:r>
              <a:rPr b="1" i="1" lang="lv-LV" sz="1800" spc="-1" strike="noStrike">
                <a:solidFill>
                  <a:srgbClr val="000000"/>
                </a:solidFill>
                <a:latin typeface="Calibri"/>
              </a:rPr>
              <a:t>6. panta 2. punkts: </a:t>
            </a:r>
            <a:r>
              <a:rPr b="1" lang="lv-LV" sz="1600" spc="-1" strike="noStrike">
                <a:solidFill>
                  <a:srgbClr val="c00000"/>
                </a:solidFill>
                <a:latin typeface="Calibri"/>
              </a:rPr>
              <a:t>“Stimulējošā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 Šo Regulu piemēro tikai tādam atbalstam, </a:t>
            </a:r>
            <a:r>
              <a:rPr b="0" lang="lv-LV" sz="1600" spc="-1" strike="noStrike" u="sng">
                <a:solidFill>
                  <a:srgbClr val="000000"/>
                </a:solidFill>
                <a:uFillTx/>
                <a:latin typeface="Calibri"/>
              </a:rPr>
              <a:t>kam ir stimulējoša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 Atbalstu uzskata par tādu, kam piemīt </a:t>
            </a:r>
            <a:r>
              <a:rPr b="1" lang="lv-LV" sz="1600" spc="-1" strike="noStrike">
                <a:solidFill>
                  <a:srgbClr val="000000"/>
                </a:solidFill>
                <a:latin typeface="Calibri"/>
              </a:rPr>
              <a:t>stimulējoša ietekme</a:t>
            </a:r>
            <a:r>
              <a:rPr b="0" lang="lv-LV" sz="1600" spc="-1" strike="noStrike">
                <a:solidFill>
                  <a:srgbClr val="000000"/>
                </a:solidFill>
                <a:latin typeface="Calibri"/>
              </a:rPr>
              <a:t>, ja saņēmējs attiecīgajai dalībvalstij ir  iesniedzis rakstisku atbalsta pieteikumu, </a:t>
            </a:r>
            <a:r>
              <a:rPr b="0" lang="lv-LV" sz="1600" spc="-1" strike="noStrike" u="sng">
                <a:solidFill>
                  <a:srgbClr val="000000"/>
                </a:solidFill>
                <a:uFillTx/>
                <a:latin typeface="Calibri"/>
              </a:rPr>
              <a:t>pirms sākas darbs </a:t>
            </a:r>
            <a:r>
              <a:rPr b="0" lang="lv-LV" sz="1600" spc="-1" strike="noStrike">
                <a:solidFill>
                  <a:srgbClr val="000000"/>
                </a:solidFill>
                <a:latin typeface="Calibri"/>
              </a:rPr>
              <a:t>pie projekta vai pirms sākas darbība.  </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ieteikumā iekļauj vismaz šādu informāciju:</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uzņēmuma nosaukums un liel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apraksts, tostarp tā sākuma un beigu dat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c) projekta īstenošanas vieta;</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d) projekta izmaksu uzskaitīj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 atbalsta veids (dotācija, aizdevums, garantija, atmaksājams avanss, pašu kapitāla iepludināšana vai cits) un </a:t>
            </a:r>
            <a:r>
              <a:rPr b="1" lang="lv-LV" sz="1600" spc="-1" strike="noStrike">
                <a:solidFill>
                  <a:srgbClr val="000000"/>
                </a:solidFill>
                <a:latin typeface="Calibri"/>
              </a:rPr>
              <a:t>projektam nepieciešamā publiskā finansējuma summa.</a:t>
            </a:r>
            <a:endParaRPr b="0" lang="en-US" sz="1600" spc="-1" strike="noStrike">
              <a:solidFill>
                <a:srgbClr val="000000"/>
              </a:solidFill>
              <a:latin typeface="Times New Roman"/>
            </a:endParaRPr>
          </a:p>
        </p:txBody>
      </p:sp>
      <p:sp>
        <p:nvSpPr>
          <p:cNvPr id="458" name="Title 1"/>
          <p:cNvSpPr/>
          <p:nvPr/>
        </p:nvSpPr>
        <p:spPr>
          <a:xfrm>
            <a:off x="674640" y="485640"/>
            <a:ext cx="7772400" cy="966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Stimulējošā ietek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3"/>
          <p:cNvSpPr/>
          <p:nvPr/>
        </p:nvSpPr>
        <p:spPr>
          <a:xfrm>
            <a:off x="8456760" y="6324480"/>
            <a:ext cx="3823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8CB67B9-A96B-483E-A8AD-13AA49C4AC2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1" name="PlaceHolder 1"/>
          <p:cNvSpPr>
            <a:spLocks noGrp="1"/>
          </p:cNvSpPr>
          <p:nvPr>
            <p:ph/>
          </p:nvPr>
        </p:nvSpPr>
        <p:spPr>
          <a:xfrm>
            <a:off x="684360" y="1558800"/>
            <a:ext cx="7772400" cy="1727280"/>
          </a:xfrm>
          <a:prstGeom prst="rect">
            <a:avLst/>
          </a:prstGeom>
          <a:solidFill>
            <a:srgbClr val="ffffff"/>
          </a:solidFill>
          <a:ln w="0">
            <a:noFill/>
          </a:ln>
        </p:spPr>
        <p:txBody>
          <a:bodyPr lIns="93960" rIns="93960" tIns="46800" bIns="46800" anchor="t">
            <a:normAutofit fontScale="93000"/>
          </a:bodyPr>
          <a:p>
            <a:pPr marL="566640" indent="0" algn="ctr">
              <a:lnSpc>
                <a:spcPct val="8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a:t>
            </a:r>
            <a:r>
              <a:rPr b="1" lang="lv-LV" sz="1600" spc="-1" strike="noStrike">
                <a:solidFill>
                  <a:srgbClr val="000000"/>
                </a:solidFill>
                <a:latin typeface="Calibri"/>
              </a:rPr>
              <a:t>maksimālā valsts atbalsta intensitāte</a:t>
            </a:r>
            <a:r>
              <a:rPr b="0" lang="lv-LV" sz="1600" spc="-1" strike="noStrike">
                <a:solidFill>
                  <a:srgbClr val="000000"/>
                </a:solidFill>
                <a:latin typeface="Calibri"/>
              </a:rPr>
              <a:t> no izpētes izmaksām (</a:t>
            </a:r>
            <a:r>
              <a:rPr b="0" i="1" lang="lv-LV" sz="1600" spc="-1" strike="noStrike">
                <a:solidFill>
                  <a:srgbClr val="000000"/>
                </a:solidFill>
                <a:latin typeface="Calibri"/>
              </a:rPr>
              <a:t>Regula Nr.651/2014</a:t>
            </a:r>
            <a:r>
              <a:rPr b="0" lang="lv-LV" sz="1600" spc="-1" strike="noStrike">
                <a:solidFill>
                  <a:srgbClr val="000000"/>
                </a:solidFill>
                <a:latin typeface="Calibri"/>
              </a:rPr>
              <a:t>):</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fundamentālajiem pētījumiem – </a:t>
            </a:r>
            <a:r>
              <a:rPr b="1" lang="lv-LV" sz="1600" spc="-1" strike="noStrike">
                <a:solidFill>
                  <a:srgbClr val="c00000"/>
                </a:solidFill>
                <a:latin typeface="Calibri"/>
              </a:rPr>
              <a:t>10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rūpnieciskajiem pētījumiem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eksperimentālajai izstrādei        –   </a:t>
            </a:r>
            <a:r>
              <a:rPr b="1" lang="lv-LV" sz="1600" spc="-1" strike="noStrike">
                <a:solidFill>
                  <a:srgbClr val="c00000"/>
                </a:solidFill>
                <a:latin typeface="Calibri"/>
              </a:rPr>
              <a:t>25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iekšizpētei</a:t>
            </a:r>
            <a:r>
              <a:rPr b="0" lang="lv-LV" sz="1600" spc="-1" strike="noStrike">
                <a:solidFill>
                  <a:srgbClr val="000000"/>
                </a:solidFill>
                <a:latin typeface="Calibri"/>
              </a:rPr>
              <a:t>	</a:t>
            </a:r>
            <a:r>
              <a:rPr b="0" lang="lv-LV" sz="1600" spc="-1" strike="noStrike">
                <a:solidFill>
                  <a:srgbClr val="000000"/>
                </a:solidFill>
                <a:latin typeface="Calibri"/>
              </a:rPr>
              <a:t>	</a:t>
            </a:r>
            <a:r>
              <a:rPr b="0" lang="lv-LV" sz="1600" spc="-1" strike="noStrike">
                <a:solidFill>
                  <a:srgbClr val="000000"/>
                </a:solidFill>
                <a:latin typeface="Calibri"/>
              </a:rPr>
              <a:t>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0">
              <a:lnSpc>
                <a:spcPct val="100000"/>
              </a:lnSpc>
              <a:spcAft>
                <a:spcPts val="601"/>
              </a:spcAft>
              <a:buNone/>
              <a:tabLst>
                <a:tab algn="l" pos="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Atbalsta intensitāti var palielināt (skat. tabulu)!</a:t>
            </a:r>
            <a:endParaRPr b="0" lang="en-US" sz="1800" spc="-1" strike="noStrike">
              <a:solidFill>
                <a:srgbClr val="000000"/>
              </a:solidFill>
              <a:latin typeface="Times New Roman"/>
            </a:endParaRPr>
          </a:p>
        </p:txBody>
      </p:sp>
      <p:sp>
        <p:nvSpPr>
          <p:cNvPr id="462" name="Text Box 20"/>
          <p:cNvSpPr/>
          <p:nvPr/>
        </p:nvSpPr>
        <p:spPr>
          <a:xfrm>
            <a:off x="2185920" y="45252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intensitāte</a:t>
            </a:r>
            <a:endParaRPr b="0" lang="en-US" sz="2800" spc="-1" strike="noStrike">
              <a:solidFill>
                <a:srgbClr val="000000"/>
              </a:solidFill>
              <a:latin typeface="Times New Roman"/>
            </a:endParaRPr>
          </a:p>
        </p:txBody>
      </p:sp>
      <p:sp>
        <p:nvSpPr>
          <p:cNvPr id="463" name="Rectangle 7"/>
          <p:cNvSpPr/>
          <p:nvPr/>
        </p:nvSpPr>
        <p:spPr>
          <a:xfrm>
            <a:off x="522360" y="3646080"/>
            <a:ext cx="8155080" cy="2575800"/>
          </a:xfrm>
          <a:prstGeom prst="rect">
            <a:avLst/>
          </a:prstGeom>
          <a:noFill/>
          <a:ln w="0">
            <a:noFill/>
          </a:ln>
        </p:spPr>
        <p:style>
          <a:lnRef idx="0"/>
          <a:fillRef idx="0"/>
          <a:effectRef idx="0"/>
          <a:fontRef idx="minor"/>
        </p:style>
        <p:txBody>
          <a:bodyPr lIns="90000" rIns="90000" tIns="46800" bIns="46800" anchor="ctr">
            <a:spAutoFit/>
          </a:bodyPr>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MS PGothic"/>
              </a:rPr>
              <a:t>Nodalīta projekta  finanšu uzskaite</a:t>
            </a:r>
            <a:endParaRPr b="0" lang="en-US" sz="1800" spc="-1" strike="noStrike">
              <a:solidFill>
                <a:srgbClr val="000000"/>
              </a:solidFill>
              <a:latin typeface="Times New Roman"/>
            </a:endParaRPr>
          </a:p>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a:t>
            </a:r>
            <a:r>
              <a:rPr b="0" i="1" lang="lv-LV" sz="1400" spc="-1" strike="noStrike">
                <a:solidFill>
                  <a:srgbClr val="000000"/>
                </a:solidFill>
                <a:latin typeface="Calibri"/>
                <a:ea typeface="MS PGothic"/>
              </a:rPr>
              <a:t>Pieteikums par atbalsta piešķiršanu projekta īstenošanai, Apliecinājums</a:t>
            </a:r>
            <a:r>
              <a:rPr b="0" lang="lv-LV"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468360" indent="-46836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Ja atbalsta pretendents ir:</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 </a:t>
            </a:r>
            <a:r>
              <a:rPr b="0" lang="lv-LV" sz="1400" spc="-1" strike="noStrike" u="sng">
                <a:solidFill>
                  <a:srgbClr val="000000"/>
                </a:solidFill>
                <a:uFillTx/>
                <a:latin typeface="Calibri"/>
                <a:ea typeface="MS PGothic"/>
              </a:rPr>
              <a:t>uzņēmums, </a:t>
            </a:r>
            <a:r>
              <a:rPr b="0" lang="lv-LV" sz="1400" spc="-1" strike="noStrike">
                <a:solidFill>
                  <a:srgbClr val="000000"/>
                </a:solidFill>
                <a:latin typeface="Calibri"/>
                <a:ea typeface="MS PGothic"/>
              </a:rPr>
              <a:t>tas nodala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2) </a:t>
            </a:r>
            <a:r>
              <a:rPr b="0" lang="lv-LV" sz="1400" spc="-1" strike="noStrike" u="sng">
                <a:solidFill>
                  <a:srgbClr val="000000"/>
                </a:solidFill>
                <a:uFillTx/>
                <a:latin typeface="Calibri"/>
                <a:ea typeface="MS PGothic"/>
              </a:rPr>
              <a:t>pētniecības organizācija, </a:t>
            </a:r>
            <a:r>
              <a:rPr b="0" lang="lv-LV" sz="1400" spc="-1" strike="noStrike">
                <a:solidFill>
                  <a:srgbClr val="000000"/>
                </a:solidFill>
                <a:latin typeface="Calibri"/>
                <a:ea typeface="MS PGothic"/>
              </a:rPr>
              <a:t>tā nodala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83680" y="6324480"/>
            <a:ext cx="455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260A16B-5943-43EF-AD5C-AFA1765768F3}" type="slidenum">
              <a:rPr b="0" lang="lv-LV"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65" name=""/>
          <p:cNvGraphicFramePr/>
          <p:nvPr/>
        </p:nvGraphicFramePr>
        <p:xfrm>
          <a:off x="324000" y="1139760"/>
          <a:ext cx="8502480" cy="5467320"/>
        </p:xfrm>
        <a:graphic>
          <a:graphicData uri="http://schemas.openxmlformats.org/drawingml/2006/table">
            <a:tbl>
              <a:tblPr/>
              <a:tblGrid>
                <a:gridCol w="576000"/>
                <a:gridCol w="1727280"/>
                <a:gridCol w="1440000"/>
                <a:gridCol w="1523880"/>
                <a:gridCol w="1219320"/>
                <a:gridCol w="2016000"/>
              </a:tblGrid>
              <a:tr h="304920">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N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alsts atbalsta intensitāte no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Uzņēm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Publiskās zinātniskās institūcijas (še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44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ūpnieciskie pētījum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u="sng">
                          <a:solidFill>
                            <a:srgbClr val="000000"/>
                          </a:solidFill>
                          <a:uFillTx/>
                          <a:latin typeface="Calibri"/>
                          <a:ea typeface="Times New Roman"/>
                        </a:rPr>
                        <a:t>(max 8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 8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 6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8040">
                <a:tc gridSpan="6">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Maksimālā atbalsta intensitāte RP un EI vienam valsts atbalsta pretendentam nepārsniedz</a:t>
                      </a:r>
                      <a:endParaRPr b="0" lang="en-US" sz="1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80 procentus no projekta RP un EI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66" name="Rectangle 46"/>
          <p:cNvSpPr/>
          <p:nvPr/>
        </p:nvSpPr>
        <p:spPr>
          <a:xfrm>
            <a:off x="453960" y="273600"/>
            <a:ext cx="835668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Valsts atbalsta intensitāte Eurostars-2</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u dalībniekiem Latvijā </a:t>
            </a:r>
            <a:r>
              <a:rPr b="0" i="1" lang="lv-LV" sz="2400" spc="-1" strike="noStrike">
                <a:solidFill>
                  <a:srgbClr val="000000"/>
                </a:solidFill>
                <a:latin typeface="Calibri"/>
              </a:rPr>
              <a:t>(Regula Nr.651/201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3"/>
          <p:cNvSpPr/>
          <p:nvPr/>
        </p:nvSpPr>
        <p:spPr>
          <a:xfrm>
            <a:off x="8372520" y="6324480"/>
            <a:ext cx="466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587E6D7-7D30-490F-BF35-11C7ABFD63C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9" name="Rectangle 2"/>
          <p:cNvSpPr/>
          <p:nvPr/>
        </p:nvSpPr>
        <p:spPr>
          <a:xfrm>
            <a:off x="250920" y="515160"/>
            <a:ext cx="8785080" cy="549540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1" lang="lv-LV" sz="1600" spc="-1" strike="noStrike">
                <a:solidFill>
                  <a:srgbClr val="000000"/>
                </a:solidFill>
                <a:latin typeface="Calibri"/>
              </a:rPr>
              <a:t>Fundamentālie pētījumi </a:t>
            </a:r>
            <a:r>
              <a:rPr b="0" lang="lv-LV" sz="1600" spc="-1" strike="noStrike">
                <a:solidFill>
                  <a:srgbClr val="000000"/>
                </a:solidFill>
                <a:latin typeface="Calibri"/>
              </a:rPr>
              <a:t>tiek atbalstīti tad, kad tie ir </a:t>
            </a:r>
            <a:r>
              <a:rPr b="1" lang="lv-LV" sz="1600" spc="-1" strike="noStrike" u="sng">
                <a:solidFill>
                  <a:srgbClr val="000000"/>
                </a:solidFill>
                <a:uFillTx/>
                <a:latin typeface="Calibri"/>
              </a:rPr>
              <a:t>tieši saistīti</a:t>
            </a:r>
            <a:r>
              <a:rPr b="0" lang="lv-LV" sz="1600" spc="-1" strike="noStrike">
                <a:solidFill>
                  <a:srgbClr val="000000"/>
                </a:solidFill>
                <a:latin typeface="Calibri"/>
              </a:rPr>
              <a:t> ar projekta rūpnieciskajiem pētījumiem un eksperimentālajām izstrādēm un </a:t>
            </a:r>
            <a:r>
              <a:rPr b="1" lang="lv-LV" sz="1600" spc="-1" strike="noStrike">
                <a:solidFill>
                  <a:srgbClr val="c00000"/>
                </a:solidFill>
                <a:latin typeface="Calibri"/>
              </a:rPr>
              <a:t>ir nepieciešami </a:t>
            </a:r>
            <a:r>
              <a:rPr b="0" lang="lv-LV" sz="1600" spc="-1" strike="noStrike">
                <a:solidFill>
                  <a:srgbClr val="000000"/>
                </a:solidFill>
                <a:latin typeface="Calibri"/>
              </a:rPr>
              <a:t>to izpildei.</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ūpniecisko pētījumu un eksperimentālās izstrādes </a:t>
            </a:r>
            <a:r>
              <a:rPr b="0" lang="lv-LV" sz="1600" spc="-1" strike="noStrike">
                <a:solidFill>
                  <a:srgbClr val="000000"/>
                </a:solidFill>
                <a:latin typeface="Calibri"/>
              </a:rPr>
              <a:t>atbalsta intensitāti </a:t>
            </a:r>
            <a:r>
              <a:rPr b="0" lang="lv-LV" sz="1600" spc="-1" strike="noStrike" u="sng">
                <a:solidFill>
                  <a:srgbClr val="000000"/>
                </a:solidFill>
                <a:uFillTx/>
                <a:latin typeface="Calibri"/>
              </a:rPr>
              <a:t>var palielināt, </a:t>
            </a:r>
            <a:r>
              <a:rPr b="0" lang="lv-LV" sz="1600" spc="-1" strike="noStrike">
                <a:solidFill>
                  <a:srgbClr val="000000"/>
                </a:solidFill>
                <a:latin typeface="Calibri"/>
              </a:rPr>
              <a:t>ņemot vērā</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osacījumu, ka maksimālā atbalsta intensitāte vienam atbalsta pretendentam nepārsniedz 80 procentus no projekta attiecināmajām izmaksām:</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0 procentiem </a:t>
            </a:r>
            <a:r>
              <a:rPr b="0" lang="lv-LV" sz="1600" spc="-1" strike="noStrike" u="sng">
                <a:solidFill>
                  <a:srgbClr val="000000"/>
                </a:solidFill>
                <a:uFillTx/>
                <a:latin typeface="Calibri"/>
              </a:rPr>
              <a:t>vidējām komercsabiedrībām </a:t>
            </a:r>
            <a:r>
              <a:rPr b="0" lang="lv-LV" sz="1600" spc="-1" strike="noStrike">
                <a:solidFill>
                  <a:srgbClr val="000000"/>
                </a:solidFill>
                <a:latin typeface="Calibri"/>
              </a:rPr>
              <a:t>un par 20 procentpunktiem sīkajām (mikro) un </a:t>
            </a:r>
            <a:r>
              <a:rPr b="0" lang="lv-LV" sz="1600" spc="-1" strike="noStrike" u="sng">
                <a:solidFill>
                  <a:srgbClr val="000000"/>
                </a:solidFill>
                <a:uFillTx/>
                <a:latin typeface="Calibri"/>
              </a:rPr>
              <a:t>mazajām komercsabiedrībā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5 procentiem, ja ir izpildīts kāds no šādiem nosacījumie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projekts paredz </a:t>
            </a:r>
            <a:r>
              <a:rPr b="0" lang="lv-LV" sz="1600" spc="-1" strike="noStrike" u="sng">
                <a:solidFill>
                  <a:srgbClr val="000000"/>
                </a:solidFill>
                <a:uFillTx/>
                <a:latin typeface="Calibri"/>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Calibri"/>
                <a:ea typeface="MS PGothic"/>
              </a:rPr>
              <a:t>vai</a:t>
            </a:r>
            <a:r>
              <a:rPr b="1" lang="lv-LV" sz="1600" spc="-1" strike="noStrike">
                <a:solidFill>
                  <a:srgbClr val="c00000"/>
                </a:solidFill>
                <a:latin typeface="Calibri"/>
                <a:ea typeface="MS PGothic"/>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rezultātus </a:t>
            </a:r>
            <a:r>
              <a:rPr b="0" lang="lv-LV" sz="1600" spc="-1" strike="noStrike" u="sng">
                <a:solidFill>
                  <a:srgbClr val="000000"/>
                </a:solidFill>
                <a:uFillTx/>
                <a:latin typeface="Calibri"/>
              </a:rPr>
              <a:t>plaši izplata </a:t>
            </a:r>
            <a:r>
              <a:rPr b="0" lang="lv-LV" sz="1600" spc="-1" strike="noStrike">
                <a:solidFill>
                  <a:srgbClr val="000000"/>
                </a:solidFill>
                <a:latin typeface="Calibri"/>
              </a:rPr>
              <a:t>konferencēs, publikācijās, brīvi pieejamās krātuvēs vai ar bezmaksas vai atvērtā pirmkoda programmatūras palīdzīb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B4D8A1F-85F3-41EB-AAA8-983CAB99BCE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2" name="Rectangle 5"/>
          <p:cNvSpPr/>
          <p:nvPr/>
        </p:nvSpPr>
        <p:spPr>
          <a:xfrm>
            <a:off x="324000" y="1195560"/>
            <a:ext cx="8424720" cy="499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13.1. pētniecības un attīstības projekta tiešās izmaksa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1. </a:t>
            </a:r>
            <a:r>
              <a:rPr b="1" lang="lv-LV" sz="1400" spc="-1" strike="noStrike">
                <a:solidFill>
                  <a:srgbClr val="000000"/>
                </a:solidFill>
                <a:latin typeface="Calibri"/>
              </a:rPr>
              <a:t>projekta izpildē nodarbinātā personāla izmaksas </a:t>
            </a:r>
            <a:r>
              <a:rPr b="0" lang="lv-LV" sz="1400" spc="-1" strike="noStrike">
                <a:solidFill>
                  <a:srgbClr val="000000"/>
                </a:solidFill>
                <a:latin typeface="Calibri"/>
              </a:rPr>
              <a:t>– atalgojums, kā arī citi normatīvajos aktos noteiktie darba ņēmēja labā obligāti veicamie maksājumi, tai skaitā darba devēja valsts sociālās apdrošināšanas iemaksas. Projekta izpildē nodarbinātajam personālam ir noteiktas šādas atalgojuma likmes, neskaitot darba devēja valsts sociālās apdrošināšanas obligātās iemaksas:</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1. </a:t>
            </a:r>
            <a:r>
              <a:rPr b="0" lang="lv-LV" sz="1400" spc="-1" strike="noStrike" u="sng">
                <a:solidFill>
                  <a:srgbClr val="000000"/>
                </a:solidFill>
                <a:uFillTx/>
                <a:latin typeface="Calibri"/>
                <a:ea typeface="MS PGothic"/>
              </a:rPr>
              <a:t>projekta zinātniskajam vadītājam </a:t>
            </a:r>
            <a:r>
              <a:rPr b="0" lang="lv-LV" sz="1400" spc="-1" strike="noStrike">
                <a:solidFill>
                  <a:srgbClr val="000000"/>
                </a:solidFill>
                <a:latin typeface="Calibri"/>
                <a:ea typeface="MS PGothic"/>
              </a:rPr>
              <a:t>(darbinieks, kurš plāno un vada projektu vai apakšprojektu, nodrošina tā īstenošanu un atbild par tā izpildi kopumā) – līdz 20,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2. </a:t>
            </a:r>
            <a:r>
              <a:rPr b="0" lang="lv-LV" sz="1400" spc="-1" strike="noStrike" u="sng">
                <a:solidFill>
                  <a:srgbClr val="000000"/>
                </a:solidFill>
                <a:uFillTx/>
                <a:latin typeface="Calibri"/>
                <a:ea typeface="MS PGothic"/>
              </a:rPr>
              <a:t>projekta galvenajam izpildītājam </a:t>
            </a:r>
            <a:r>
              <a:rPr b="0" lang="lv-LV" sz="1400" spc="-1" strike="noStrike">
                <a:solidFill>
                  <a:srgbClr val="000000"/>
                </a:solidFill>
                <a:latin typeface="Calibri"/>
                <a:ea typeface="MS PGothic"/>
              </a:rPr>
              <a:t>(darbinieks, kurš ir iesaistīts projekta īstenošanā un atbild par nozīmīgu tā daļu izpildi) – līdz 16,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3. </a:t>
            </a:r>
            <a:r>
              <a:rPr b="0" lang="lv-LV" sz="1400" spc="-1" strike="noStrike" u="sng">
                <a:solidFill>
                  <a:srgbClr val="000000"/>
                </a:solidFill>
                <a:uFillTx/>
                <a:latin typeface="Calibri"/>
                <a:ea typeface="MS PGothic"/>
              </a:rPr>
              <a:t>projekta izpildītājam </a:t>
            </a:r>
            <a:r>
              <a:rPr b="0" lang="lv-LV" sz="1400" spc="-1" strike="noStrike">
                <a:solidFill>
                  <a:srgbClr val="000000"/>
                </a:solidFill>
                <a:latin typeface="Calibri"/>
                <a:ea typeface="MS PGothic"/>
              </a:rPr>
              <a:t>(darbinieks, kas veic konkrētus uzdevumus projekta izpildē) – līdz 14,00 </a:t>
            </a:r>
            <a:r>
              <a:rPr b="0" i="1" lang="lv-LV" sz="1400" spc="-1" strike="noStrike">
                <a:solidFill>
                  <a:srgbClr val="000000"/>
                </a:solidFill>
                <a:latin typeface="Calibri"/>
                <a:ea typeface="MS PGothic"/>
              </a:rPr>
              <a:t>euro </a:t>
            </a:r>
            <a:r>
              <a:rPr b="0" lang="lv-LV" sz="1400" spc="-1" strike="noStrike">
                <a:solidFill>
                  <a:srgbClr val="000000"/>
                </a:solidFill>
                <a:latin typeface="Calibri"/>
                <a:ea typeface="MS PGothic"/>
              </a:rPr>
              <a:t>stundā;</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2. </a:t>
            </a:r>
            <a:r>
              <a:rPr b="1" lang="lv-LV" sz="1400" spc="-1" strike="noStrike">
                <a:solidFill>
                  <a:srgbClr val="000000"/>
                </a:solidFill>
                <a:latin typeface="Calibri"/>
              </a:rPr>
              <a:t>personāla komandējumu un darba braucienu izmaksas </a:t>
            </a:r>
            <a:r>
              <a:rPr b="0" lang="lv-LV" sz="1400" spc="-1" strike="noStrike">
                <a:solidFill>
                  <a:srgbClr val="000000"/>
                </a:solidFill>
                <a:latin typeface="Calibri"/>
              </a:rPr>
              <a:t>saskaņā ar normatīvajiem aktiem par kārtību, kādā atlīdzināmi ar komandējumiem saistītie izdevum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3. </a:t>
            </a:r>
            <a:r>
              <a:rPr b="1" lang="lv-LV" sz="1400" spc="-1" strike="noStrike">
                <a:solidFill>
                  <a:srgbClr val="000000"/>
                </a:solidFill>
                <a:latin typeface="Calibri"/>
              </a:rPr>
              <a:t>zinātniskā aprīkojuma un iekārtu (pamatlīdzekļi) izmaksas, </a:t>
            </a:r>
            <a:r>
              <a:rPr b="0" lang="lv-LV" sz="1400" spc="-1" strike="noStrike">
                <a:solidFill>
                  <a:srgbClr val="000000"/>
                </a:solidFill>
                <a:latin typeface="Calibri"/>
              </a:rPr>
              <a:t>ciktāl un cik ilgi tos izmanto projekta īstenošanai. Ja šo aprīkojumu un iekārtu lietošanas laiks projektā neaptver visu amortizācijas periodu, par attiecināmām uzskata tikai tās amortizācijas izmaksas, kas aptver laikposmu, kad aprīkojums un iekārtas izmantotas projektā, un kas ir aprēķinātas saskaņā ar labu grāmatvedības praks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4. </a:t>
            </a:r>
            <a:r>
              <a:rPr b="1" lang="lv-LV" sz="1400" spc="-1" strike="noStrike">
                <a:solidFill>
                  <a:srgbClr val="000000"/>
                </a:solidFill>
                <a:latin typeface="Calibri"/>
              </a:rPr>
              <a:t>ēku un zemes izmaksas, </a:t>
            </a:r>
            <a:r>
              <a:rPr b="0" lang="lv-LV" sz="1400" spc="-1" strike="noStrike">
                <a:solidFill>
                  <a:srgbClr val="000000"/>
                </a:solidFill>
                <a:latin typeface="Calibri"/>
              </a:rPr>
              <a:t>ciktāl un cik ilgi tās izmanto projekta īstenošanai atbilstoši to izmantošanas intensitātei projektā. Attiecībā uz ēkām par attiecināmām izmaksām uzskatāmas tikai tās amortizācijas izmaksas, kas atbilst projekta ilgumam un ir aprēķinātas saskaņā ar vispārpieņemtiem grāmatvedības principiem. Attiecībā uz zemi par attiecināmām uzskatāmas komerciālās nodošanas izmaksas vai faktiski veikto kapitālieguldījumu izmaksas;</a:t>
            </a:r>
            <a:endParaRPr b="0" lang="en-US" sz="1400" spc="-1" strike="noStrike">
              <a:solidFill>
                <a:srgbClr val="000000"/>
              </a:solidFill>
              <a:latin typeface="Times New Roman"/>
            </a:endParaRPr>
          </a:p>
        </p:txBody>
      </p:sp>
      <p:sp>
        <p:nvSpPr>
          <p:cNvPr id="473" name="Rectangle 4"/>
          <p:cNvSpPr/>
          <p:nvPr/>
        </p:nvSpPr>
        <p:spPr>
          <a:xfrm>
            <a:off x="2157840" y="351000"/>
            <a:ext cx="654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3969DD4-2ED5-4D5A-BDC4-FD1FE7BC75D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4" name="Title 1"/>
          <p:cNvSpPr/>
          <p:nvPr/>
        </p:nvSpPr>
        <p:spPr>
          <a:xfrm>
            <a:off x="438120" y="476280"/>
            <a:ext cx="8280360" cy="102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Atbalsta mērķis – starptautiskās sadarbības pētniecības un inovācijas programmu </a:t>
            </a:r>
            <a:r>
              <a:rPr b="1" lang="lv-LV" sz="2400" spc="-1" strike="noStrike">
                <a:solidFill>
                  <a:srgbClr val="c00000"/>
                </a:solidFill>
                <a:latin typeface="Calibri"/>
              </a:rPr>
              <a:t>(t.sk. Eurostars-2) </a:t>
            </a:r>
            <a:r>
              <a:rPr b="1" lang="lv-LV" sz="2400" spc="-1" strike="noStrike">
                <a:solidFill>
                  <a:srgbClr val="000000"/>
                </a:solidFill>
                <a:latin typeface="Calibri"/>
              </a:rPr>
              <a:t>projektu īstenošana</a:t>
            </a:r>
            <a:endParaRPr b="0" lang="en-US" sz="2400" spc="-1" strike="noStrike">
              <a:solidFill>
                <a:srgbClr val="000000"/>
              </a:solidFill>
              <a:latin typeface="Times New Roman"/>
            </a:endParaRPr>
          </a:p>
        </p:txBody>
      </p:sp>
      <p:sp>
        <p:nvSpPr>
          <p:cNvPr id="405" name="Content Placeholder 2"/>
          <p:cNvSpPr/>
          <p:nvPr/>
        </p:nvSpPr>
        <p:spPr>
          <a:xfrm>
            <a:off x="684360" y="1778040"/>
            <a:ext cx="7772400" cy="4176720"/>
          </a:xfrm>
          <a:prstGeom prst="rect">
            <a:avLst/>
          </a:prstGeom>
          <a:noFill/>
          <a:ln w="0">
            <a:noFill/>
          </a:ln>
        </p:spPr>
        <p:style>
          <a:lnRef idx="0"/>
          <a:fillRef idx="0"/>
          <a:effectRef idx="0"/>
          <a:fontRef idx="minor"/>
        </p:style>
        <p:txBody>
          <a:bodyPr lIns="90000" rIns="90000" tIns="46800" bIns="46800" anchor="t">
            <a:noAutofit/>
          </a:bodyPr>
          <a:p>
            <a:pPr marL="351000" indent="-35100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Atbalsta mērķis </a:t>
            </a:r>
            <a:r>
              <a:rPr b="1" lang="lv-LV" sz="1800" spc="-1" strike="noStrike">
                <a:solidFill>
                  <a:srgbClr val="000000"/>
                </a:solidFill>
                <a:latin typeface="Calibri"/>
              </a:rPr>
              <a:t>ir nodrošināt projektu īstenošanu atbilstoši:</a:t>
            </a:r>
            <a:endParaRPr b="0" lang="en-US" sz="1800" spc="-1" strike="noStrike">
              <a:solidFill>
                <a:srgbClr val="000000"/>
              </a:solidFill>
              <a:latin typeface="Times New Roman"/>
            </a:endParaRPr>
          </a:p>
          <a:p>
            <a:pPr marL="351000" indent="-351000">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a:t>
            </a:r>
            <a:endParaRPr b="0" lang="en-US" sz="18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ea typeface="MS PGothic"/>
              </a:rPr>
              <a:t>Eiropas Parlamenta un Padomes 2014. gada 15. maija Lēmumam </a:t>
            </a:r>
            <a:r>
              <a:rPr b="1" lang="en-GB" sz="1600" spc="-1" strike="noStrike">
                <a:solidFill>
                  <a:srgbClr val="c00000"/>
                </a:solidFill>
                <a:latin typeface="Calibri"/>
                <a:ea typeface="MS PGothic"/>
              </a:rPr>
              <a:t>Nr.553/2014/ES</a:t>
            </a:r>
            <a:r>
              <a:rPr b="1" lang="en-GB" sz="1600" spc="-1" strike="noStrike">
                <a:solidFill>
                  <a:srgbClr val="ff0000"/>
                </a:solidFill>
                <a:latin typeface="Calibri"/>
                <a:ea typeface="MS PGothic"/>
              </a:rPr>
              <a:t> </a:t>
            </a:r>
            <a:r>
              <a:rPr b="0" lang="en-GB" sz="1600" spc="-1" strike="noStrike">
                <a:solidFill>
                  <a:srgbClr val="000000"/>
                </a:solidFill>
                <a:latin typeface="Calibri"/>
                <a:ea typeface="MS PGothic"/>
              </a:rPr>
              <a:t>par Savienības dalību</a:t>
            </a:r>
            <a:r>
              <a:rPr b="0" lang="lv-LV" sz="1600" spc="-1" strike="noStrike">
                <a:solidFill>
                  <a:srgbClr val="000000"/>
                </a:solidFill>
                <a:latin typeface="Calibri"/>
                <a:ea typeface="MS PGothic"/>
              </a:rPr>
              <a:t> vairāku dalībvalstu īstenotā pētniecības un attīstības programmā (</a:t>
            </a:r>
            <a:r>
              <a:rPr b="1" lang="lv-LV" sz="1600" spc="-1" strike="noStrike">
                <a:solidFill>
                  <a:srgbClr val="c00000"/>
                </a:solidFill>
                <a:latin typeface="Calibri"/>
                <a:ea typeface="MS PGothic"/>
              </a:rPr>
              <a:t>Eurostars-2</a:t>
            </a:r>
            <a:r>
              <a:rPr b="0" i="1" lang="lv-LV" sz="1600" spc="-1" strike="noStrike">
                <a:solidFill>
                  <a:srgbClr val="000000"/>
                </a:solidFill>
                <a:latin typeface="Calibri"/>
                <a:ea typeface="MS PGothic"/>
              </a:rPr>
              <a:t>), kuras mērķis ir atbalstīt </a:t>
            </a:r>
            <a:r>
              <a:rPr b="0" lang="lv-LV" sz="1600" spc="-1" strike="noStrike">
                <a:solidFill>
                  <a:srgbClr val="000000"/>
                </a:solidFill>
                <a:latin typeface="Calibri"/>
                <a:ea typeface="MS PGothic"/>
              </a:rPr>
              <a:t>pētniecībā un attīstībā iesaistītus mazos un vidējos uzņēmumus (Eiropas Savienības Oficiālais Vēstnesis, </a:t>
            </a:r>
            <a:r>
              <a:rPr b="0" lang="pt-BR" sz="1600" spc="-1" strike="noStrike">
                <a:solidFill>
                  <a:srgbClr val="000000"/>
                </a:solidFill>
                <a:latin typeface="Calibri"/>
                <a:ea typeface="MS PGothic"/>
              </a:rPr>
              <a:t>2014. gada 7. jūnijs, Nr. L 169);</a:t>
            </a:r>
            <a:endParaRPr b="0" lang="en-US" sz="16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900" spc="-1" strike="noStrike">
              <a:solidFill>
                <a:srgbClr val="000000"/>
              </a:solidFill>
              <a:latin typeface="Times New Roman"/>
            </a:endParaRPr>
          </a:p>
          <a:p>
            <a:pPr marL="351000" indent="-351000" algn="just">
              <a:lnSpc>
                <a:spcPct val="100000"/>
              </a:lnSpc>
              <a:spcBef>
                <a:spcPts val="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urostars-2: </a:t>
            </a:r>
            <a:r>
              <a:rPr b="0" lang="lv-LV" sz="1600" spc="-1" strike="noStrike">
                <a:solidFill>
                  <a:srgbClr val="000000"/>
                </a:solidFill>
                <a:latin typeface="Calibri"/>
              </a:rPr>
              <a:t>Eiropas valstu un Eiropas Savienības kopīgā programma pētniecībā un attīstībā iesaistītiem mazajiem un vidējiem uzņēmumiem (inovatīvajiem MVU)</a:t>
            </a:r>
            <a:endParaRPr b="0" lang="en-US" sz="1600" spc="-1" strike="noStrike">
              <a:solidFill>
                <a:srgbClr val="000000"/>
              </a:solidFill>
              <a:latin typeface="Times New Roman"/>
            </a:endParaRPr>
          </a:p>
          <a:p>
            <a:pPr marL="351000" indent="-351000" algn="just">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rPr>
              <a:t>EK ieguldījums 7. un 8. konkursa projektā</a:t>
            </a:r>
            <a:r>
              <a:rPr b="0" lang="lv-LV" sz="1600" spc="-1" strike="noStrike">
                <a:solidFill>
                  <a:srgbClr val="000000"/>
                </a:solidFill>
                <a:latin typeface="Calibri"/>
              </a:rPr>
              <a:t>: </a:t>
            </a:r>
            <a:endParaRPr b="0" lang="en-US" sz="16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a:t>
            </a: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a:t>
            </a:r>
            <a:endParaRPr b="0" lang="en-US" sz="1600" spc="-1" strike="noStrike">
              <a:solidFill>
                <a:srgbClr val="000000"/>
              </a:solidFill>
              <a:latin typeface="Times New Roman"/>
            </a:endParaRPr>
          </a:p>
          <a:p>
            <a:pPr marL="351000" indent="-35100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0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B19185C-3D3D-46E3-BD76-D05D4AD0D77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4"/>
          <p:cNvSpPr/>
          <p:nvPr/>
        </p:nvSpPr>
        <p:spPr>
          <a:xfrm>
            <a:off x="2135520" y="351000"/>
            <a:ext cx="65494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2.)</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atentu izmaksas</a:t>
            </a:r>
            <a:endParaRPr b="0" lang="en-US" sz="2800" spc="-1" strike="noStrike">
              <a:solidFill>
                <a:srgbClr val="000000"/>
              </a:solidFill>
              <a:latin typeface="Times New Roman"/>
            </a:endParaRPr>
          </a:p>
        </p:txBody>
      </p:sp>
      <p:sp>
        <p:nvSpPr>
          <p:cNvPr id="477" name="Rectangle 4"/>
          <p:cNvSpPr/>
          <p:nvPr/>
        </p:nvSpPr>
        <p:spPr>
          <a:xfrm>
            <a:off x="620640" y="1581120"/>
            <a:ext cx="7967880" cy="4205160"/>
          </a:xfrm>
          <a:prstGeom prst="rect">
            <a:avLst/>
          </a:prstGeom>
          <a:noFill/>
          <a:ln w="0">
            <a:noFill/>
          </a:ln>
        </p:spPr>
        <p:style>
          <a:lnRef idx="0"/>
          <a:fillRef idx="0"/>
          <a:effectRef idx="0"/>
          <a:fontRef idx="minor"/>
        </p:style>
        <p:txBody>
          <a:bodyPr lIns="90000" rIns="90000" tIns="46800" bIns="46800" anchor="t">
            <a:spAutoFit/>
          </a:bodyPr>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5. </a:t>
            </a:r>
            <a:r>
              <a:rPr b="1" lang="lv-LV" sz="1400" spc="-1" strike="noStrike">
                <a:solidFill>
                  <a:srgbClr val="000000"/>
                </a:solidFill>
                <a:latin typeface="Calibri"/>
              </a:rPr>
              <a:t>izmaksas par līgumpētījumiem, zināšanām un patentiem</a:t>
            </a:r>
            <a:r>
              <a:rPr b="0" lang="lv-LV" sz="1400" spc="-1" strike="noStrike">
                <a:solidFill>
                  <a:srgbClr val="000000"/>
                </a:solidFill>
                <a:latin typeface="Calibri"/>
              </a:rPr>
              <a:t>, kas iegādāti vai kuru licences saņemtas no ārējiem avotiem godīgas konkurences apstākļos, kā arī izmaksas par konsultantu pakalpojumiem un līdzvērtīgiem pakalpojumiem, kas izmantoti vienīgi projekta mērķu sasniegšanai. Šīs izmaksas nedrīkst pārsniegt 25 procentus no projekta kopējām attiecināmajām izmaksām;</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6. </a:t>
            </a:r>
            <a:r>
              <a:rPr b="1" lang="lv-LV" sz="1400" spc="-1" strike="noStrike">
                <a:solidFill>
                  <a:srgbClr val="000000"/>
                </a:solidFill>
                <a:latin typeface="Calibri"/>
              </a:rPr>
              <a:t>maksa par inventāru, instrumentiem un materiāliem </a:t>
            </a:r>
            <a:r>
              <a:rPr b="0" lang="lv-LV" sz="1400" spc="-1" strike="noStrike">
                <a:solidFill>
                  <a:srgbClr val="000000"/>
                </a:solidFill>
                <a:latin typeface="Calibri"/>
              </a:rPr>
              <a:t>(piemēram, ķimikālijām, laboratorijas traukiem, medikamentiem), ciktāl un cik ilgi tos izmanto projektā, kā arī to iegādes un piegādes izmaksas, kas ir uzskaitītas saskaņā ar grāmatvedības uzskaiti reglamentējošajiem normatīvajiem aktiem un ir tieši attiecināmas uz projekta īstenošanu;</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7. </a:t>
            </a:r>
            <a:r>
              <a:rPr b="1" lang="lv-LV" sz="1400" spc="-1" strike="noStrike">
                <a:solidFill>
                  <a:srgbClr val="000000"/>
                </a:solidFill>
                <a:latin typeface="Calibri"/>
              </a:rPr>
              <a:t>citas tiešās izmaksas</a:t>
            </a:r>
            <a:r>
              <a:rPr b="0" lang="lv-LV" sz="1400" spc="-1" strike="noStrike">
                <a:solidFill>
                  <a:srgbClr val="000000"/>
                </a:solidFill>
                <a:latin typeface="Calibri"/>
              </a:rPr>
              <a:t>, kas nav norādītas šo noteikumu 13.1.1, 13.1.2., 13.1.3., 13.1.4., 13.1.5. un 13.1.6. apakšpunktā un kas ir nepieciešamas tiešo projekta mērķu sasniegšanai;</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542880" indent="-54288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tentu u.tml. izmaksas</a:t>
            </a:r>
            <a:endParaRPr b="0" lang="en-US" sz="16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3. </a:t>
            </a:r>
            <a:r>
              <a:rPr b="1" lang="lv-LV" sz="1400" spc="-1" strike="noStrike">
                <a:solidFill>
                  <a:srgbClr val="000000"/>
                </a:solidFill>
                <a:latin typeface="Calibri"/>
              </a:rPr>
              <a:t>ja ir piešķirts valsts atbalsts,</a:t>
            </a:r>
            <a:r>
              <a:rPr b="0" lang="lv-LV" sz="1400" spc="-1" strike="noStrike">
                <a:solidFill>
                  <a:srgbClr val="000000"/>
                </a:solidFill>
                <a:latin typeface="Calibri"/>
              </a:rPr>
              <a:t> – izmaksas, ievērojot regulas Nr. 651/2014 28. panta 2. punkta "a“ apakšpunktu;</a:t>
            </a:r>
            <a:endParaRPr b="0" lang="en-US" sz="1400" spc="-1" strike="noStrike">
              <a:solidFill>
                <a:srgbClr val="000000"/>
              </a:solidFill>
              <a:latin typeface="Times New Roman"/>
            </a:endParaRPr>
          </a:p>
          <a:p>
            <a:pPr marL="542880" indent="-54288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
            </a:r>
            <a:r>
              <a:rPr b="0" i="1" lang="lv-LV" sz="1400" spc="-1" strike="noStrike">
                <a:solidFill>
                  <a:srgbClr val="000000"/>
                </a:solidFill>
                <a:latin typeface="Calibri"/>
              </a:rPr>
              <a:t>Regulas Nr.651/2014 </a:t>
            </a:r>
            <a:r>
              <a:rPr b="0" lang="lv-LV" sz="1400" spc="-1" strike="noStrike">
                <a:solidFill>
                  <a:srgbClr val="000000"/>
                </a:solidFill>
                <a:latin typeface="Calibri"/>
              </a:rPr>
              <a:t>28.pants “Inovācijas atbalsts MVU”, 2.punkta “a” apakšpunkts: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izmaksas par patentu un citu nemateriālo aktīvu iegūšanu, apstiprināšanu un aizstāvēšanu;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a intensitāte MVU nepārsniedz 50 % no attiecināmajām izmaksā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B7D506B-4859-42A6-B851-C7591F2BA1C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9"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80" name="Rectangle 3"/>
          <p:cNvSpPr/>
          <p:nvPr/>
        </p:nvSpPr>
        <p:spPr>
          <a:xfrm>
            <a:off x="2148480" y="404640"/>
            <a:ext cx="627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netiešās</a:t>
            </a:r>
            <a:endParaRPr b="0" lang="en-US" sz="2800" spc="-1" strike="noStrike">
              <a:solidFill>
                <a:srgbClr val="000000"/>
              </a:solidFill>
              <a:latin typeface="Times New Roman"/>
            </a:endParaRPr>
          </a:p>
        </p:txBody>
      </p:sp>
      <p:sp>
        <p:nvSpPr>
          <p:cNvPr id="481" name="Rectangle 6"/>
          <p:cNvSpPr/>
          <p:nvPr/>
        </p:nvSpPr>
        <p:spPr>
          <a:xfrm>
            <a:off x="611280" y="1565280"/>
            <a:ext cx="7848360" cy="496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a:t>
            </a:r>
            <a:r>
              <a:rPr b="1" i="1" lang="lv-LV" sz="1600" spc="-1" strike="noStrike">
                <a:solidFill>
                  <a:srgbClr val="c00000"/>
                </a:solidFill>
                <a:latin typeface="Calibri"/>
              </a:rPr>
              <a:t> (26.05.2015. redakcijā)</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a-VA" sz="1600" spc="-1" strike="noStrike">
                <a:solidFill>
                  <a:srgbClr val="000000"/>
                </a:solidFill>
                <a:latin typeface="Calibri"/>
              </a:rPr>
              <a:t>13.3. pētniecības un attīstības projekta </a:t>
            </a:r>
            <a:r>
              <a:rPr b="1" lang="la-VA" sz="1600" spc="-1" strike="noStrike" u="sng">
                <a:solidFill>
                  <a:srgbClr val="000000"/>
                </a:solidFill>
                <a:uFillTx/>
                <a:latin typeface="Calibri"/>
              </a:rPr>
              <a:t>netiešās izmaksas</a:t>
            </a:r>
            <a:r>
              <a:rPr b="1" lang="la-VA" sz="1600" spc="-1" strike="noStrike">
                <a:solidFill>
                  <a:srgbClr val="000000"/>
                </a:solidFill>
                <a:latin typeface="Calibri"/>
              </a:rPr>
              <a:t>, kas ir tiešā saistībā ar projektu, nepārsniedz 25</a:t>
            </a:r>
            <a:r>
              <a:rPr b="1" lang="lv-LV" sz="1600" spc="-1" strike="noStrike">
                <a:solidFill>
                  <a:srgbClr val="000000"/>
                </a:solidFill>
                <a:latin typeface="Calibri"/>
              </a:rPr>
              <a:t> </a:t>
            </a:r>
            <a:r>
              <a:rPr b="1" lang="la-VA" sz="1600" spc="-1" strike="noStrike">
                <a:solidFill>
                  <a:srgbClr val="000000"/>
                </a:solidFill>
                <a:latin typeface="Calibri"/>
              </a:rPr>
              <a:t>procentus no projekta tiešo izmaksu summas, kurā nav ieskaitītas ārpakalpojumu izmaksas:</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1. komunālie maksājumi atbilstoši noteiktajiem tarifiem un normatīvajam regulējumam;</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2. sakaru pakalpoj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3. biroj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4. kopējās lietošanas iekārtu uzturēšanas, apkopes un remontdarbu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5. telpu, tajā skaitā koplietošanas telpu, uzturēšanas izmaksas un remont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6. saimniecības materiāl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7. transport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8. citas netiešās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Projekta Finanšu atskaitēs netiešo izmaksu attaisnojošie dokumenti netiek kontrolēt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68A6CF4-F96B-4499-B4AF-EDBE9948B9B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Rectangle 3"/>
          <p:cNvSpPr/>
          <p:nvPr/>
        </p:nvSpPr>
        <p:spPr>
          <a:xfrm>
            <a:off x="730080" y="476280"/>
            <a:ext cx="767556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ieteikumu vērtēšana un lēmuma pieņemšana</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p:txBody>
      </p:sp>
      <p:sp>
        <p:nvSpPr>
          <p:cNvPr id="484" name="Rectangle 5"/>
          <p:cNvSpPr/>
          <p:nvPr/>
        </p:nvSpPr>
        <p:spPr>
          <a:xfrm>
            <a:off x="682560" y="1200240"/>
            <a:ext cx="7920000" cy="4765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9. Komisija pieņem lēmumus par:</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8. atbalsta piešķiršanu projektam un atbalsta apmēru, pamatojoties uz atbalsta pretendenta </a:t>
            </a:r>
            <a:r>
              <a:rPr b="0" lang="lv-LV" sz="1600" spc="-1" strike="noStrike" u="sng">
                <a:solidFill>
                  <a:srgbClr val="000000"/>
                </a:solidFill>
                <a:uFillTx/>
                <a:latin typeface="Calibri"/>
              </a:rPr>
              <a:t>pieteikumu</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9. atteikumu piešķirt atbalstu projektam;</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0. Komisija darbojas saskaņā ar </a:t>
            </a:r>
            <a:r>
              <a:rPr b="0" lang="lv-LV" sz="1600" spc="-1" strike="noStrike" u="sng">
                <a:solidFill>
                  <a:srgbClr val="000000"/>
                </a:solidFill>
                <a:uFillTx/>
                <a:latin typeface="Calibri"/>
              </a:rPr>
              <a:t>aģentūras izstrādātu nolikumu. </a:t>
            </a:r>
            <a:r>
              <a:rPr b="0" lang="lv-LV" sz="1600" spc="-1" strike="noStrike">
                <a:solidFill>
                  <a:srgbClr val="000000"/>
                </a:solidFill>
                <a:latin typeface="Calibri"/>
              </a:rPr>
              <a:t>Pirms apstiprināšanas aģentūra nolikumu saskaņo ar Izglītības un zinātnes ministriju. Izglītības un zinātnes ministrs izveido komisiju, kuras sastāvā ir deleģēti pārstāvji no</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zglītības un zinātnes ministr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konomikas ministrijas un nozaru ministriju,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kadēm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Latvijas Zinātnes padomes un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lsts izglītības attīstības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Komisijas sēdēs ar padomdevēja un eksperta tiesībām var uzaicināt arī citu ministriju, kā arī zinātnisko institūciju un uzņēmumus pārstāvošo organizāciju deleģētus pārstāvjus. </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Visu dalībnieku parakstīts Sadarbības līgums</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12. Aģentūra: slēdz atbalsta līgumu ar atbalsta pretendentu.</a:t>
            </a:r>
            <a:endParaRPr b="0" lang="en-US" sz="1600" spc="-1" strike="noStrike">
              <a:solidFill>
                <a:srgbClr val="000000"/>
              </a:solidFill>
              <a:latin typeface="Times New Roman"/>
            </a:endParaRPr>
          </a:p>
        </p:txBody>
      </p:sp>
      <p:sp>
        <p:nvSpPr>
          <p:cNvPr id="48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1352160" y="2971440"/>
            <a:ext cx="6986520" cy="3406680"/>
          </a:xfrm>
          <a:prstGeom prst="rect">
            <a:avLst/>
          </a:prstGeom>
          <a:noFill/>
          <a:ln w="0">
            <a:noFill/>
          </a:ln>
        </p:spPr>
        <p:txBody>
          <a:bodyPr lIns="93960" rIns="93960" tIns="46800" bIns="46800" anchor="t">
            <a:normAutofit fontScale="99000"/>
          </a:bodyPr>
          <a:p>
            <a:pPr marL="347400" indent="0">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Zinātnes, pētniecības un inovāciju politikas atbalsta departaments</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 29 46 42 5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viaa.gov.lv</a:t>
            </a:r>
            <a:endParaRPr b="0" lang="en-US" sz="1800" spc="-1" strike="noStrike">
              <a:solidFill>
                <a:srgbClr val="000000"/>
              </a:solidFill>
              <a:latin typeface="Times New Roman"/>
            </a:endParaRPr>
          </a:p>
          <a:p>
            <a:pPr marL="3474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474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6F9364A-1C65-427B-93E3-03F82AE94E5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09" name="PlaceHolder 1"/>
          <p:cNvSpPr>
            <a:spLocks noGrp="1"/>
          </p:cNvSpPr>
          <p:nvPr>
            <p:ph/>
          </p:nvPr>
        </p:nvSpPr>
        <p:spPr>
          <a:xfrm>
            <a:off x="539280" y="1204920"/>
            <a:ext cx="7993080" cy="5191200"/>
          </a:xfrm>
          <a:prstGeom prst="rect">
            <a:avLst/>
          </a:prstGeom>
          <a:solidFill>
            <a:srgbClr val="ffffff"/>
          </a:solidFill>
          <a:ln w="0">
            <a:noFill/>
          </a:ln>
        </p:spPr>
        <p:txBody>
          <a:bodyPr lIns="93960" rIns="93960" tIns="46800" bIns="46800" anchor="t">
            <a:normAutofit/>
          </a:bodyPr>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 </a:t>
            </a:r>
            <a:r>
              <a:rPr b="1" i="1" lang="lv-LV" sz="1600" spc="-1" strike="noStrike">
                <a:solidFill>
                  <a:srgbClr val="c00000"/>
                </a:solidFill>
                <a:latin typeface="Calibri"/>
              </a:rPr>
              <a:t>(21.10.2016. redakcijā) -</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 </a:t>
            </a:r>
            <a:r>
              <a:rPr b="1" i="1" lang="lv-LV" sz="1600" spc="-1" strike="noStrike">
                <a:solidFill>
                  <a:srgbClr val="000000"/>
                </a:solidFill>
                <a:latin typeface="Calibri"/>
              </a:rPr>
              <a:t>turpmāk “noteikumi Nr. 259”</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 pētniecības organizācija </a:t>
            </a:r>
            <a:r>
              <a:rPr b="0" lang="lv-LV" sz="1600" spc="-1" strike="noStrike">
                <a:solidFill>
                  <a:srgbClr val="000000"/>
                </a:solidFill>
                <a:latin typeface="Calibri"/>
              </a:rPr>
              <a:t>– Latvijas Republikas Zinātnisko institūciju reģistrā reģistrēta zinātniskā institūcija, kura atbilst Eiropas Komisijas 2014. gada 14. jūnija Regulas (ES) Nr. 651/2014 (Eiropas Savienības Oficiālais Vēstnesis, 2014. gada 26. jūnijs, Nr. L 187/1), ar ko noteiktas atbalsta kategorijas atzīst par saderīgām ar iekšējo tirgu, piemērojot Līguma 107. un 108. pantu (</a:t>
            </a:r>
            <a:r>
              <a:rPr b="0" i="1" lang="lv-LV" sz="1600" spc="-1" strike="noStrike">
                <a:solidFill>
                  <a:srgbClr val="000000"/>
                </a:solidFill>
                <a:latin typeface="Calibri"/>
              </a:rPr>
              <a:t>turpmāk – Regula Nr. 651/2014</a:t>
            </a:r>
            <a:r>
              <a:rPr b="0" lang="lv-LV" sz="1600" spc="-1" strike="noStrike">
                <a:solidFill>
                  <a:srgbClr val="000000"/>
                </a:solidFill>
                <a:latin typeface="Calibri"/>
              </a:rPr>
              <a:t>), </a:t>
            </a:r>
            <a:r>
              <a:rPr b="0" lang="lv-LV" sz="1600" spc="-1" strike="noStrike" u="sng">
                <a:solidFill>
                  <a:srgbClr val="000000"/>
                </a:solidFill>
                <a:uFillTx/>
                <a:latin typeface="Calibri"/>
              </a:rPr>
              <a:t>2. panta 83. punktā noteiktajai definīcijai</a:t>
            </a: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2. uzņēmums</a:t>
            </a:r>
            <a:r>
              <a:rPr b="0" lang="lv-LV" sz="1600" spc="-1" strike="noStrike">
                <a:solidFill>
                  <a:srgbClr val="000000"/>
                </a:solidFill>
                <a:latin typeface="Calibri"/>
              </a:rPr>
              <a:t> – saimnieciskās darbības subjekts, kas atbilst regulas Nr. 651/2014 I pielikuma 1. pantā noteiktajai definīcijai, ir reģistrēts Uzņēmumu reģistra Komercreģistrā un savu pamatdarbību veic Latvijas Republikas teritorijā. </a:t>
            </a:r>
            <a:r>
              <a:rPr b="1" lang="lv-LV" sz="1600" spc="-1" strike="noStrike">
                <a:solidFill>
                  <a:srgbClr val="c00000"/>
                </a:solidFill>
                <a:latin typeface="Calibri"/>
              </a:rPr>
              <a:t>Saņemot valsts atbalstu, pētniecības organizāciju neatkarīgi no tās juridiskā statusa pielīdzina uzņēmumam</a:t>
            </a:r>
            <a:r>
              <a:rPr b="0" lang="lv-LV" sz="1600" spc="-1" strike="noStrike">
                <a:solidFill>
                  <a:srgbClr val="c00000"/>
                </a:solidFill>
                <a:latin typeface="Calibri"/>
              </a:rPr>
              <a:t>, ja tās publiskais finansējums atbilst visiem Līguma par Eiropas Savienības darbību (Eiropas Savienības Oficiālais Vēstnesis, 2010. gada 30. marts, Nr. C 83/47) </a:t>
            </a:r>
            <a:r>
              <a:rPr b="0" lang="lv-LV" sz="1600" spc="-1" strike="noStrike" u="sng">
                <a:solidFill>
                  <a:srgbClr val="c00000"/>
                </a:solidFill>
                <a:uFillTx/>
                <a:latin typeface="Calibri"/>
              </a:rPr>
              <a:t>107. panta 1. punktā minētajiem nosacījumiem;</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 (Latviski, angliski):</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u="sng">
                <a:solidFill>
                  <a:srgbClr val="c00000"/>
                </a:solidFill>
                <a:uFillTx/>
                <a:latin typeface="Calibri"/>
              </a:rPr>
              <a:t>http://eur-lex.europa.eu/legal-content/LV/TXT/?uri=CELEX%3A32014R0651</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0" name="Title 1"/>
          <p:cNvSpPr/>
          <p:nvPr/>
        </p:nvSpPr>
        <p:spPr>
          <a:xfrm>
            <a:off x="1768320" y="384120"/>
            <a:ext cx="673416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2B0C1D2-AA36-46FA-877C-4C21DE8A390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3" name="Content Placeholder 2"/>
          <p:cNvSpPr/>
          <p:nvPr/>
        </p:nvSpPr>
        <p:spPr>
          <a:xfrm>
            <a:off x="395280" y="1197000"/>
            <a:ext cx="8497800" cy="51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3. saimnieciska darbība </a:t>
            </a:r>
            <a:r>
              <a:rPr b="0" lang="lv-LV" sz="1600" spc="-1" strike="noStrike">
                <a:solidFill>
                  <a:srgbClr val="000000"/>
                </a:solidFill>
                <a:latin typeface="Calibri"/>
              </a:rPr>
              <a:t>– jebkura darbība, kas i</a:t>
            </a:r>
            <a:r>
              <a:rPr b="1" lang="lv-LV" sz="1600" spc="-1" strike="noStrike">
                <a:solidFill>
                  <a:srgbClr val="000000"/>
                </a:solidFill>
                <a:latin typeface="Calibri"/>
              </a:rPr>
              <a:t>etver preču vai pakalpojumu piedāvāšanu tirgū (tajā skaitā pētniecības infrastruktūras iznomāšanu</a:t>
            </a:r>
            <a:r>
              <a:rPr b="0" lang="lv-LV" sz="1600" spc="-1" strike="noStrike">
                <a:solidFill>
                  <a:srgbClr val="000000"/>
                </a:solidFill>
                <a:latin typeface="Calibri"/>
              </a:rPr>
              <a:t>), kā arī </a:t>
            </a:r>
            <a:r>
              <a:rPr b="0" lang="lv-LV" sz="1600" spc="-1" strike="noStrike" u="sng">
                <a:solidFill>
                  <a:srgbClr val="000000"/>
                </a:solidFill>
                <a:uFillTx/>
                <a:latin typeface="Calibri"/>
              </a:rPr>
              <a:t>komersantu uzdevumā īstenotie pētījumu pakalpojumi vai līgumpētījumi;</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4. ar saimniecisku darbību nesaistīts projekts </a:t>
            </a:r>
            <a:r>
              <a:rPr b="0" lang="lv-LV" sz="1600" spc="-1" strike="noStrike">
                <a:solidFill>
                  <a:srgbClr val="000000"/>
                </a:solidFill>
                <a:latin typeface="Calibri"/>
              </a:rPr>
              <a:t>– projekts, kura ietvaros pētniecības organizācija īsteno darbības, kurām nav saimnieciska rakstura, vai ierobežotas jomas darbība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5. ar saimniecisku darbību saistīts projekts </a:t>
            </a:r>
            <a:r>
              <a:rPr b="0" lang="lv-LV" sz="1600" spc="-1" strike="noStrike">
                <a:solidFill>
                  <a:srgbClr val="000000"/>
                </a:solidFill>
                <a:latin typeface="Calibri"/>
              </a:rPr>
              <a:t>– projekts, kas atbilst vienam vai vairākiem šādiem kritērijiem:</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1.projektu īsteno zinātniskā institūcija, kas neatbilst pētniecības organizācijas definīcija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2.projekta ietvaros īsteno darbības, kurām ir saimniecisks rakstur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6. darbība, kurai nav saimnieciska rakstura </a:t>
            </a:r>
            <a:r>
              <a:rPr b="0" lang="lv-LV" sz="1600" spc="-1" strike="noStrike">
                <a:solidFill>
                  <a:srgbClr val="000000"/>
                </a:solidFill>
                <a:latin typeface="Calibri"/>
              </a:rPr>
              <a:t>– pētniecības organizācijas pamatdarbība, kura neietilpst Līguma par Eiropas Savienības darbību 107. panta 1. punktā noteiktajā darbības jomā un kuras izpausmes veidi ir šād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1. izglītības pasākumi, lai panāktu personāla skaita un kvalifikācijas pieaugumu;</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2. neatkarīga pētniecība un izstrāde, lai iegūtu vairāk zināšanu un labāku izpratni, tostarp kopīga pētniecība un izstrāde, pētniecības organizācijai iesaistoties efektīvā sadarbībā;</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3. pētniecības rezultātu izplatīšana, piemēram, izmantojot mācību procesu, brīvas piekļuves datubāzes, atklātās publikācijas vai atklātā pirmkoda programmatūru;</a:t>
            </a:r>
            <a:endParaRPr b="0" lang="en-US" sz="1600" spc="-1" strike="noStrike">
              <a:solidFill>
                <a:srgbClr val="000000"/>
              </a:solidFill>
              <a:latin typeface="Times New Roman"/>
            </a:endParaRPr>
          </a:p>
          <a:p>
            <a:pPr marL="351000" indent="-35100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3.6.4. zināšanu pārneses darbības, ja visa peļņa no šādas darbības tiek reinvestēta pētniecības </a:t>
            </a:r>
            <a:r>
              <a:rPr b="0" lang="en-GB" sz="1600" spc="-1" strike="noStrike">
                <a:solidFill>
                  <a:srgbClr val="000000"/>
                </a:solidFill>
                <a:latin typeface="Calibri"/>
              </a:rPr>
              <a:t>organizācijas pamatdarbībās;</a:t>
            </a:r>
            <a:endParaRPr b="0" lang="en-US" sz="1600" spc="-1" strike="noStrike">
              <a:solidFill>
                <a:srgbClr val="000000"/>
              </a:solidFill>
              <a:latin typeface="Times New Roman"/>
            </a:endParaRPr>
          </a:p>
        </p:txBody>
      </p:sp>
      <p:sp>
        <p:nvSpPr>
          <p:cNvPr id="414" name="Title 1"/>
          <p:cNvSpPr/>
          <p:nvPr/>
        </p:nvSpPr>
        <p:spPr>
          <a:xfrm>
            <a:off x="2021040" y="282600"/>
            <a:ext cx="6575400" cy="63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darbīb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73578D2-A230-4133-ACDC-C5713B94B34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7" name="Content Placeholder 2"/>
          <p:cNvSpPr/>
          <p:nvPr/>
        </p:nvSpPr>
        <p:spPr>
          <a:xfrm>
            <a:off x="684360" y="1752480"/>
            <a:ext cx="7772400" cy="420228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8. atbalsts</a:t>
            </a:r>
            <a:r>
              <a:rPr b="0" lang="lv-LV" sz="1600" spc="-1" strike="noStrike">
                <a:solidFill>
                  <a:srgbClr val="000000"/>
                </a:solidFill>
                <a:latin typeface="Calibri"/>
              </a:rPr>
              <a:t> – valsts budžeta finansējums projektam </a:t>
            </a:r>
            <a:r>
              <a:rPr b="0" lang="lv-LV" sz="1600" spc="-1" strike="noStrike" u="sng">
                <a:solidFill>
                  <a:srgbClr val="000000"/>
                </a:solidFill>
                <a:uFillTx/>
                <a:latin typeface="Calibri"/>
              </a:rPr>
              <a:t>valsts līdzfinansējuma </a:t>
            </a:r>
            <a:r>
              <a:rPr b="0" lang="lv-LV" sz="1600" spc="-1" strike="noStrike">
                <a:solidFill>
                  <a:srgbClr val="000000"/>
                </a:solidFill>
                <a:latin typeface="Calibri"/>
              </a:rPr>
              <a:t>un </a:t>
            </a:r>
            <a:r>
              <a:rPr b="0" lang="lv-LV" sz="1600" spc="-1" strike="noStrike" u="sng">
                <a:solidFill>
                  <a:srgbClr val="000000"/>
                </a:solidFill>
                <a:uFillTx/>
                <a:latin typeface="Calibri"/>
              </a:rPr>
              <a:t>valsts atbalsta </a:t>
            </a:r>
            <a:r>
              <a:rPr b="0" lang="lv-LV" sz="1600" spc="-1" strike="noStrike">
                <a:solidFill>
                  <a:srgbClr val="000000"/>
                </a:solidFill>
                <a:latin typeface="Calibri"/>
              </a:rPr>
              <a:t>veidā;</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9. valsts līdzfinansējums </a:t>
            </a:r>
            <a:r>
              <a:rPr b="0" lang="lv-LV" sz="1600" spc="-1" strike="noStrike">
                <a:solidFill>
                  <a:srgbClr val="000000"/>
                </a:solidFill>
                <a:latin typeface="Calibri"/>
              </a:rPr>
              <a:t>– atbalsts ar saimniecisku darbību nesaistītam projekt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1. valsts atbalsts </a:t>
            </a:r>
            <a:r>
              <a:rPr b="0" lang="lv-LV" sz="1600" spc="-1" strike="noStrike">
                <a:solidFill>
                  <a:srgbClr val="000000"/>
                </a:solidFill>
                <a:latin typeface="Calibri"/>
              </a:rPr>
              <a:t>– atbalsts ar saimniecisko darbību saistītam projektam, kas atbilst Līguma par Eiropas Savienības darbību 107. panta 1. punktā noteiktaj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0. ierobežotas jomas darbība </a:t>
            </a:r>
            <a:r>
              <a:rPr b="0" lang="lv-LV" sz="1600" spc="-1" strike="noStrike">
                <a:solidFill>
                  <a:srgbClr val="000000"/>
                </a:solidFill>
                <a:latin typeface="Calibri"/>
              </a:rPr>
              <a:t>– pētniecības organizāciju saimnieciskā pamatdarbība, kura atbilst šādiem kritērijie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1. tā ir tieši saistīta ar pētniecības organizācijas darbību vai pētniecības infrastruktūru un tās izmantošanu jomā, kurai nav saimnieciska rakstura;</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2. tai tiek patērēti tādi paši resursi (piemēram, materiāli, aprīkojums, darbaspēks un pamatkapitāls) kā ar saimniecisku darbību nesaistītām pamatdarbībā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3. tai katru gadu piešķirtais finansējums </a:t>
            </a:r>
            <a:r>
              <a:rPr b="0" lang="lv-LV" sz="1600" spc="-1" strike="noStrike" u="sng">
                <a:solidFill>
                  <a:srgbClr val="000000"/>
                </a:solidFill>
                <a:uFillTx/>
                <a:latin typeface="Calibri"/>
                <a:ea typeface="MS PGothic"/>
              </a:rPr>
              <a:t>nepārsniedz 20 procentus </a:t>
            </a:r>
            <a:r>
              <a:rPr b="0" lang="lv-LV" sz="1600" spc="-1" strike="noStrike">
                <a:solidFill>
                  <a:srgbClr val="000000"/>
                </a:solidFill>
                <a:latin typeface="Calibri"/>
                <a:ea typeface="MS PGothic"/>
              </a:rPr>
              <a:t>no kopējā pētniecības infrastruktūras gada finansējuma; </a:t>
            </a:r>
            <a:r>
              <a:rPr b="0" i="1" lang="lv-LV" sz="1600" spc="-1" strike="noStrike">
                <a:solidFill>
                  <a:srgbClr val="000000"/>
                </a:solidFill>
                <a:latin typeface="Calibri"/>
                <a:ea typeface="MS PGothic"/>
              </a:rPr>
              <a:t>(Regula Nr. 651, (49) termins</a:t>
            </a:r>
            <a:r>
              <a:rPr b="0" lang="lv-LV" sz="1600" spc="-1" strike="noStrike">
                <a:solidFill>
                  <a:srgbClr val="000000"/>
                </a:solidFill>
                <a:latin typeface="Calibri"/>
                <a:ea typeface="MS PGothic"/>
              </a:rPr>
              <a:t>).</a:t>
            </a:r>
            <a:endParaRPr b="0" lang="en-US" sz="1600" spc="-1" strike="noStrike">
              <a:solidFill>
                <a:srgbClr val="000000"/>
              </a:solidFill>
              <a:latin typeface="Times New Roman"/>
            </a:endParaRPr>
          </a:p>
        </p:txBody>
      </p:sp>
      <p:sp>
        <p:nvSpPr>
          <p:cNvPr id="418" name="Title 1"/>
          <p:cNvSpPr/>
          <p:nvPr/>
        </p:nvSpPr>
        <p:spPr>
          <a:xfrm>
            <a:off x="1746360" y="476280"/>
            <a:ext cx="6788160" cy="776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budžeta finansiālā atbalsta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7D8AE19-1FBC-40BC-B29E-C3C308B1364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1" name="PlaceHolder 1"/>
          <p:cNvSpPr>
            <a:spLocks noGrp="1"/>
          </p:cNvSpPr>
          <p:nvPr>
            <p:ph/>
          </p:nvPr>
        </p:nvSpPr>
        <p:spPr>
          <a:xfrm>
            <a:off x="468360" y="1699920"/>
            <a:ext cx="8136000" cy="4297320"/>
          </a:xfrm>
          <a:prstGeom prst="rect">
            <a:avLst/>
          </a:prstGeom>
          <a:noFill/>
          <a:ln w="0">
            <a:noFill/>
          </a:ln>
        </p:spPr>
        <p:txBody>
          <a:bodyPr lIns="93960" rIns="93960" tIns="46800" bIns="46800" anchor="t">
            <a:normAutofit/>
          </a:bodyPr>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iropas Komisijas 2014. gada 14. jūnija Regula (ES) Nr. 651/2014 (Eiropas Savienības Oficiālais Vēstnesis, 2014. gada 26. jūnijs, Nr. L 187/1), ar ko noteiktas atbalsta kategorijas atzīst par saderīgām ar iekšējo tirgu, piemērojot Līguma 107. un 108. pantu (turpmāk – </a:t>
            </a:r>
            <a:r>
              <a:rPr b="1" lang="lv-LV" sz="1600" spc="-1" strike="noStrike">
                <a:solidFill>
                  <a:srgbClr val="c00000"/>
                </a:solidFill>
                <a:latin typeface="Calibri"/>
              </a:rPr>
              <a:t>Regula Nr. 651/2014</a:t>
            </a:r>
            <a:r>
              <a:rPr b="0" lang="lv-LV" sz="1600" spc="-1" strike="noStrike">
                <a:solidFill>
                  <a:srgbClr val="000000"/>
                </a:solidFill>
                <a:latin typeface="Calibri"/>
              </a:rPr>
              <a:t>); 2. panta 83. punktā noteiktā definīcija:</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r>
              <a:rPr b="1" lang="lv-LV" sz="1600" spc="-1" strike="noStrike">
                <a:solidFill>
                  <a:srgbClr val="000000"/>
                </a:solidFill>
                <a:latin typeface="Calibri"/>
              </a:rPr>
              <a:t>pētniecības un zināšanu izplatīšanas organizācija</a:t>
            </a:r>
            <a:r>
              <a:rPr b="0" lang="lv-LV" sz="1600" spc="-1" strike="noStrike">
                <a:solidFill>
                  <a:srgbClr val="000000"/>
                </a:solidFill>
                <a:latin typeface="Calibri"/>
              </a:rPr>
              <a:t>” ir subjekts (piemēram, </a:t>
            </a:r>
            <a:r>
              <a:rPr b="0" lang="lv-LV" sz="1600" spc="-1" strike="noStrike" u="sng">
                <a:solidFill>
                  <a:srgbClr val="000000"/>
                </a:solidFill>
                <a:uFillTx/>
                <a:latin typeface="Calibri"/>
              </a:rPr>
              <a:t>universitātes vai pētniecības institūti, tehnoloģiju pārneses aģentūras, inovācijas starpnieki, uz pētniecību orientēti fiziskas vai virtuālas sadarbības subjekti</a:t>
            </a:r>
            <a:r>
              <a:rPr b="0" lang="lv-LV" sz="1600" spc="-1" strike="noStrike">
                <a:solidFill>
                  <a:srgbClr val="000000"/>
                </a:solidFill>
                <a:latin typeface="Calibri"/>
              </a:rPr>
              <a:t>) </a:t>
            </a:r>
            <a:r>
              <a:rPr b="1" lang="lv-LV" sz="1600" spc="-1" strike="noStrike">
                <a:solidFill>
                  <a:srgbClr val="c00000"/>
                </a:solidFill>
                <a:latin typeface="Calibri"/>
              </a:rPr>
              <a:t>neatkarīgi no tā juridiskā statusa </a:t>
            </a:r>
            <a:r>
              <a:rPr b="0" lang="lv-LV" sz="1600" spc="-1" strike="noStrike">
                <a:solidFill>
                  <a:srgbClr val="c00000"/>
                </a:solidFill>
                <a:latin typeface="Calibri"/>
              </a:rPr>
              <a:t>(</a:t>
            </a:r>
            <a:r>
              <a:rPr b="1" lang="lv-LV" sz="1600" spc="-1" strike="noStrike">
                <a:solidFill>
                  <a:srgbClr val="c00000"/>
                </a:solidFill>
                <a:latin typeface="Calibri"/>
              </a:rPr>
              <a:t>publisko vai privāto tiesību subjekts) vai finansējuma veida</a:t>
            </a:r>
            <a:r>
              <a:rPr b="0" lang="lv-LV" sz="1600" spc="-1" strike="noStrike">
                <a:solidFill>
                  <a:srgbClr val="c00000"/>
                </a:solidFill>
                <a:latin typeface="Calibri"/>
              </a:rPr>
              <a:t>, </a:t>
            </a:r>
            <a:r>
              <a:rPr b="1" lang="lv-LV" sz="1600" spc="-1" strike="noStrike">
                <a:solidFill>
                  <a:srgbClr val="000000"/>
                </a:solidFill>
                <a:latin typeface="Calibri"/>
              </a:rPr>
              <a:t>kura </a:t>
            </a:r>
            <a:r>
              <a:rPr b="1" lang="lv-LV" sz="1600" spc="-1" strike="noStrike" u="sng">
                <a:solidFill>
                  <a:srgbClr val="000000"/>
                </a:solidFill>
                <a:uFillTx/>
                <a:latin typeface="Calibri"/>
              </a:rPr>
              <a:t>galvenais mērķis </a:t>
            </a:r>
            <a:r>
              <a:rPr b="1" lang="lv-LV" sz="1600" spc="-1" strike="noStrike">
                <a:solidFill>
                  <a:srgbClr val="000000"/>
                </a:solidFill>
                <a:latin typeface="Calibri"/>
              </a:rPr>
              <a:t>ir </a:t>
            </a:r>
            <a:r>
              <a:rPr b="1" lang="lv-LV" sz="1600" spc="-1" strike="noStrike">
                <a:solidFill>
                  <a:srgbClr val="c00000"/>
                </a:solidFill>
                <a:latin typeface="Calibri"/>
              </a:rPr>
              <a:t>neatkarīgi veikt fundamentālos pētījumus, rūpnieciskos pētījumus vai eksperimentālo izstrādi vai plaši izplatīt šādu darbību rezultātus mācību, publikāciju vai zināšanu pārneses veidā.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šis subjekts </a:t>
            </a:r>
            <a:r>
              <a:rPr b="0" lang="lv-LV" sz="1600" spc="-1" strike="noStrike" u="sng">
                <a:solidFill>
                  <a:srgbClr val="000000"/>
                </a:solidFill>
                <a:uFillTx/>
                <a:latin typeface="Calibri"/>
              </a:rPr>
              <a:t>veic arī saimniecisko darbību</a:t>
            </a:r>
            <a:r>
              <a:rPr b="0" lang="lv-LV" sz="1600" spc="-1" strike="noStrike">
                <a:solidFill>
                  <a:srgbClr val="000000"/>
                </a:solidFill>
                <a:latin typeface="Calibri"/>
              </a:rPr>
              <a:t>, tās </a:t>
            </a:r>
            <a:r>
              <a:rPr b="0" lang="lv-LV" sz="1600" spc="-1" strike="noStrike" u="sng">
                <a:solidFill>
                  <a:srgbClr val="000000"/>
                </a:solidFill>
                <a:uFillTx/>
                <a:latin typeface="Calibri"/>
              </a:rPr>
              <a:t>finansējums, izmaksas un ieņēmumi ir jāuzskaita atsevišķi</a:t>
            </a:r>
            <a:r>
              <a:rPr b="0" lang="lv-LV" sz="1600" spc="-1" strike="noStrike">
                <a:solidFill>
                  <a:srgbClr val="000000"/>
                </a:solidFill>
                <a:latin typeface="Calibri"/>
              </a:rPr>
              <a:t>.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Uzņēmumiem, kas var izšķiroši ietekmēt šo subjektu, piemēram, būdami tā akcionāri vai dalībnieki, nedrīkst būt privileģēta piekļuve šā subjekta radītajiem rezultātiem.</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22" name="Title 1"/>
          <p:cNvSpPr/>
          <p:nvPr/>
        </p:nvSpPr>
        <p:spPr>
          <a:xfrm>
            <a:off x="685800" y="330120"/>
            <a:ext cx="813420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a:t>
            </a:r>
            <a:br>
              <a:rPr sz="2800"/>
            </a:br>
            <a:r>
              <a:rPr b="0" lang="lv-LV" sz="2800" spc="-1" strike="noStrike">
                <a:solidFill>
                  <a:srgbClr val="000000"/>
                </a:solidFill>
                <a:latin typeface="Calibri"/>
              </a:rPr>
              <a:t>“</a:t>
            </a:r>
            <a:r>
              <a:rPr b="1" lang="lv-LV" sz="2800" spc="-1" strike="noStrike">
                <a:solidFill>
                  <a:srgbClr val="000000"/>
                </a:solidFill>
                <a:latin typeface="Calibri"/>
              </a:rPr>
              <a:t>P</a:t>
            </a:r>
            <a:r>
              <a:rPr b="1" lang="en-GB" sz="2800" spc="-1" strike="noStrike">
                <a:solidFill>
                  <a:srgbClr val="000000"/>
                </a:solidFill>
                <a:latin typeface="Calibri"/>
              </a:rPr>
              <a:t>ētniecības un zināšanu izplatīšanas organizācija</a:t>
            </a:r>
            <a:r>
              <a:rPr b="1" lang="lv-LV" sz="2800" spc="-1" strike="noStrike">
                <a:solidFill>
                  <a:srgbClr val="000000"/>
                </a:solidFill>
                <a:latin typeface="Calibri"/>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6505A47-BC8F-4B33-B15D-E0A422EEB6B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5" name="PlaceHolder 1"/>
          <p:cNvSpPr>
            <a:spLocks noGrp="1"/>
          </p:cNvSpPr>
          <p:nvPr>
            <p:ph/>
          </p:nvPr>
        </p:nvSpPr>
        <p:spPr>
          <a:xfrm>
            <a:off x="684000" y="1581120"/>
            <a:ext cx="7848360" cy="4425840"/>
          </a:xfrm>
          <a:prstGeom prst="rect">
            <a:avLst/>
          </a:prstGeom>
          <a:noFill/>
          <a:ln w="0">
            <a:noFill/>
          </a:ln>
        </p:spPr>
        <p:txBody>
          <a:bodyPr lIns="93960" rIns="93960" tIns="46800" bIns="46800" anchor="t">
            <a:normAutofit/>
          </a:bodyPr>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3.11. valsts atbalsts – </a:t>
            </a:r>
            <a:r>
              <a:rPr b="0" lang="lv-LV" sz="1600" spc="-1" strike="noStrike" u="sng">
                <a:solidFill>
                  <a:srgbClr val="000000"/>
                </a:solidFill>
                <a:uFillTx/>
                <a:latin typeface="Calibri"/>
              </a:rPr>
              <a:t>atbalsts ar saimniecisko darbību saistītam projektam</a:t>
            </a:r>
            <a:r>
              <a:rPr b="0" lang="lv-LV" sz="1600" spc="-1" strike="noStrike">
                <a:solidFill>
                  <a:srgbClr val="000000"/>
                </a:solidFill>
                <a:latin typeface="Calibri"/>
              </a:rPr>
              <a:t>, kas atbilst Līguma par Eiropas Savienības darbību 107. panta 1. punktā noteiktajam;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Līgums par Eiropas Savienības darbību,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 IEDAĻA, </a:t>
            </a:r>
            <a:r>
              <a:rPr b="1" lang="lv-LV" sz="1600" spc="-1" strike="noStrike">
                <a:solidFill>
                  <a:srgbClr val="000000"/>
                </a:solidFill>
                <a:latin typeface="Calibri"/>
              </a:rPr>
              <a:t>VALSTS ATBALSTS, </a:t>
            </a:r>
            <a:r>
              <a:rPr b="1" i="1" lang="lv-LV" sz="1600" spc="-1" strike="noStrike">
                <a:solidFill>
                  <a:srgbClr val="000000"/>
                </a:solidFill>
                <a:latin typeface="Calibri"/>
              </a:rPr>
              <a:t>107. panta </a:t>
            </a:r>
            <a:r>
              <a:rPr b="1" lang="lv-LV" sz="1600" spc="-1" strike="noStrike">
                <a:solidFill>
                  <a:srgbClr val="000000"/>
                </a:solidFill>
                <a:latin typeface="Calibri"/>
              </a:rPr>
              <a:t>(bijušais EKL 87. pants) 1. punk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vien Līgumi neparedz ko citu, ar iekšējo tirgu </a:t>
            </a:r>
            <a:r>
              <a:rPr b="1" lang="lv-LV" sz="1600" spc="-1" strike="noStrike">
                <a:solidFill>
                  <a:srgbClr val="c00000"/>
                </a:solidFill>
                <a:latin typeface="Calibri"/>
              </a:rPr>
              <a:t>nav saderīgs nekāds atbalsts</a:t>
            </a:r>
            <a:r>
              <a:rPr b="0" lang="lv-LV" sz="1600" spc="-1" strike="noStrike">
                <a:solidFill>
                  <a:srgbClr val="000000"/>
                </a:solidFill>
                <a:latin typeface="Calibri"/>
              </a:rPr>
              <a:t>, ko piešķir dalībvalstis vai ko jebkādā citā veidā piešķir no valsts līdzekļiem un kas rada vai draud radīt </a:t>
            </a:r>
            <a:r>
              <a:rPr b="0" lang="lv-LV" sz="1600" spc="-1" strike="noStrike" u="sng">
                <a:solidFill>
                  <a:srgbClr val="000000"/>
                </a:solidFill>
                <a:uFillTx/>
                <a:latin typeface="Calibri"/>
              </a:rPr>
              <a:t>konkurences izkropļojumus, </a:t>
            </a:r>
            <a:r>
              <a:rPr b="0" lang="lv-LV" sz="1600" spc="-1" strike="noStrike">
                <a:solidFill>
                  <a:srgbClr val="000000"/>
                </a:solidFill>
                <a:latin typeface="Calibri"/>
              </a:rPr>
              <a:t>dodot priekšroku konkrētiem  uzņēmumiem vai konkrētu preču ražošanai, ciktāl tāds atbalsts iespaido tirdzniecību starp dalībvalstīm.</a:t>
            </a:r>
            <a:endParaRPr b="0" lang="en-US" sz="1600" spc="-1" strike="noStrike">
              <a:solidFill>
                <a:srgbClr val="000000"/>
              </a:solidFill>
              <a:latin typeface="Times New Roman"/>
            </a:endParaRPr>
          </a:p>
          <a:p>
            <a:pPr marL="3510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I PIELIKUMS, 1. pan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Par uzņēmumu uzskata </a:t>
            </a:r>
            <a:r>
              <a:rPr b="0" lang="lv-LV" sz="1600" spc="-1" strike="noStrike" u="sng">
                <a:solidFill>
                  <a:srgbClr val="000000"/>
                </a:solidFill>
                <a:uFillTx/>
                <a:latin typeface="Calibri"/>
              </a:rPr>
              <a:t>jebkuru saimnieciskās darbības subjektu neatkarīgi no tā juridiskās formas. </a:t>
            </a:r>
            <a:r>
              <a:rPr b="0" lang="lv-LV" sz="1600" spc="-1" strike="noStrike">
                <a:solidFill>
                  <a:srgbClr val="000000"/>
                </a:solidFill>
                <a:latin typeface="Calibri"/>
              </a:rPr>
              <a:t>Tas jo īpaši ietver pašnodarbinātas personas un ģimenes uzņēmumus, kas nodarbojas ar amatniecību vai veic citu darbību, kā arī personālsabiedrības un apvienības, kas regulāri ir iesaistītas saimnieciskajā darbībā.</a:t>
            </a:r>
            <a:endParaRPr b="0" lang="en-US" sz="1600" spc="-1" strike="noStrike">
              <a:solidFill>
                <a:srgbClr val="000000"/>
              </a:solidFill>
              <a:latin typeface="Times New Roman"/>
            </a:endParaRPr>
          </a:p>
        </p:txBody>
      </p:sp>
      <p:sp>
        <p:nvSpPr>
          <p:cNvPr id="426" name="Title 1"/>
          <p:cNvSpPr/>
          <p:nvPr/>
        </p:nvSpPr>
        <p:spPr>
          <a:xfrm>
            <a:off x="2082960" y="403200"/>
            <a:ext cx="6386400" cy="782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MK noteikumi Nr. 259 - termin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3"/>
          <p:cNvSpPr/>
          <p:nvPr/>
        </p:nvSpPr>
        <p:spPr>
          <a:xfrm>
            <a:off x="8582040" y="6324480"/>
            <a:ext cx="3049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E195C36-04EA-48A8-BE85-02FABF63F4B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28" name=""/>
          <p:cNvGraphicFramePr/>
          <p:nvPr/>
        </p:nvGraphicFramePr>
        <p:xfrm>
          <a:off x="1227240" y="1878120"/>
          <a:ext cx="6967440" cy="4294080"/>
        </p:xfrm>
        <a:graphic>
          <a:graphicData uri="http://schemas.openxmlformats.org/drawingml/2006/table">
            <a:tbl>
              <a:tblPr/>
              <a:tblGrid>
                <a:gridCol w="711000"/>
                <a:gridCol w="6256440"/>
              </a:tblGrid>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X</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operatīvā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Individuālais uzņēm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em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vej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ašvaldība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Nodibināj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iln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mandīt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78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just">
                        <a:lnSpc>
                          <a:spcPts val="1463"/>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 (valsts universitātes dibināts zinātniskais institūts) </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9" name="Rectangle 1"/>
          <p:cNvSpPr/>
          <p:nvPr/>
        </p:nvSpPr>
        <p:spPr>
          <a:xfrm>
            <a:off x="1862280" y="1289880"/>
            <a:ext cx="63324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t>
            </a:r>
            <a:r>
              <a:rPr b="1" lang="lv-LV" sz="1600" spc="-1" strike="noStrike">
                <a:solidFill>
                  <a:srgbClr val="c00000"/>
                </a:solidFill>
                <a:latin typeface="Calibri"/>
              </a:rPr>
              <a:t>Pieteikums par atbalsta piešķiršanu projekta īstenošanai”:</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retendents ir (</a:t>
            </a:r>
            <a:r>
              <a:rPr b="0" i="1" lang="lv-LV" sz="1600" spc="-1" strike="noStrike">
                <a:solidFill>
                  <a:srgbClr val="000000"/>
                </a:solidFill>
                <a:latin typeface="Calibri"/>
              </a:rPr>
              <a:t>Piemērs</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0" name="Rectangle 2"/>
          <p:cNvSpPr/>
          <p:nvPr/>
        </p:nvSpPr>
        <p:spPr>
          <a:xfrm>
            <a:off x="2310480" y="512640"/>
            <a:ext cx="5654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a juridiskā forma</a:t>
            </a:r>
            <a:endParaRPr b="0" lang="en-US" sz="2800" spc="-1" strike="noStrike">
              <a:solidFill>
                <a:srgbClr val="000000"/>
              </a:solidFill>
              <a:latin typeface="Times New Roman"/>
            </a:endParaRPr>
          </a:p>
        </p:txBody>
      </p:sp>
      <p:sp>
        <p:nvSpPr>
          <p:cNvPr id="43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837D462-821B-4209-AC95-A3908C168E4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3"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4" name="PlaceHolder 1"/>
          <p:cNvSpPr>
            <a:spLocks noGrp="1"/>
          </p:cNvSpPr>
          <p:nvPr>
            <p:ph/>
          </p:nvPr>
        </p:nvSpPr>
        <p:spPr>
          <a:xfrm>
            <a:off x="468000" y="1704600"/>
            <a:ext cx="8062920" cy="4535640"/>
          </a:xfrm>
          <a:prstGeom prst="rect">
            <a:avLst/>
          </a:prstGeom>
          <a:noFill/>
          <a:ln w="0">
            <a:noFill/>
          </a:ln>
        </p:spPr>
        <p:txBody>
          <a:bodyPr lIns="93960" rIns="93960" tIns="46800" bIns="46800" anchor="t">
            <a:normAutofit/>
          </a:bodyPr>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2. projekta pētniecības kategorijas (turpmāk – pētniecības kategorijas), ja paredzēts </a:t>
            </a:r>
            <a:r>
              <a:rPr b="1" lang="lv-LV" sz="1600" spc="-1" strike="noStrike">
                <a:solidFill>
                  <a:srgbClr val="c00000"/>
                </a:solidFill>
                <a:latin typeface="Calibri"/>
              </a:rPr>
              <a:t>valsts atbalsts,</a:t>
            </a:r>
            <a:r>
              <a:rPr b="0" lang="lv-LV" sz="1600" spc="-1" strike="noStrike">
                <a:solidFill>
                  <a:srgbClr val="000000"/>
                </a:solidFill>
                <a:latin typeface="Calibri"/>
              </a:rPr>
              <a:t> – </a:t>
            </a:r>
            <a:r>
              <a:rPr b="0" lang="lv-LV" sz="1600" spc="-1" strike="noStrike" u="sng">
                <a:solidFill>
                  <a:srgbClr val="000000"/>
                </a:solidFill>
                <a:uFillTx/>
                <a:latin typeface="Calibri"/>
              </a:rPr>
              <a:t>fundamentālie pētījumi, rūpnieciskie pētījumi, eksperimentālā izstrāde atbilstoši regulas Nr. 651/2014 2. panta 84., 85., 86. un 87.punktā noteiktajai definīcijai. </a:t>
            </a:r>
            <a:r>
              <a:rPr b="0" lang="lv-LV" sz="1600" spc="-1" strike="noStrike">
                <a:solidFill>
                  <a:srgbClr val="000000"/>
                </a:solidFill>
                <a:latin typeface="Calibri"/>
              </a:rPr>
              <a:t>Pētniecības kategorijas, ja paredzēts valsts līdzfinansējums, – fundamentālie pētījumi, rūpnieciskie pētījumi, eksperimentālā izstrādeun priekšizpēte atbilstoši Ekonomiskās sadarbības un attīstības organizācijas (</a:t>
            </a:r>
            <a:r>
              <a:rPr b="0" i="1" lang="lv-LV" sz="1600" spc="-1" strike="noStrike">
                <a:solidFill>
                  <a:srgbClr val="000000"/>
                </a:solidFill>
                <a:latin typeface="Calibri"/>
              </a:rPr>
              <a:t>OECD) publicētajā zinātnes statistikas metodoloģijas krājumā Frascati Manual </a:t>
            </a:r>
            <a:r>
              <a:rPr b="0" lang="lv-LV" sz="1600" spc="-1" strike="noStrike">
                <a:solidFill>
                  <a:srgbClr val="000000"/>
                </a:solidFill>
                <a:latin typeface="Calibri"/>
              </a:rPr>
              <a:t>snieg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3. efektīva sadarbība </a:t>
            </a:r>
            <a:r>
              <a:rPr b="0" lang="lv-LV" sz="1600" spc="-1" strike="noStrike">
                <a:solidFill>
                  <a:srgbClr val="000000"/>
                </a:solidFill>
                <a:latin typeface="Calibri"/>
              </a:rPr>
              <a:t>– sadarbība, kas atbilst regulas Nr. 651/2014 2. panta 90.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4.</a:t>
            </a:r>
            <a:r>
              <a:rPr b="0" lang="lv-LV" sz="1600" spc="-1" strike="noStrike">
                <a:solidFill>
                  <a:srgbClr val="000000"/>
                </a:solidFill>
                <a:latin typeface="Calibri"/>
              </a:rPr>
              <a:t> </a:t>
            </a:r>
            <a:r>
              <a:rPr b="1" lang="lv-LV" sz="1600" spc="-1" strike="noStrike">
                <a:solidFill>
                  <a:srgbClr val="000000"/>
                </a:solidFill>
                <a:latin typeface="Calibri"/>
              </a:rPr>
              <a:t>sīkais (mikro), mazais un vidējais uzņēmums </a:t>
            </a:r>
            <a:r>
              <a:rPr b="0" lang="lv-LV" sz="1600" spc="-1" strike="noStrike">
                <a:solidFill>
                  <a:srgbClr val="000000"/>
                </a:solidFill>
                <a:latin typeface="Calibri"/>
              </a:rPr>
              <a:t>– uzņēmums, kas atbilst regulas Nr. 651/2014 I pielikum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5. lielais uzņēmums </a:t>
            </a:r>
            <a:r>
              <a:rPr b="0" lang="lv-LV" sz="1600" spc="-1" strike="noStrike">
                <a:solidFill>
                  <a:srgbClr val="000000"/>
                </a:solidFill>
                <a:latin typeface="Calibri"/>
              </a:rPr>
              <a:t>– uzņēmums, kas atbilst regulas Nr. 651/2014 2. panta 24.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6.</a:t>
            </a:r>
            <a:r>
              <a:rPr b="0" lang="lv-LV" sz="1600" spc="-1" strike="noStrike">
                <a:solidFill>
                  <a:srgbClr val="000000"/>
                </a:solidFill>
                <a:latin typeface="Calibri"/>
              </a:rPr>
              <a:t> </a:t>
            </a:r>
            <a:r>
              <a:rPr b="1" lang="lv-LV" sz="1600" spc="-1" strike="noStrike">
                <a:solidFill>
                  <a:srgbClr val="000000"/>
                </a:solidFill>
                <a:latin typeface="Calibri"/>
              </a:rPr>
              <a:t>godīga konkurence </a:t>
            </a:r>
            <a:r>
              <a:rPr b="0" lang="lv-LV" sz="1600" spc="-1" strike="noStrike">
                <a:solidFill>
                  <a:srgbClr val="000000"/>
                </a:solidFill>
                <a:latin typeface="Calibri"/>
              </a:rPr>
              <a:t>– konkurence, kas atbilst regulas Nr. 651/2014 2. panta 89. punktā noteiktajai definīcijai (</a:t>
            </a:r>
            <a:r>
              <a:rPr b="0" i="1" lang="lv-LV" sz="1600" spc="-1" strike="noStrike">
                <a:solidFill>
                  <a:srgbClr val="000000"/>
                </a:solidFill>
                <a:latin typeface="Calibri"/>
              </a:rPr>
              <a:t>atklāta, pārredzams un nediskriminējoša procedūra</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5" name="Title 1"/>
          <p:cNvSpPr/>
          <p:nvPr/>
        </p:nvSpPr>
        <p:spPr>
          <a:xfrm>
            <a:off x="2114640" y="401760"/>
            <a:ext cx="5646600" cy="947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pētniecības darbību un uzņēmumu kategorij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9:04:43Z</dcterms:modified>
  <cp:revision>109</cp:revision>
  <dc:subject/>
  <dc:title>PowerPoint Presentation</dc:title>
</cp:coreProperties>
</file>