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83A4-6F5D-4A54-851C-1855A7A7B70A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AE9E-485A-4E17-A8A3-F031CAFEBCD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ADFA-8F35-4A90-97B5-589E8F9D6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0BB9-3BD0-49F4-B41D-947085549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54B9-8024-4D0D-86D8-FF15BD88BA0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E323-D812-4499-8800-42921E307B6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ECC2-3251-4519-9B86-EE001BD2AC7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A0CA-B262-48FF-8ABC-8CA8411A602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4581-2FAB-4D85-BE57-7A49E6935E0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21AC-8427-4903-8E17-2F003F9542C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C56E-CD30-4CE2-9FD1-7E80E7B9F8C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FE4F-C2BB-4441-B36D-53C5D14695D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0F7A-CE0E-4E31-A41C-2184522AF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4AF-9720-44E4-ABD9-8C8BD3D3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275-B62F-44AE-99C4-8A5ECCB7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E20-4CE3-4FF8-86E0-E2239313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0B6-2CFA-4C58-9313-F6623032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D0ED-7DCA-4D12-8796-6223FE82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9F66-2DF4-42A8-9893-91E3E4B9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B542-755A-4F7B-BA97-F082F69C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2E20-8287-4C9B-AEB8-DAE28522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0E5E-130A-44AD-BF72-24B5C86A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A054-3E04-4132-8273-9D2F7B00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E18F-3FAC-45D7-98F3-0FD2B193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1EF-74FC-48AE-B890-73F4856E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73E6-ABEE-42F2-8D1C-012C0058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9B3A-8FC9-4776-BC4E-5411CDE8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835C-76FC-4712-8703-72955C12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1ED7-1D98-4CDC-9DA9-38989B5C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E1D8-E923-4165-BA96-9936EC2C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1BBB-B7ED-46B2-B13D-FF9DE8A7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6208-9416-4639-87F6-35711480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767-B3FA-444F-B209-0EC9491F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1FB-E569-481A-BB31-D99A1383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AF56-82F8-4C7D-AF55-E4ECA593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683A-8AF3-485B-A1C1-ABE2B73D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6DE-7794-4DEF-B093-E9F70CC6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F244-5A42-49CA-B853-FBB395A7C16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8414-0BBA-4875-9302-936FA221C84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-7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1700280"/>
          <a:ext cx="6769080" cy="1677960"/>
        </p:xfrm>
        <a:graphic>
          <a:graphicData uri="http://schemas.openxmlformats.org/drawingml/2006/table">
            <a:tbl>
              <a:tblPr/>
              <a:tblGrid>
                <a:gridCol w="3589200"/>
                <a:gridCol w="3179880"/>
              </a:tblGrid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SMJU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06320" y="1700280"/>
          <a:ext cx="7993080" cy="1555560"/>
        </p:xfrm>
        <a:graphic>
          <a:graphicData uri="http://schemas.openxmlformats.org/drawingml/2006/table">
            <a:tbl>
              <a:tblPr/>
              <a:tblGrid>
                <a:gridCol w="3218040"/>
                <a:gridCol w="2327040"/>
                <a:gridCol w="24480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</a:t>
                      </a: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dod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71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400" spc="-1" strike="noStrike">
                <a:solidFill>
                  <a:srgbClr val="800080"/>
                </a:solidFill>
                <a:latin typeface="Calibri"/>
              </a:rPr>
              <a:t>KĀDĀS PROFESIJĀS NEPIECIEŠAMAS MANAS STIPRĀS PUS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844640"/>
          <a:ext cx="8713800" cy="1890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ijas, kurās tās nepiecieša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švalodu zināš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lks, tulkotājs, skolotājs, diplomāts, gids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Dažādu materiālu sagatavošana, kam nepieciešama informācijas vākšana un atlase, kā arī secinājumu izdarī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Mūsdienu informācijas tehnoloģiju izmant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700280"/>
          <a:ext cx="8640720" cy="2927160"/>
        </p:xfrm>
        <a:graphic>
          <a:graphicData uri="http://schemas.openxmlformats.org/drawingml/2006/table">
            <a:tbl>
              <a:tblPr/>
              <a:tblGrid>
                <a:gridCol w="2879640"/>
                <a:gridCol w="3600360"/>
                <a:gridCol w="2160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1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6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intereses un stiprās puses saistās ar profesijā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6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inātnisko projek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19:39Z</dcterms:modified>
  <cp:revision>345</cp:revision>
  <dc:subject/>
  <dc:title>Slide 1</dc:title>
</cp:coreProperties>
</file>