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0.jpeg" ContentType="image/jpeg"/>
  <Override PartName="/ppt/media/image5.png" ContentType="image/pn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9EE8F-E0AE-4CC7-971D-0092653B1DDB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85999-78F1-4313-8325-BBC4CFF841F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BF599-876B-456B-B59F-175607CE99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BE4FC-A8C8-47FE-885E-695606E67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DEB5-F743-443E-9583-371F030E1C8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6AB9-ACA2-40EC-A395-06C95912A67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7298-C54C-405B-80B3-6268D40AE05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F6368-BE72-4548-BCDD-14AA5535293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21E02-01BC-438B-AF87-2355854F720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80DF6-DED4-42A7-A0A2-ED461189307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E0FF-6FB2-4E27-BF4E-79BADB7B421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3D4B-4EFE-410F-A418-13C1E03C821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B73CF-FDCE-4133-8F9F-AABEA3AA2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25A4-13E9-4228-A4B6-05980C618E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091C-9764-4A5B-AD44-A6D94A912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1006-2875-4BA4-BC60-518CAC848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FBAC3-A38F-4428-8D75-FB3AE658D8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2815-ED01-41DD-8FBA-6889DDEF2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1D4B0-02BB-4CB3-A166-B6D72ECD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9BEFB-EC71-4664-9A7A-436F9232B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2BA55-C111-4F90-8781-FC730C74B8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F8E02-8B53-4285-B27F-30A1B1F7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5008-C899-40EF-8CE7-392676390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6794-DED3-44F4-A7BF-EBCD1DD31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715B-2EAE-4008-AA5C-895331EC0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83263-9BDA-4114-99CC-B5FF66684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D3CBD-3747-4787-8B4C-1339212B4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85034-15FF-4A9A-A537-C32322D3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3293C-E123-4ACC-B328-F40BD33C4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9590D-2CF6-485C-9FA7-C2DDA9445A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46614-A35A-4AD4-A0AE-6F94D00CE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B4CD-0F04-4A8E-AEA9-C6076F104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7505-3E4A-4EE4-A00C-66F0CE8B7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DEB8-C26A-4E4E-9B74-20FB491E2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AF7F1-DD04-40CD-A592-616A6B83C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BFBA-536F-40DE-90A5-02F979426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5FEE7-B3E5-4391-9F3F-C10CBAA3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F457E-1007-4697-AD4C-4CB4298585EA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E8DC0-F7A8-4286-9274-EED34D92A226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5.-7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1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2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5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6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1258920" y="1700280"/>
          <a:ext cx="6769080" cy="1677960"/>
        </p:xfrm>
        <a:graphic>
          <a:graphicData uri="http://schemas.openxmlformats.org/drawingml/2006/table">
            <a:tbl>
              <a:tblPr/>
              <a:tblGrid>
                <a:gridCol w="3589200"/>
                <a:gridCol w="3179880"/>
              </a:tblGrid>
              <a:tr h="12189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SMJU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706320" y="1700280"/>
          <a:ext cx="7993080" cy="1555560"/>
        </p:xfrm>
        <a:graphic>
          <a:graphicData uri="http://schemas.openxmlformats.org/drawingml/2006/table">
            <a:tbl>
              <a:tblPr/>
              <a:tblGrid>
                <a:gridCol w="3218040"/>
                <a:gridCol w="2327040"/>
                <a:gridCol w="2448000"/>
              </a:tblGrid>
              <a:tr h="1097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/uzdevum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patīk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 </a:t>
                      </a:r>
                      <a:r>
                        <a:rPr b="1" lang="lv-LV" sz="3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adodas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7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713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400" spc="-1" strike="noStrike">
                <a:solidFill>
                  <a:srgbClr val="800080"/>
                </a:solidFill>
                <a:latin typeface="Calibri"/>
              </a:rPr>
              <a:t>KĀDĀS PROFESIJĀS NEPIECIEŠAMAS MANAS STIPRĀS PUSES</a:t>
            </a:r>
            <a:endParaRPr b="0" lang="en-US" sz="34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250920" y="1844640"/>
          <a:ext cx="8713800" cy="1890720"/>
        </p:xfrm>
        <a:graphic>
          <a:graphicData uri="http://schemas.openxmlformats.org/drawingml/2006/table">
            <a:tbl>
              <a:tblPr/>
              <a:tblGrid>
                <a:gridCol w="4357440"/>
                <a:gridCol w="4356360"/>
              </a:tblGrid>
              <a:tr h="946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fesijas, kurās tās nepieciešam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44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vešvalodu zināšana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ulks, tulkotājs, skolotājs, diplomāts, gids..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Dažādu materiālu sagatavošana, kam nepieciešama informācijas vākšana un atlase, kā arī secinājumu izdarī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  <a:p>
            <a:pPr marL="339480" indent="-339480">
              <a:spcBef>
                <a:spcPts val="55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200" spc="-1" strike="noStrike">
                <a:solidFill>
                  <a:srgbClr val="006a7b"/>
                </a:solidFill>
                <a:latin typeface="Calibri"/>
              </a:rPr>
              <a:t>Mūsdienu informācijas tehnoloģiju izmantošana.</a:t>
            </a:r>
            <a:endParaRPr b="0" lang="en-US" sz="2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250920" y="1700280"/>
          <a:ext cx="8640720" cy="2927160"/>
        </p:xfrm>
        <a:graphic>
          <a:graphicData uri="http://schemas.openxmlformats.org/drawingml/2006/table">
            <a:tbl>
              <a:tblPr/>
              <a:tblGrid>
                <a:gridCol w="2879640"/>
                <a:gridCol w="3600360"/>
                <a:gridCol w="2160720"/>
              </a:tblGrid>
              <a:tr h="8233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stiprās pu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0164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1" i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3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1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6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intereses un stiprās puses saistās ar profesijā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6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6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1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7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inātnisko projek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8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19:39Z</dcterms:modified>
  <cp:revision>345</cp:revision>
  <dc:subject/>
  <dc:title>Slide 1</dc:title>
</cp:coreProperties>
</file>