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FB1B-0A80-4CA4-B6D2-C0D8EA12AD5D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4BC0-23C2-4FA5-AAC0-9F7DE22ECC6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F7FD-B8AB-4BEC-B32E-A173C536F1F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6653-6EDF-4535-8300-9FB8FE3BD56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8388-864F-42FD-85CF-1621BD8B180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07B0-0A28-46F2-BEE8-514889BA2D1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BE23-2F2F-4E68-BEE7-43AA36CF06B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9A99-2F4A-4D2E-B1B4-94747FADDE5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96C7-879D-4F95-9217-737A63AB774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01D6-55C1-4BD0-A26B-D6F24CA0AF9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DCFF-C34A-4372-AFBA-1C7EE6AB030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06EA-0CCC-4229-99FA-6B0E2C02236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8275-52E6-4302-9D1E-3CEC0E351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599F-E82D-4450-BFA7-E7A876B3CA7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B552-7C1B-4056-94F5-0773C1C4F4E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DF9E-5365-43C1-BEEE-A10175D84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7DB3-BBAF-4B1C-A710-4E7F3D2C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0C16-8DEC-491C-BC65-04D039D5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72F8-DF92-4505-B6C8-E77BFEFE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03A0-F324-401B-824A-64F4CEB4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4359-0A59-47B4-8B5F-2980D006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1933-FBD4-472F-A4FE-FE4561E6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5717-9D3E-4858-8B11-AF78858D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E840-A3E6-4046-BBE0-EF1130F4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23B1-0C13-4FCE-A438-2C02ACD9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31B1-ADC7-4D96-A89F-606416CE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140A-871A-4969-9E9A-B36BA100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0A9A-1004-45C5-BD71-3C55E769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27E4-D6F8-4D82-8C30-1501388C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CE98-7289-4115-8B45-97B63187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2CE9-8C6F-4EC1-B205-E3A0B30F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A98D-90B1-42A3-8E62-820CFBA3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4C61-4565-407A-A522-D17A341D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ECDC-89F6-485D-A357-B14D4D76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552C-4008-4FC7-98ED-800D2D61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F589-345A-4A1A-A44C-12EE0E1A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F5F5-6B07-491B-A589-3854A378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C15D-7E1B-407D-81E2-9C3365A5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F944-A2ED-4B95-BA4E-F656D1CB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158F-DB03-4C3F-A13F-D3621C1F95D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93F5-9E4F-41CD-9B89-A0F8C92B6F6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jaunietim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 ATBALSTĪT SAVU BĒRN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tiprinot viņa/s izpratni pašam par sev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niedzot atgriezenisko sait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tīstot viņa/s zināšanas par darb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Palīdzot viņam/i orientēties uz prasmē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Uzticot ikdienas pienākumus un palīdzot attīstīt “strādāšanas” prasme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pazīstot un atbalstot aktivitātes, kurās bērns uzrāda labus rezultāt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Iedrošinot spert nākamo sol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5" descr="business concepts,businesses,capes,characters,concepts,flying,heroes,people,saves,savings,super heroes,superheroes,superman"/>
          <p:cNvPicPr/>
          <p:nvPr/>
        </p:nvPicPr>
        <p:blipFill>
          <a:blip r:embed="rId1"/>
          <a:stretch/>
        </p:blipFill>
        <p:spPr>
          <a:xfrm>
            <a:off x="7164360" y="4653000"/>
            <a:ext cx="16542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84358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MANĪGI PADOMĀJIET UN PABEIDZIET TEIKUMU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57000"/>
            <a:ext cx="8291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1. Mana bērna galvenās intere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2. Mans bērns ir intelektuāli spēcīgāks šādās jomās 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3. Manam bērnam ir ... dotība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4. Mans bērns spēj veikt šādus uzdevumus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5. Mana bērna spilgtākās rakstura īpašība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6. Mana bērna vājās pu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7" name="Picture 29" descr="1st,1st place,awards,business concepts,businesses,characters,concepts,firsts,number one,people,prizes,ribbons,winners,winnings,wins"/>
          <p:cNvPicPr/>
          <p:nvPr/>
        </p:nvPicPr>
        <p:blipFill>
          <a:blip r:embed="rId1"/>
          <a:stretch/>
        </p:blipFill>
        <p:spPr>
          <a:xfrm>
            <a:off x="7886880" y="1434960"/>
            <a:ext cx="12236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2803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zprast karjeras plānošanas nosacījum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emācīties analizēt bērna ikdienas pieredzi, lai labāk apzinātos viņ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Apzināt veidus, kā attīstīt bērn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50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924360" y="436572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424160"/>
            <a:ext cx="868680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arjeras plānošanas pamatnosacījum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Vecumposmu īpatnības karjeras plānošanas proces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ur un kā bērns iegūst informāciju par sev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nalizēt ikdienas pieredz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tbalstīt savu bēr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NOSACĪJU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6" name="Group 13"/>
          <p:cNvGrpSpPr/>
          <p:nvPr/>
        </p:nvGrpSpPr>
        <p:grpSpPr>
          <a:xfrm>
            <a:off x="539640" y="1557360"/>
            <a:ext cx="8115480" cy="4775040"/>
            <a:chOff x="539640" y="1557360"/>
            <a:chExt cx="8115480" cy="4775040"/>
          </a:xfrm>
        </p:grpSpPr>
        <p:pic>
          <p:nvPicPr>
            <p:cNvPr id="97" name="Picture 2" descr="C:\Users\Nora.Kaleja\Desktop\Picture1.png"/>
            <p:cNvPicPr/>
            <p:nvPr/>
          </p:nvPicPr>
          <p:blipFill>
            <a:blip r:embed="rId1"/>
            <a:srcRect l="18135" t="1702" r="22935" b="-409"/>
            <a:stretch/>
          </p:blipFill>
          <p:spPr>
            <a:xfrm>
              <a:off x="2721240" y="2291760"/>
              <a:ext cx="3407040" cy="29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ounded Rectangular Callout 11"/>
            <p:cNvSpPr/>
            <p:nvPr/>
          </p:nvSpPr>
          <p:spPr>
            <a:xfrm>
              <a:off x="900000" y="1917720"/>
              <a:ext cx="1563480" cy="1296720"/>
            </a:xfrm>
            <a:prstGeom prst="wedgeRoundRectCallout">
              <a:avLst>
                <a:gd name="adj1" fmla="val 97851"/>
                <a:gd name="adj2" fmla="val 46365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NTERES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L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RT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ular Callout 12"/>
            <p:cNvSpPr/>
            <p:nvPr/>
          </p:nvSpPr>
          <p:spPr>
            <a:xfrm>
              <a:off x="6299280" y="1557360"/>
              <a:ext cx="2355840" cy="1726920"/>
            </a:xfrm>
            <a:prstGeom prst="wedgeRoundRectCallout">
              <a:avLst>
                <a:gd name="adj1" fmla="val -80805"/>
                <a:gd name="adj2" fmla="val 4321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AS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ZINĀŠAN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RAKSTURA ĪPAŠ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ESELĪBAS STĀVOKLI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Ā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ular Callout 13"/>
            <p:cNvSpPr/>
            <p:nvPr/>
          </p:nvSpPr>
          <p:spPr>
            <a:xfrm>
              <a:off x="539640" y="4076640"/>
              <a:ext cx="2808360" cy="2232000"/>
            </a:xfrm>
            <a:prstGeom prst="wedgeRoundRectCallout">
              <a:avLst>
                <a:gd name="adj1" fmla="val 67217"/>
                <a:gd name="adj2" fmla="val -33148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DARBA TIRG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JU “+” un “-”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VI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IEPRASĪJUMS un PROGNOZ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ATALGOJUMS UN IZAUGSME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NODARBINĀTĪBAS VEID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MEKLĒŠA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ed Rectangular Callout 14"/>
            <p:cNvSpPr/>
            <p:nvPr/>
          </p:nvSpPr>
          <p:spPr>
            <a:xfrm>
              <a:off x="5724720" y="4149720"/>
              <a:ext cx="2844720" cy="2182680"/>
            </a:xfrm>
            <a:prstGeom prst="wedgeRoundRectCallout">
              <a:avLst>
                <a:gd name="adj1" fmla="val -75912"/>
                <a:gd name="adj2" fmla="val -3703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IZGLĪTĪBAS IESPĒJ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ONĀLĀS KVALIFIKĀCIJAS  UN IZGLĪTĪBAS LĪMEŅ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SATU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ESTĀŠANĀS NOTEIKUM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ILGUMS UN VIET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AIS IEGULDĪJU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PROCESA POS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50560" y="1989000"/>
            <a:ext cx="6481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Vecu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Pos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  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4 - 10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fantāzi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1 - 12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intereš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3 - 14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spē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4 - 15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vērtīb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6 - 17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pārejas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6" descr="advancements,advances,business concepts,businesses,characters,climbing,concepts,people,promotions,running,staircases,stairs,stairways,steps,ups"/>
          <p:cNvPicPr/>
          <p:nvPr/>
        </p:nvPicPr>
        <p:blipFill>
          <a:blip r:embed="rId1"/>
          <a:srcRect l="0" t="0" r="4000" b="0"/>
          <a:stretch/>
        </p:blipFill>
        <p:spPr>
          <a:xfrm>
            <a:off x="179280" y="4149720"/>
            <a:ext cx="17971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JAUNIETIS VAR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āt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īt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Pieņemt lēmumu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07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8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09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– un kāpēc t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 tas, k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tas, kas viņam/-i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ādas ir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/-s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ērtīb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š/-a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JAUNIET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5760" y="14695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skarsmē ar pieaugušaj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.....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541920" y="414972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37:30Z</dcterms:modified>
  <cp:revision>326</cp:revision>
  <dc:subject/>
  <dc:title>Slide 1</dc:title>
</cp:coreProperties>
</file>