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8.wmf" ContentType="image/x-wmf"/>
  <Override PartName="/ppt/media/image10.jpeg" ContentType="image/jpeg"/>
  <Override PartName="/ppt/media/image1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66DD4-15D1-4EBB-A594-566D0D549917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6334F-7F01-40F6-AE29-11C37179F33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E0FB6-9473-4694-9235-0C6D2ABB9AA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81D28-5810-465B-8698-9BA11E9FD37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E5F0D-61B8-4012-ADD5-4717FF504EB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6FBF8-C81A-42F8-A384-7273DED99B0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BD96D8-C52C-4997-9184-587DE8D85FEF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0BACD-6064-4C37-A4D4-2BDB85905FC5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704B5-9E53-436A-88A8-96A43CB14F6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0921-286A-498B-8561-C6C2E6A5A42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1D9A2-4F67-41DE-A7FB-94DE961B9EB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92F9A-A76F-4CBE-BC75-D6503D88CA7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C5017-F309-43E6-B1B2-62CF13D14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Prāta vētr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80503-1380-441F-8167-C91236B1CC1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11874-A456-40F9-97DD-FDBA4E782C6D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E9826-4E05-4294-B89F-C95E367B3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592E-F877-4577-A592-849DEDB26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8F16-91D2-4385-A3DE-FE7E31FB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F1D4-804D-463D-88F9-98D12904F0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492C3-CE7B-48A6-9A9B-4C805E1A3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ADE61-7F63-4E29-92A3-370A1EF75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FE3F-3D72-43D0-9AE6-A82D2F36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C7C8C-1F19-4C1B-B46D-CA12BA52B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0F4D6-1A8F-41C5-A266-F9B13DDB9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0567B-2BD0-4726-AD98-32BD58734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EB839-695D-4E3C-8938-7A263BB23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5165-78B8-46C5-AAAD-A311F326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817C4-2662-4D4E-B403-AD80D499A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F5D9-77B3-462C-8240-6947015D6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1F7A0-C69C-47EF-BB1D-7A21FA927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0A44-BF53-4FEC-8052-4FC777E8B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3EB5E-587B-4E6D-9C3B-BFC13B0D2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5671-4CA0-4E15-89C4-3E0D06B2D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CFAE0-1AD6-4542-B079-1CD9C8292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B785-1E38-45BF-B4EE-56C64F117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5A72-5522-4673-8E28-292776A55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02410-7D0E-4D93-A7CC-A4B028A8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7C9A-9405-428F-9487-0AFEBBE2E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279D-C009-4D26-A67B-44E979F3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17D50-0374-4874-B222-BCB7862ED35C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B78C-1350-434D-B5F6-816BACA2AE4E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jaunietim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vecāk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RAKT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468360" y="119700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1240" indent="-284040">
              <a:lnSpc>
                <a:spcPct val="100000"/>
              </a:lnSpc>
              <a:spcBef>
                <a:spcPts val="1312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68360" y="1773360"/>
            <a:ext cx="8064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ais personības tips ir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reāli domājoši; labprāt strādā roku darbu vai lieto instrumentus un ierīces, risina tehniskas dabas problēmas; rūpējas par augiem un dzīvniekiem, strādā ārā; labprātāk veic praktisku darbu nekā teorētisku, intelektuālu darb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Praktiskā vide: 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fiziskas darbības, darbs ar instrumentiem aparātiem, mašīnām; praktisku uzdevumu risināšana; nepieciešama roku veiklība un tehniskās zināšan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10" descr="MC900186084"/>
          <p:cNvPicPr/>
          <p:nvPr/>
        </p:nvPicPr>
        <p:blipFill>
          <a:blip r:embed="rId1"/>
          <a:stretch/>
        </p:blipFill>
        <p:spPr>
          <a:xfrm>
            <a:off x="7308720" y="4581360"/>
            <a:ext cx="1419480" cy="14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IZZINOŠ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468360" y="1628640"/>
            <a:ext cx="7920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od priekšroku pētnieciskai darbībai, lai novērotu, mācītos, analizētu un rastu problēmu risinājumus; raksturīga oriģinalitāte, zinātkāre, analītiskā domāšana; labāk patīk strādāt vienatnē vai vidē, kur nav jākontaktējas un jāsadarbojas ar daudz un dažādiem cilvēkiem, bieži trūkst organizatora talan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Izzinoš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jānoskaidro dažādu parādību pamatā esošie iemesli un jāmeklē problēmu risinājums; darbs saistīts ar abstraktu ideju vai dabas un sociālo parādību izpēti, sakarību meklēšanu, jaunu teorētisko atziņu radīšan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6" descr="advice,answers,asking,cartoons,education,exclamation marks,iStockphoto,learning,librarians,professors,questions,solutions,students,wisdom"/>
          <p:cNvPicPr/>
          <p:nvPr/>
        </p:nvPicPr>
        <p:blipFill>
          <a:blip r:embed="rId1"/>
          <a:stretch/>
        </p:blipFill>
        <p:spPr>
          <a:xfrm>
            <a:off x="7524720" y="2637000"/>
            <a:ext cx="1548000" cy="154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2"/>
          <p:cNvSpPr/>
          <p:nvPr/>
        </p:nvSpPr>
        <p:spPr>
          <a:xfrm>
            <a:off x="46836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MĀKSLINIECISK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68360" y="1557360"/>
            <a:ext cx="828036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a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individuālists ar mākslinieciskiem talantiem, radošu domāšanu; labprāt izmanto iztēli un izsaka sevi oriģinālā un nesistemātiskā veidā; nepatīk vienveidība, stingrs darba režīms, darbs ar konkrētiem, precīzi definētiem darba uzdevumiem, instrukci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Māksliniecisk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atklāta, brīva, ar nestrukturētām darba stundām, prasa iniciatīvu un radošu domāšanu; maksimāli novērtē personas mākslinieciskās un emocionālās izpausmes veid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8" descr="artists,cartoonists,cartoons,entertainment,males,men,persons"/>
          <p:cNvPicPr/>
          <p:nvPr/>
        </p:nvPicPr>
        <p:blipFill>
          <a:blip r:embed="rId1"/>
          <a:srcRect l="0" t="5675" r="0" b="0"/>
          <a:stretch/>
        </p:blipFill>
        <p:spPr>
          <a:xfrm>
            <a:off x="7164360" y="4863960"/>
            <a:ext cx="1530360" cy="144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95280" y="549360"/>
            <a:ext cx="82296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OCI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8"/>
          <p:cNvSpPr/>
          <p:nvPr/>
        </p:nvSpPr>
        <p:spPr>
          <a:xfrm>
            <a:off x="468360" y="1700280"/>
            <a:ext cx="8136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labprāt strādā ar cilvēkiem, lai informētu, konsultētu, palīdzētu, izglītotu, rūpētos; raksturīgas labas saskarsmes iemaņas, bet nereti trūkt zinātniska un/vai tehniska darba iemaņu, priekšroku dod darbam ar cilvēkiem, nevis ar datiem, lietām vai idejā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Soci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darbs saistīts ar atbalsta sniegšanu, sociālās labklājības vairošanu, citu cilvēku attīstīšanu un izglītošan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10" descr="MC900383366"/>
          <p:cNvPicPr/>
          <p:nvPr/>
        </p:nvPicPr>
        <p:blipFill>
          <a:blip r:embed="rId1"/>
          <a:stretch/>
        </p:blipFill>
        <p:spPr>
          <a:xfrm>
            <a:off x="7020000" y="4653000"/>
            <a:ext cx="1890720" cy="159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ŅĒMĪG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8"/>
          <p:cNvSpPr/>
          <p:nvPr/>
        </p:nvSpPr>
        <p:spPr>
          <a:xfrm>
            <a:off x="539640" y="1700280"/>
            <a:ext cx="806472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g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špaļāvīgi, ekstraverti cilvēki, kuri labprāt uzņemas risku, pārliecina, vada un ietekmē cilvēkus, nodarbojas paši ar savu biznesu, sasniedz ievērojamu sociālo stāvokli; viņi dod priekšroku vadīt citus, nevis būt vadītiem; bieži pietrūkst zinātniskā darba iemaņ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Uzņēmību rosinoša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orientācija uz sasniegumiem, konkurence; darbā nepieciešams vadīt un pārliecināt cilvēkus rīkoties, lai sasniegtu organizācijas, finanšu vai ekonomiskos mērķu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10" descr="MC900383266"/>
          <p:cNvPicPr/>
          <p:nvPr/>
        </p:nvPicPr>
        <p:blipFill>
          <a:blip r:embed="rId1"/>
          <a:stretch/>
        </p:blipFill>
        <p:spPr>
          <a:xfrm>
            <a:off x="7524720" y="5013360"/>
            <a:ext cx="1263600" cy="112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2"/>
          <p:cNvSpPr/>
          <p:nvPr/>
        </p:nvSpPr>
        <p:spPr>
          <a:xfrm>
            <a:off x="468360" y="476280"/>
            <a:ext cx="822960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ONVENCIONĀLAIS TIP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8"/>
          <p:cNvSpPr/>
          <p:nvPr/>
        </p:nvSpPr>
        <p:spPr>
          <a:xfrm>
            <a:off x="395280" y="1628640"/>
            <a:ext cx="813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ais personības tips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patīk pedantisks, precīzs, detalizēts un sistemātisks darbs ar skaitļiem, datiem un informāciju nevis ar cilvēkiem, idejām vai lietām; neiebilst pret instrukciju saņemšanu no citiem cilvēkiem; dod priekšroku būt uzraudzītiem, nevis pašiem pieņemt lēmumus; bieži trūkst māksliniecisko spēju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lv-LV" sz="2400" spc="-1" strike="noStrike">
                <a:solidFill>
                  <a:srgbClr val="000000"/>
                </a:solidFill>
                <a:latin typeface="Calibri"/>
              </a:rPr>
              <a:t>Konvencionālā vide: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 raksturīga darba organizācija un plānošana, darbs parasti tiek veikts birojā, ir saistīts ar datiem, pārskatiem, dokumentiem un prasa kārtību; visas darbības ir prognozējamas un atbilst pieņemtajai kārtība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9" descr="MC900435981"/>
          <p:cNvPicPr/>
          <p:nvPr/>
        </p:nvPicPr>
        <p:blipFill>
          <a:blip r:embed="rId1"/>
          <a:stretch/>
        </p:blipFill>
        <p:spPr>
          <a:xfrm>
            <a:off x="7740720" y="3357720"/>
            <a:ext cx="1192320" cy="90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39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lnSpc>
                <a:spcPct val="90000"/>
              </a:lnSpc>
              <a:spcBef>
                <a:spcPts val="10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 ATBALSTĪT SAVU BĒRNU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tiprinot viņa/s izpratni pašam par sev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Sniedzot atgriezenisko sait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tīstot viņa/s zināšanas par darb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Palīdzot viņam/i orientēties uz prasmēm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Uzticot ikdienas pienākumus un palīdzot attīstīt “strādāšanas” prasme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Atpazīstot un atbalstot aktivitātes, kurās bērns uzrāda labus rezultāt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Calibri"/>
              </a:rPr>
              <a:t>Iedrošinot spert nākamo sol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5" descr="business concepts,businesses,capes,characters,concepts,flying,heroes,people,saves,savings,super heroes,superheroes,superman"/>
          <p:cNvPicPr/>
          <p:nvPr/>
        </p:nvPicPr>
        <p:blipFill>
          <a:blip r:embed="rId1"/>
          <a:stretch/>
        </p:blipFill>
        <p:spPr>
          <a:xfrm>
            <a:off x="7164360" y="4653000"/>
            <a:ext cx="1654200" cy="165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6840" y="500040"/>
            <a:ext cx="84358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UZMANĪGI PADOMĀJIET UN PABEIDZIET TEIKUMU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457200" y="1557000"/>
            <a:ext cx="829152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1. Mana bērna galvenās intere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2. Mans bērns ir intelektuāli spēcīgāks šādās jomās 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3. Manam bērnam ir ... dotības 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4. Mans bērns spēj veikt šādus uzdevumus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5. Mana bērna spilgtākās rakstura īpašība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6. Mana bērna vājās puses ir 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12120" indent="-312120">
              <a:spcBef>
                <a:spcPts val="7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7" name="Picture 29" descr="1st,1st place,awards,business concepts,businesses,characters,concepts,firsts,number one,people,prizes,ribbons,winners,winnings,wins"/>
          <p:cNvPicPr/>
          <p:nvPr/>
        </p:nvPicPr>
        <p:blipFill>
          <a:blip r:embed="rId1"/>
          <a:stretch/>
        </p:blipFill>
        <p:spPr>
          <a:xfrm>
            <a:off x="7886880" y="1434960"/>
            <a:ext cx="1223640" cy="122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NODARBĪBAS MĒRĶI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68360" y="1557360"/>
            <a:ext cx="828036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zprast karjeras plānošanas nosacījumu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Iemācīties analizēt bērna ikdienas pieredzi, lai labāk apzinātos viņ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Apzināt veidus, kā attīstīt bērna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50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924360" y="436572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277920" y="1424160"/>
            <a:ext cx="8686800" cy="48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arjeras plānošanas pamatnosacījum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Vecumposmu īpatnības karjeras plānošanas procesā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ur un kā bērns iegūst informāciju par sev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nalizēt ikdienas pieredzi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Dž. Hollanda karjeras teorija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ā atbalstīt savu bērnu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7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75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NOSACĪJU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pSp>
        <p:nvGrpSpPr>
          <p:cNvPr id="96" name="Group 13"/>
          <p:cNvGrpSpPr/>
          <p:nvPr/>
        </p:nvGrpSpPr>
        <p:grpSpPr>
          <a:xfrm>
            <a:off x="539640" y="1557360"/>
            <a:ext cx="8115480" cy="4775040"/>
            <a:chOff x="539640" y="1557360"/>
            <a:chExt cx="8115480" cy="4775040"/>
          </a:xfrm>
        </p:grpSpPr>
        <p:pic>
          <p:nvPicPr>
            <p:cNvPr id="97" name="Picture 2" descr="C:\Users\Nora.Kaleja\Desktop\Picture1.png"/>
            <p:cNvPicPr/>
            <p:nvPr/>
          </p:nvPicPr>
          <p:blipFill>
            <a:blip r:embed="rId1"/>
            <a:srcRect l="18135" t="1702" r="22935" b="-409"/>
            <a:stretch/>
          </p:blipFill>
          <p:spPr>
            <a:xfrm>
              <a:off x="2721240" y="2291760"/>
              <a:ext cx="3407040" cy="296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Rounded Rectangular Callout 11"/>
            <p:cNvSpPr/>
            <p:nvPr/>
          </p:nvSpPr>
          <p:spPr>
            <a:xfrm>
              <a:off x="900000" y="1917720"/>
              <a:ext cx="1563480" cy="1296720"/>
            </a:xfrm>
            <a:prstGeom prst="wedgeRoundRectCallout">
              <a:avLst>
                <a:gd name="adj1" fmla="val 97851"/>
                <a:gd name="adj2" fmla="val 46365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NTERES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L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ĒRT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Rounded Rectangular Callout 12"/>
            <p:cNvSpPr/>
            <p:nvPr/>
          </p:nvSpPr>
          <p:spPr>
            <a:xfrm>
              <a:off x="6299280" y="1557360"/>
              <a:ext cx="2355840" cy="1726920"/>
            </a:xfrm>
            <a:prstGeom prst="wedgeRoundRectCallout">
              <a:avLst>
                <a:gd name="adj1" fmla="val -80805"/>
                <a:gd name="adj2" fmla="val 4321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MAN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ASM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ZINĀŠAN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RAKSTURA ĪPAŠĪB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VESELĪBAS STĀVOKLI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Ā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Rounded Rectangular Callout 13"/>
            <p:cNvSpPr/>
            <p:nvPr/>
          </p:nvSpPr>
          <p:spPr>
            <a:xfrm>
              <a:off x="539640" y="4076640"/>
              <a:ext cx="2808360" cy="2232000"/>
            </a:xfrm>
            <a:prstGeom prst="wedgeRoundRectCallout">
              <a:avLst>
                <a:gd name="adj1" fmla="val 67217"/>
                <a:gd name="adj2" fmla="val -33148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DARBA TIRGU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JU “+” un “-”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VIDE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IEPRASĪJUMS un PROGNOZE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ATALGOJUMS UN IZAUGSMES IESPĒJA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NODARBINĀTĪBAS VEID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DARBA MEKLĒŠAN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Rounded Rectangular Callout 14"/>
            <p:cNvSpPr/>
            <p:nvPr/>
          </p:nvSpPr>
          <p:spPr>
            <a:xfrm>
              <a:off x="5724720" y="4149720"/>
              <a:ext cx="2844720" cy="2182680"/>
            </a:xfrm>
            <a:prstGeom prst="wedgeRoundRectCallout">
              <a:avLst>
                <a:gd name="adj1" fmla="val -75912"/>
                <a:gd name="adj2" fmla="val -37037"/>
                <a:gd name="adj3" fmla="val 16667"/>
              </a:avLst>
            </a:prstGeom>
            <a:solidFill>
              <a:srgbClr val="ffffff"/>
            </a:solidFill>
            <a:ln w="25560">
              <a:solidFill>
                <a:srgbClr val="4bacc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lv-LV" sz="1600" spc="-1" strike="noStrike">
                  <a:solidFill>
                    <a:srgbClr val="17375e"/>
                  </a:solidFill>
                  <a:latin typeface="Calibri"/>
                </a:rPr>
                <a:t>IZGLĪTĪBAS IESPĒJA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PROFESIONĀLĀS KVALIFIKĀCIJAS  UN IZGLĪTĪBAS LĪMEŅ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SATUR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IESTĀŠANĀS NOTEIKUMI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MĀCĪBU ILGUMS UN VIETA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17375e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500" spc="-1" strike="noStrike">
                  <a:solidFill>
                    <a:srgbClr val="17375e"/>
                  </a:solidFill>
                  <a:latin typeface="Calibri"/>
                </a:rPr>
                <a:t>FINANSIĀLAIS IEGULDĪJU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3640" y="476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RJERAS PLĀNOŠANAS PROCESA POSM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050560" y="1989000"/>
            <a:ext cx="6481800" cy="360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Vecu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Posms</a:t>
            </a: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006a7b"/>
                </a:solidFill>
                <a:latin typeface="ZapfCalligr TL"/>
              </a:rPr>
              <a:t>  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4 - 10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fantāzi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1 - 12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intereš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3 - 14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spēj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4 - 15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vērtību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16 - 17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	</a:t>
            </a:r>
            <a:r>
              <a:rPr b="0" lang="lv-LV" sz="2800" spc="-1" strike="noStrike">
                <a:solidFill>
                  <a:srgbClr val="006a7b"/>
                </a:solidFill>
                <a:latin typeface="ZapfCalligr TL"/>
              </a:rPr>
              <a:t>pārejas posm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04" name="Picture 6" descr="advancements,advances,business concepts,businesses,characters,climbing,concepts,people,promotions,running,staircases,stairs,stairways,steps,ups"/>
          <p:cNvPicPr/>
          <p:nvPr/>
        </p:nvPicPr>
        <p:blipFill>
          <a:blip r:embed="rId1"/>
          <a:srcRect l="0" t="0" r="4000" b="0"/>
          <a:stretch/>
        </p:blipFill>
        <p:spPr>
          <a:xfrm>
            <a:off x="179280" y="4149720"/>
            <a:ext cx="17971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800080"/>
                </a:solidFill>
                <a:latin typeface="Calibri"/>
              </a:rPr>
              <a:t>KARJERAS PLĀNOŠANA</a:t>
            </a: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S SOĻI – KO JAUNIETIS VAR DARĪT JAU ŠODIEN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zināt sevi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Izpētīt profesijas un izglītības iespējas</a:t>
            </a:r>
            <a:r>
              <a:rPr b="0" lang="lv-LV" sz="40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0">
              <a:lnSpc>
                <a:spcPct val="100000"/>
              </a:lnSpc>
              <a:spcBef>
                <a:spcPts val="1001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4000" spc="-1" strike="noStrike">
                <a:solidFill>
                  <a:srgbClr val="c00000"/>
                </a:solidFill>
                <a:latin typeface="Tahoma"/>
              </a:rPr>
              <a:t>Pieņemt lēmumu </a:t>
            </a:r>
            <a:endParaRPr b="0" lang="en-US" sz="40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r>
              <a:rPr b="0" lang="lv-LV" sz="3200" spc="-1" strike="noStrike">
                <a:solidFill>
                  <a:srgbClr val="006a7b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spcAft>
                <a:spcPts val="29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cxnSp>
        <p:nvCxnSpPr>
          <p:cNvPr id="107" name="Straight Arrow Connector 5"/>
          <p:cNvCxnSpPr/>
          <p:nvPr/>
        </p:nvCxnSpPr>
        <p:spPr>
          <a:xfrm>
            <a:off x="1547280" y="227628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08" name="Straight Arrow Connector 6"/>
          <p:cNvCxnSpPr/>
          <p:nvPr/>
        </p:nvCxnSpPr>
        <p:spPr>
          <a:xfrm>
            <a:off x="2843280" y="4005000"/>
            <a:ext cx="289440" cy="432360"/>
          </a:xfrm>
          <a:prstGeom prst="straightConnector1">
            <a:avLst/>
          </a:prstGeom>
          <a:ln w="57240">
            <a:solidFill>
              <a:srgbClr val="c00000"/>
            </a:solidFill>
            <a:miter/>
            <a:tailEnd len="med" type="arrow" w="med"/>
          </a:ln>
        </p:spPr>
      </p:cxnSp>
      <p:pic>
        <p:nvPicPr>
          <p:cNvPr id="109" name="Picture 8" descr="business,businessmen,choices,choosing,deciding,decisions,doors,keyholes,locks,males,metaphors,people,persons,skeleton keys"/>
          <p:cNvPicPr/>
          <p:nvPr/>
        </p:nvPicPr>
        <p:blipFill>
          <a:blip r:embed="rId1"/>
          <a:stretch/>
        </p:blipFill>
        <p:spPr>
          <a:xfrm>
            <a:off x="3492360" y="5084640"/>
            <a:ext cx="1511280" cy="151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– un kāpēc t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 tas, kas viņu interes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m/-i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ai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nteresē tas, kas viņam/-i padod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ierobežo? 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as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u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 balsta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ādas ir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a/-s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vērtības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lvl="1" marL="335880" indent="-335880">
              <a:spcBef>
                <a:spcPts val="601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Ko </a:t>
            </a: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viņš/-a </a:t>
            </a:r>
            <a:r>
              <a:rPr b="0" lang="lv-LV" sz="3000" spc="-1" strike="noStrike">
                <a:solidFill>
                  <a:srgbClr val="006a7b"/>
                </a:solidFill>
                <a:latin typeface="Calibri"/>
              </a:rPr>
              <a:t>gribu sasniegt nākotnē?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1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JAUNIET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6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455760" y="1469520"/>
            <a:ext cx="8229600" cy="506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skarsmē ar pieaugušaj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000" spc="-1" strike="noStrike">
                <a:solidFill>
                  <a:srgbClr val="006a7b"/>
                </a:solidFill>
                <a:latin typeface="Calibri"/>
              </a:rPr>
              <a:t>.....</a:t>
            </a: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  <a:p>
            <a:pPr marL="322200" indent="-322200">
              <a:spcBef>
                <a:spcPts val="601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5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541920" y="4149720"/>
            <a:ext cx="21434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500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500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2"/>
          <p:cNvSpPr/>
          <p:nvPr/>
        </p:nvSpPr>
        <p:spPr>
          <a:xfrm>
            <a:off x="539640" y="333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Ž. HOLLANDA TIPOLOĢIJA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3"/>
          <p:cNvSpPr/>
          <p:nvPr/>
        </p:nvSpPr>
        <p:spPr>
          <a:xfrm>
            <a:off x="468360" y="1341360"/>
            <a:ext cx="8496360" cy="44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1"/>
          <p:cNvSpPr/>
          <p:nvPr/>
        </p:nvSpPr>
        <p:spPr>
          <a:xfrm>
            <a:off x="250920" y="1413000"/>
            <a:ext cx="874872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Var izdalīt sešus personību tipus un sešus darba vides/profesiju pamattipus, kas atbilst katram no iepriekš minētajiem personību tipi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Prakt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Izzinoš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Māksliniecisk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Sociāl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Uzņēmīgo tipu,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13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Arial"/>
              </a:rPr>
              <a:t>Konvencionālo tip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Cilvēks savai profesionālai darbībai meklē tādu vidi, kurā viņš spētu atklāt savu personību, parādīt un attīstīt savas prasmes un spējas, paust savu attieksmi un vērtējumu, kā arī – pieņemt noteikumus, kurus izvirza konkrētais profesionālās darbības veids</a:t>
            </a:r>
            <a:r>
              <a:rPr b="0" lang="lv-LV" sz="2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9:37:30Z</dcterms:modified>
  <cp:revision>326</cp:revision>
  <dc:subject/>
  <dc:title>Slide 1</dc:title>
</cp:coreProperties>
</file>