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51F6-3D86-48E0-A4AD-E5816839E462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5659-8D84-4ADD-B75D-A78A0E5C1C6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E777-FD1A-4676-890F-617C221B6EB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CDD6-29C1-4B31-B856-534DC8099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CDF9-1B78-4991-9E8E-677F349AA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964E-6451-4B8D-B1D3-6AFE37189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9AE6-84D0-4103-A7E7-ADB06B16C8C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DEC9-1EE3-4971-B49B-C878D162E44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597F-0D4B-4B86-A443-6B047EA7A7A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7B14-362F-486E-BC43-DEC3DAE3054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96D0-5A09-4BEE-BA64-562A17185A7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A30A-63DF-424D-88D3-52DCA398CBF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936-54D7-4F61-BEFB-7054A4B1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A3E5-B39C-4DEF-BCC6-8330AA95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FED0-9C29-4049-A976-CF67C274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1B82-9711-4E3B-B124-56E32D53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857A-7E2B-4BB2-8B9E-12F35C3A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1A8F-7447-456C-90AB-7ACA76E6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80EA-265F-476D-A7E5-51AE5A93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5EB1-505E-4A63-AC23-1416A995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9798-8DEF-414F-8BE1-B018C13D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C943-B1A9-43F3-87AE-C426D85B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AA07-2AA4-4F75-B34B-CD3D8151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940F-D062-4E1E-973F-6F190158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FDAD-D912-4AC0-832A-EF2057BD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E4E7-335A-46B3-AA0A-15E56DD0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9554-82E3-4D32-BD59-2E4F56AE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9B44-01A3-43E7-A1D7-22BD1184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3A05-2370-4D50-8EE0-A53946D3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1F25-8973-463D-985C-58DCEAF8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898E-6363-494B-85F1-8CC5FDDD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43DA-6574-40E6-AF37-DC0ADC96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8C1D-CC45-4006-AEEF-E71BD3F5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54D-5FA6-4104-8CAA-66123C64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3F1-9404-4E53-8126-88733466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8249-19A7-49DC-BC69-A485D905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4E8D-C19A-4DBD-8D1A-D4897C7A149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27B2-05A7-4893-B891-371664C1A79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8.-9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49:47Z</dcterms:modified>
  <cp:revision>343</cp:revision>
  <dc:subject/>
  <dc:title>Slide 1</dc:title>
</cp:coreProperties>
</file>