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5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C3740C-2615-4246-85A1-00A74CB68E0F}" type="slidenum">
              <a:rPr b="0" lang="lv-LV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E84FD-F69D-4773-978E-C26CD915559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F7378-7D9D-4631-9E94-236AB05D152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C2E02-C287-47C3-BC77-C1F5318805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E6620-731F-4A89-A0E0-DD5D050C75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306B7-5D91-4060-B0BE-239142ECB3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Vai parādās kopīgas tende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98BBF-AC24-42E8-8588-4EEF8567E31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C0923-2C1C-4A31-B32C-25640AFB94F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24058-2B61-4AFC-9BAC-1339C2BCF60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8B4A7-8BB0-40D4-8DD5-7EEAFA03DBB6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7C244-6175-44F2-A017-8000055DC7B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35D08-E3F7-4FDC-BD97-CB892790BA9A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1F02D-32F3-4927-BE24-5174E93D2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E628-967B-4D81-8AF1-CC44D5234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70BC5-9DFE-4C0E-A640-EC3EBB17A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B0AB-6940-46B8-8ACE-E96F8BEDA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E1C42-2415-4BDF-BC17-E8616CF09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90B7D-DB11-4379-A3FD-CE113BD00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13BE-BDE7-4FF1-9385-BC572316B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8C1D5-753D-47D4-BC97-95448B825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E16D-ACE1-4144-87D8-E8AC907DB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7C88D-23C9-4DD7-BE83-FD6107904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54F66-247D-42B8-9804-9F8EFD70D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D8D8-0C6B-4370-A600-F8D5C4DD8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C272-E349-49EC-9573-AC94EB313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13E41-8576-4D66-8012-8865B1A5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57E5A-C187-4915-B017-A2F66A969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0D6C-BC42-4C89-9691-96747D74C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058C3-A4EE-4E52-9384-C5E01A1F82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F9FC4-19BB-475B-8859-22F993661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CC793-89F8-49C2-A5C7-58D921D0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1897-DCAC-4B42-BBAC-716B0524F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00040"/>
            <a:ext cx="82296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1CC30-0978-4D43-9957-D5DA47112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0C2F7-685C-4199-B8BA-A54C576B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85666-B317-45EF-95DC-3FFB183E7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177DC-4BCD-4416-B050-37AEBC35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2989F-9239-48FB-B28C-3BDCCDF3C338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6a7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6a7b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a7b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6D88C-E7D9-4926-A6D8-6026B8001F49}" type="slidenum">
              <a:rPr b="0" lang="lv-LV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42960" y="378936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Kā iepazīt sevi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250560" y="5157720"/>
            <a:ext cx="87138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98989"/>
                </a:solidFill>
                <a:latin typeface="Calibri"/>
              </a:rPr>
              <a:t>Atbalsts darbam ar 8.-9.klašu skolēn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MANAS INTERESE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539640" y="1628640"/>
          <a:ext cx="8229600" cy="889200"/>
        </p:xfrm>
        <a:graphic>
          <a:graphicData uri="http://schemas.openxmlformats.org/drawingml/2006/table">
            <a:tbl>
              <a:tblPr/>
              <a:tblGrid>
                <a:gridCol w="2743200"/>
                <a:gridCol w="2955960"/>
                <a:gridCol w="25304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Nodarbošanā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as man tajā patīk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āpē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4920" y="1020600"/>
          <a:ext cx="9112320" cy="5793120"/>
        </p:xfrm>
        <a:graphic>
          <a:graphicData uri="http://schemas.openxmlformats.org/drawingml/2006/table">
            <a:tbl>
              <a:tblPr/>
              <a:tblGrid>
                <a:gridCol w="2701800"/>
                <a:gridCol w="2989440"/>
                <a:gridCol w="3421080"/>
              </a:tblGrid>
              <a:tr h="394200"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ispārējā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Uzņēmējdarb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Karjeras vadīb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398920"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andas darba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zent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mācī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T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u pieņem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blēmu risin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ritiskā domāš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vešvalodu zināšan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unikācij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adī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ārliecināt, ietekmēt un «pārdot» savu idej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lānošanas un koordinēšanas prasm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mainīgos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adošu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s strādāt stresa apstākļ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ēlme uzņemties risk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asmes veidot kontaktus un sadarbot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tIns="46800" bIns="4680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evis izpratne (prasme apzināties un izvērtēt savas intereses, spējas, vērtības, u.c.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iespēju pētīšanas un radīšanas prasmes (darbs ar informatīvajiem resursiem, spēju un iespēju atbilstības izvērtēšana, nepieciešamā atbalsta atra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arjeras plānošanas prasmes (iespējamā rīcības plāna izveidošana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ēmuma pieņemšanas prasmes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7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tikt galā ar nenoteiktību (risināt konkrētā brīža problēmas, radoši domāt, izglītoties visa mūža garumā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23" name="Title 1"/>
          <p:cNvSpPr/>
          <p:nvPr/>
        </p:nvSpPr>
        <p:spPr>
          <a:xfrm>
            <a:off x="250920" y="404640"/>
            <a:ext cx="84978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DARBA TIRGŪ PIEPRASĪTĀS PRAS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723960" y="1628640"/>
          <a:ext cx="7016760" cy="431496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164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eferātu rakstī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nformācijas vākšanas un apkopošana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analizēt iegūto informācij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atorprasmes (Word, Excel, Internets u.c.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tviešu valodas prasm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0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ecizitāt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5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MĀCĪBĀ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8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avadīšana kopā ar draugie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skarsme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organizēt cit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sadarbot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nfliktu risinā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zdo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pēja paust savas idej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9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BRĪVAJĀ LAIKĀ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723960" y="1628640"/>
          <a:ext cx="7016760" cy="4176720"/>
        </p:xfrm>
        <a:graphic>
          <a:graphicData uri="http://schemas.openxmlformats.org/drawingml/2006/table">
            <a:tbl>
              <a:tblPr/>
              <a:tblGrid>
                <a:gridCol w="2119320"/>
                <a:gridCol w="4897440"/>
              </a:tblGrid>
              <a:tr h="800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rowSpan="6"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avas istabas sakārtošan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tbildības uzņem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Laika plānošana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abeigt iesākto darbu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eikt vienveidīgus uzdevum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tivēt sev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1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Rūpīgum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Rectangle 299"/>
          <p:cNvSpPr/>
          <p:nvPr/>
        </p:nvSpPr>
        <p:spPr>
          <a:xfrm>
            <a:off x="539640" y="52164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itle 1"/>
          <p:cNvSpPr/>
          <p:nvPr/>
        </p:nvSpPr>
        <p:spPr>
          <a:xfrm>
            <a:off x="0" y="476280"/>
            <a:ext cx="9144000" cy="9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300" spc="-1" strike="noStrike">
                <a:solidFill>
                  <a:srgbClr val="800080"/>
                </a:solidFill>
                <a:latin typeface="Calibri"/>
              </a:rPr>
              <a:t>APZINIES PRASMES, KURAS ATTĪSTI IKDIENAS PIENĀKUMOS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7" descr="bored,businessmen,careers,emotions,employees,frustrated,frustrations,jobs,males,men,occupations,office,papers,people,people at work,persons,sheets,vocations,workers,working"/>
          <p:cNvPicPr/>
          <p:nvPr/>
        </p:nvPicPr>
        <p:blipFill>
          <a:blip r:embed="rId1"/>
          <a:srcRect l="0" t="0" r="0" b="9978"/>
          <a:stretch/>
        </p:blipFill>
        <p:spPr>
          <a:xfrm>
            <a:off x="7524720" y="4795920"/>
            <a:ext cx="1440000" cy="129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PIEREDZES ANALĪZE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457200" y="1600200"/>
          <a:ext cx="8075520" cy="2286000"/>
        </p:xfrm>
        <a:graphic>
          <a:graphicData uri="http://schemas.openxmlformats.org/drawingml/2006/table">
            <a:tbl>
              <a:tblPr/>
              <a:tblGrid>
                <a:gridCol w="2908440"/>
                <a:gridCol w="2719080"/>
                <a:gridCol w="2448000"/>
              </a:tblGrid>
              <a:tr h="70164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Uzdevums vai nodarbošanā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pieciešamās prasm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Kā man veic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5032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  <a:tr h="5047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defe9"/>
                    </a:solidFill>
                  </a:tcPr>
                </a:tc>
              </a:tr>
              <a:tr h="576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cdd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560" y="500040"/>
            <a:ext cx="889308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AKTIVITĀTES, KURAS VEICINA </a:t>
            </a:r>
            <a:br>
              <a:rPr sz="3200"/>
            </a:br>
            <a:r>
              <a:rPr b="1" lang="lv-LV" sz="3200" spc="-1" strike="noStrike">
                <a:solidFill>
                  <a:srgbClr val="800080"/>
                </a:solidFill>
                <a:latin typeface="Calibri"/>
              </a:rPr>
              <a:t>DARBA TIRGŪ NEPIECIEŠAMO PRASMJU ATTĪSTĪBU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1483920"/>
            <a:ext cx="8640720" cy="492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interešu pulciņos, organizācijās, skolēnu apvienībās un klubo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mācību priekšmetu olimpiādēs vai sporta sacensībās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apildu apmācība un prasmju attīstības kursi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Ikdienas pienākumi ģimenē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Brīvdienu ceļojumi 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Dažādu analītisku materiālu sagatavošana, kam nepieciešama informācijas vākšana un atlase, kā arī secinājumu izdarī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Runu un prezentāciju sagatav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Piedalīšanās grupas darbā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  <a:p>
            <a:pPr marL="332640" indent="-332640">
              <a:spcBef>
                <a:spcPts val="524"/>
              </a:spcBef>
              <a:spcAft>
                <a:spcPts val="601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100" spc="-1" strike="noStrike">
                <a:solidFill>
                  <a:srgbClr val="006a7b"/>
                </a:solidFill>
                <a:latin typeface="Calibri"/>
              </a:rPr>
              <a:t>Mūsdienu informācijas tehnoloģiju − interneta, multimediju − izmantošana.</a:t>
            </a:r>
            <a:endParaRPr b="0" lang="en-US" sz="2100" spc="-1" strike="noStrike">
              <a:solidFill>
                <a:srgbClr val="006a7b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ts val="37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ES ATTĪSTĪŠU SAVAS INTERESES UN STIPRĀS PUSE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24000" y="1844640"/>
          <a:ext cx="8640720" cy="2809800"/>
        </p:xfrm>
        <a:graphic>
          <a:graphicData uri="http://schemas.openxmlformats.org/drawingml/2006/table">
            <a:tbl>
              <a:tblPr/>
              <a:tblGrid>
                <a:gridCol w="3095640"/>
                <a:gridCol w="3384360"/>
                <a:gridCol w="2160720"/>
              </a:tblGrid>
              <a:tr h="42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Manas intereses/stiprās pu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varētu darīt, lai tās attīstī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Ko es apņemos darī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612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arbs ar dator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pmeklēt fakultatīvās nodarbība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15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dziļināti apgūt darbu ar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Word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,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cel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un </a:t>
                      </a:r>
                      <a:r>
                        <a:rPr b="0" i="1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werPoint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buClr>
                          <a:srgbClr val="000000"/>
                        </a:buClr>
                        <a:buSzPct val="120000"/>
                        <a:buFont typeface="Wingdings" charset="2"/>
                        <a:buChar char="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esaistīties programmēšanas konkurs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ts val="2398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lv-LV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r>
                        <a:rPr b="0" lang="lv-LV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661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KOPSAVILKUM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Ko Jūs šodien jaunu guvāt?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	</a:t>
            </a: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Jūsu secinājumi, atziņas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1f497d"/>
                </a:solidFill>
                <a:latin typeface="Arial"/>
              </a:rPr>
              <a:t>Paldies par uzmanību!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44" name="Picture 8" descr="bright ideas,business concepts,businesses,characters,concepts,ideas,inspirations,light bulbs,lightbulbs,people"/>
          <p:cNvPicPr/>
          <p:nvPr/>
        </p:nvPicPr>
        <p:blipFill>
          <a:blip r:embed="rId1"/>
          <a:stretch/>
        </p:blipFill>
        <p:spPr>
          <a:xfrm>
            <a:off x="3851280" y="4508640"/>
            <a:ext cx="187164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NODARBĪBAS MĒRĶIS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2" name="Content Placeholder 2"/>
          <p:cNvSpPr/>
          <p:nvPr/>
        </p:nvSpPr>
        <p:spPr>
          <a:xfrm>
            <a:off x="455760" y="1700280"/>
            <a:ext cx="8424720" cy="46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Saprast, kāpēc, plānojot karjeru, svarīgi iepazīt sev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Iemācīties analizēt savu ikdienas pieredzi, lai labāk apzinātos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1199"/>
              </a:spcAft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1f497d"/>
                </a:solidFill>
                <a:latin typeface="Arial"/>
              </a:rPr>
              <a:t>Apzināt veidus, kā attīstīt savas intereses un stiprās pu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800" spc="-1" strike="noStrike">
                <a:solidFill>
                  <a:srgbClr val="215968"/>
                </a:solidFill>
                <a:latin typeface="Calibri"/>
              </a:rPr>
              <a:t>SATURS</a:t>
            </a:r>
            <a:endParaRPr b="0" lang="en-US" sz="4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Rectangle 3"/>
          <p:cNvSpPr/>
          <p:nvPr/>
        </p:nvSpPr>
        <p:spPr>
          <a:xfrm>
            <a:off x="324000" y="1452600"/>
            <a:ext cx="868680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pēc ir svarīgi iepazīt sevi pirms plānot karje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</a:t>
            </a:r>
            <a:r>
              <a:rPr b="1" lang="de-DE" sz="2800" spc="-1" strike="noStrike">
                <a:solidFill>
                  <a:srgbClr val="1f497d"/>
                </a:solidFill>
                <a:latin typeface="Arial"/>
              </a:rPr>
              <a:t>arjeras plānošana</a:t>
            </a: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s soļ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ur un kā iegūt informāciju par se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nalizēt ikdienas pieredz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ā attīstīt savas intereses un stiprās pu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buClr>
                <a:srgbClr val="1f497d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2800" spc="-1" strike="noStrike">
                <a:solidFill>
                  <a:srgbClr val="1f497d"/>
                </a:solidFill>
                <a:latin typeface="Arial"/>
              </a:rPr>
              <a:t>Kopsavilku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1199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8000" y="3141360"/>
            <a:ext cx="903600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KĀPĒC IR SVARĪGI IEPAZĪT SEVI, </a:t>
            </a:r>
            <a:br>
              <a:rPr sz="4000"/>
            </a:br>
            <a:r>
              <a:rPr b="1" lang="lv-LV" sz="4000" spc="-1" strike="noStrike">
                <a:solidFill>
                  <a:srgbClr val="800080"/>
                </a:solidFill>
                <a:latin typeface="Calibri"/>
              </a:rPr>
              <a:t>PLĀNOJOT SAVU KARJERU?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96" name="Picture 3" descr="Meitene.png"/>
          <p:cNvPicPr/>
          <p:nvPr/>
        </p:nvPicPr>
        <p:blipFill>
          <a:blip r:embed="rId1"/>
          <a:srcRect l="6868" t="4852" r="3846" b="2960"/>
          <a:stretch/>
        </p:blipFill>
        <p:spPr>
          <a:xfrm>
            <a:off x="4140360" y="1700280"/>
            <a:ext cx="836280" cy="1224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Puika.png"/>
          <p:cNvPicPr/>
          <p:nvPr/>
        </p:nvPicPr>
        <p:blipFill>
          <a:blip r:embed="rId2"/>
          <a:srcRect l="6868" t="4852" r="10714" b="2960"/>
          <a:stretch/>
        </p:blipFill>
        <p:spPr>
          <a:xfrm>
            <a:off x="5148360" y="1700280"/>
            <a:ext cx="772920" cy="1224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Puka_brille.png"/>
          <p:cNvPicPr/>
          <p:nvPr/>
        </p:nvPicPr>
        <p:blipFill>
          <a:blip r:embed="rId3"/>
          <a:srcRect l="6949" t="4852" r="2710" b="2960"/>
          <a:stretch/>
        </p:blipFill>
        <p:spPr>
          <a:xfrm>
            <a:off x="3132000" y="1700280"/>
            <a:ext cx="836640" cy="1224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Meitene_medicina_naked.png"/>
          <p:cNvPicPr/>
          <p:nvPr/>
        </p:nvPicPr>
        <p:blipFill>
          <a:blip r:embed="rId4"/>
          <a:stretch/>
        </p:blipFill>
        <p:spPr>
          <a:xfrm>
            <a:off x="4140360" y="4694400"/>
            <a:ext cx="804600" cy="13096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7" descr="Puika_inzenieris_naked.png"/>
          <p:cNvPicPr/>
          <p:nvPr/>
        </p:nvPicPr>
        <p:blipFill>
          <a:blip r:embed="rId5"/>
          <a:stretch/>
        </p:blipFill>
        <p:spPr>
          <a:xfrm>
            <a:off x="5135400" y="4708440"/>
            <a:ext cx="1165320" cy="131292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8" descr="Puka_brille_pavars_naked.png"/>
          <p:cNvPicPr/>
          <p:nvPr/>
        </p:nvPicPr>
        <p:blipFill>
          <a:blip r:embed="rId6"/>
          <a:stretch/>
        </p:blipFill>
        <p:spPr>
          <a:xfrm>
            <a:off x="2771640" y="4708440"/>
            <a:ext cx="1231920" cy="12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C:\Users\Nora.Kaleja\Desktop\Picture1.png"/>
          <p:cNvPicPr/>
          <p:nvPr/>
        </p:nvPicPr>
        <p:blipFill>
          <a:blip r:embed="rId1"/>
          <a:srcRect l="18135" t="1702" r="22935" b="-409"/>
          <a:stretch/>
        </p:blipFill>
        <p:spPr>
          <a:xfrm>
            <a:off x="2720880" y="2219400"/>
            <a:ext cx="3407040" cy="2960640"/>
          </a:xfrm>
          <a:prstGeom prst="rect">
            <a:avLst/>
          </a:prstGeom>
          <a:ln w="0">
            <a:noFill/>
          </a:ln>
        </p:spPr>
      </p:pic>
      <p:sp>
        <p:nvSpPr>
          <p:cNvPr id="103" name="Rounded Rectangular Callout 5"/>
          <p:cNvSpPr/>
          <p:nvPr/>
        </p:nvSpPr>
        <p:spPr>
          <a:xfrm>
            <a:off x="900000" y="1844640"/>
            <a:ext cx="1563840" cy="1297080"/>
          </a:xfrm>
          <a:prstGeom prst="wedgeRoundRectCallout">
            <a:avLst>
              <a:gd name="adj1" fmla="val 97851"/>
              <a:gd name="adj2" fmla="val 46365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NTERES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L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ĒRT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ounded Rectangular Callout 6"/>
          <p:cNvSpPr/>
          <p:nvPr/>
        </p:nvSpPr>
        <p:spPr>
          <a:xfrm>
            <a:off x="6299280" y="1484280"/>
            <a:ext cx="2355840" cy="1727280"/>
          </a:xfrm>
          <a:prstGeom prst="wedgeRoundRectCallout">
            <a:avLst>
              <a:gd name="adj1" fmla="val -80805"/>
              <a:gd name="adj2" fmla="val 4321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MAN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ASM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ZINĀŠAN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RAKSTURA ĪPAŠĪB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VESELĪBAS STĀVOKLI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Ā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ounded Rectangular Callout 7"/>
          <p:cNvSpPr/>
          <p:nvPr/>
        </p:nvSpPr>
        <p:spPr>
          <a:xfrm>
            <a:off x="539640" y="4003560"/>
            <a:ext cx="2808360" cy="2232000"/>
          </a:xfrm>
          <a:prstGeom prst="wedgeRoundRectCallout">
            <a:avLst>
              <a:gd name="adj1" fmla="val 67217"/>
              <a:gd name="adj2" fmla="val -33148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DARBA TIRG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JU “+” un “-”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VIDE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IEPRASĪJUMS un PROGNOZ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ATALGOJUMS UN IZAUGSMES IESPĒJA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NODARBINĀTĪBAS VEID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DARBA MEKLĒŠAN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ounded Rectangular Callout 8"/>
          <p:cNvSpPr/>
          <p:nvPr/>
        </p:nvSpPr>
        <p:spPr>
          <a:xfrm>
            <a:off x="5724360" y="4076640"/>
            <a:ext cx="2845080" cy="2183040"/>
          </a:xfrm>
          <a:prstGeom prst="wedgeRoundRectCallout">
            <a:avLst>
              <a:gd name="adj1" fmla="val -75912"/>
              <a:gd name="adj2" fmla="val -37037"/>
              <a:gd name="adj3" fmla="val 16667"/>
            </a:avLst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1600" spc="-1" strike="noStrike">
                <a:solidFill>
                  <a:srgbClr val="17375e"/>
                </a:solidFill>
                <a:latin typeface="Calibri"/>
              </a:rPr>
              <a:t>IZGLĪTĪBAS IESPĒJ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PROFESIONĀLĀS KVALIFIKĀCIJAS  UN IZGLĪTĪBAS LĪMEŅ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SATUR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IESTĀŠANĀS NOTEIKUMI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MĀCĪBU ILGUMS UN VIETA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17375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500" spc="-1" strike="noStrike">
                <a:solidFill>
                  <a:srgbClr val="17375e"/>
                </a:solidFill>
                <a:latin typeface="Calibri"/>
              </a:rPr>
              <a:t>FINANSIĀLAIS IEGULDĪJUM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94920" y="476280"/>
            <a:ext cx="8497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AS JĀŅEM VĒRĀ, PLĀNOJOT KARJERU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468360" y="1413000"/>
            <a:ext cx="8229600" cy="475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nteresē – un kāpēc t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Vai man padodas tas, kas mani interes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 padodas/ko es protu/kādas ir manas zināšanas? Vai tas mani interesē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rakstura īpaš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ierobežo? 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as mani balsta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ādas ir manas vērtības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spcAft>
                <a:spcPts val="3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700" spc="-1" strike="noStrike">
                <a:solidFill>
                  <a:srgbClr val="006a7b"/>
                </a:solidFill>
                <a:latin typeface="Calibri"/>
              </a:rPr>
              <a:t>Ko es gribu sasniegt nākotnē?</a:t>
            </a:r>
            <a:endParaRPr b="0" lang="en-US" sz="27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09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900" spc="-1" strike="noStrike">
                <a:solidFill>
                  <a:srgbClr val="800080"/>
                </a:solidFill>
                <a:latin typeface="Calibri"/>
              </a:rPr>
              <a:t>KO UZZINĀT PAR SEVI</a:t>
            </a:r>
            <a:r>
              <a:rPr b="0" lang="lv-LV" sz="32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business concepts,businesses,characters,concepts,looking,looks,magnifiers,magnifying,magnifying glasses,people,searches,searching"/>
          <p:cNvPicPr/>
          <p:nvPr/>
        </p:nvPicPr>
        <p:blipFill>
          <a:blip r:embed="rId1"/>
          <a:stretch/>
        </p:blipFill>
        <p:spPr>
          <a:xfrm>
            <a:off x="6659640" y="3819600"/>
            <a:ext cx="1784160" cy="212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0004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UR IKDIENĀ IZPAUŽAS INTERESES, SPĒJAS, RAKSTURA ĪPAŠĪBAS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Mācību stundā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tarpbrīž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Sadarbībā ar klasesbiedriem un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nterešu nodarbībās, hobijo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Tiekoties ar draugiem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Pildot mājas darbus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Ikdienas pienākumos ģimenē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Brīvajā laikā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6a7b"/>
                </a:solidFill>
                <a:latin typeface="Calibri"/>
              </a:rPr>
              <a:t>......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3" name="Picture 5" descr="business concepts,businesses,characters,concepts,drawings,draws,happy faces,pencils,pens,people,smiley,smiley face,smiley faces,smileys,smilie,smilie face,smilie faces,smilies,smily,smily face,smily faces,smilys,writes,writings"/>
          <p:cNvPicPr/>
          <p:nvPr/>
        </p:nvPicPr>
        <p:blipFill>
          <a:blip r:embed="rId1"/>
          <a:stretch/>
        </p:blipFill>
        <p:spPr>
          <a:xfrm>
            <a:off x="6300720" y="3500280"/>
            <a:ext cx="2374920" cy="23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250920" y="1412640"/>
            <a:ext cx="8208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nteresējoties, mēģinot, iesaistoties dažādās aktivitātē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Regulāri pārdomājot, kā ir veicies un apkopojot pieredzi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mantojot pašizpētes grāmatas un metodikas 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Konsultējoties ar Karjeras konsultantu vai Psihologu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800" spc="-1" strike="noStrike">
                <a:solidFill>
                  <a:srgbClr val="006a7b"/>
                </a:solidFill>
                <a:latin typeface="Calibri"/>
              </a:rPr>
              <a:t>Iztaujājot draugus, ģimeni, radiniekus, skolotājus</a:t>
            </a: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spcAft>
                <a:spcPts val="1800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a7b"/>
              </a:solidFill>
              <a:latin typeface="Calibri"/>
            </a:endParaRPr>
          </a:p>
        </p:txBody>
      </p:sp>
      <p:sp>
        <p:nvSpPr>
          <p:cNvPr id="115" name="Rectangle 27"/>
          <p:cNvSpPr/>
          <p:nvPr/>
        </p:nvSpPr>
        <p:spPr>
          <a:xfrm>
            <a:off x="395280" y="549360"/>
            <a:ext cx="8229600" cy="9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KĀ IEGŪT INFORMĀCIJU PAR SEVI</a:t>
            </a:r>
            <a:r>
              <a:rPr b="0" lang="lv-LV" sz="3600" spc="-1" strike="noStrike">
                <a:solidFill>
                  <a:srgbClr val="006a7b"/>
                </a:solidFill>
                <a:latin typeface="Arial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6" descr="balances,balancing,boxes,business concepts,businesses,characters,concepts,juggles,juggling,packages,people,precarious"/>
          <p:cNvPicPr/>
          <p:nvPr/>
        </p:nvPicPr>
        <p:blipFill>
          <a:blip r:embed="rId1"/>
          <a:stretch/>
        </p:blipFill>
        <p:spPr>
          <a:xfrm>
            <a:off x="7524720" y="2924280"/>
            <a:ext cx="1440000" cy="144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55548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3498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600" spc="-1" strike="noStrike">
                <a:solidFill>
                  <a:srgbClr val="800080"/>
                </a:solidFill>
                <a:latin typeface="Calibri"/>
              </a:rPr>
              <a:t>LŪDZIET APKĀRTĒJIEM SNIEGT JUMS ATGRIEZENISKO SAITI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o tu uzskati par manām stiprajām pusēm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as man būt jāattīsta?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3200" spc="-1" strike="noStrike">
                <a:solidFill>
                  <a:srgbClr val="006a7b"/>
                </a:solidFill>
                <a:latin typeface="Calibri"/>
              </a:rPr>
              <a:t>Kādā profesijā, tavuprāt, es varētu likt lietā savas stiprās puses? </a:t>
            </a: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6a7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a7b"/>
              </a:solidFill>
              <a:latin typeface="Calibri"/>
            </a:endParaRPr>
          </a:p>
        </p:txBody>
      </p:sp>
      <p:pic>
        <p:nvPicPr>
          <p:cNvPr id="119" name="Picture 5" descr="business concepts,businesses,characters,concepts,flowers,gifts,giving,people,presents"/>
          <p:cNvPicPr/>
          <p:nvPr/>
        </p:nvPicPr>
        <p:blipFill>
          <a:blip r:embed="rId1"/>
          <a:srcRect l="0" t="25596" r="0" b="23235"/>
          <a:stretch/>
        </p:blipFill>
        <p:spPr>
          <a:xfrm>
            <a:off x="3059280" y="4508640"/>
            <a:ext cx="3241440" cy="16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3T12:41:07Z</dcterms:created>
  <dc:creator>rinalds</dc:creator>
  <dc:description/>
  <dc:language>en-US</dc:language>
  <cp:lastModifiedBy>Nora.Kaleja</cp:lastModifiedBy>
  <dcterms:modified xsi:type="dcterms:W3CDTF">2013-10-11T08:49:47Z</dcterms:modified>
  <cp:revision>343</cp:revision>
  <dc:subject/>
  <dc:title>Slide 1</dc:title>
</cp:coreProperties>
</file>