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4309-E97D-4F26-96B3-2DC0F9887B8E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2459-66AB-4C2F-AEB3-682D2A8BD2C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99DD-4EBC-4AC0-8DA2-F3902E84F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D753-8780-493E-A2F9-7093F5D4F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43D0-F340-4E15-AE3E-722BC5A0B94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CDFE-2160-4BFE-BCE0-809DE498473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D8D2-E5D3-42D7-A5F3-0AA11A76FD5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C3C0-035B-40AB-97EF-D89B3C39C87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832B-BDDC-4B2D-9677-D339206C48C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BA1D-EBFB-4C0D-910B-0F4F205B181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40EE-8380-48F4-93D2-AD6ED308C50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rāta vēt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8E06-5BCD-43D8-B7F6-403A313553F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6D6B-BD3F-482C-A74D-A2423684D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F941-8211-4DCA-BD04-BDBA057F4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35E6-1FDC-451F-A8B6-2E626842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90FE-CE34-48AF-9321-9B5B76622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79EE-8930-4066-A2ED-A5341F230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B301-205E-4668-ACAE-EA66C2515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C8C4-CBC5-47B0-BEA5-1FD2ECD8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97A9-891E-4A3F-9A84-3233C97F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504A-7FE8-4132-ADD8-C8870815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E5D9-68D7-45F3-942A-62531BE6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5A58-5BDE-4B49-90A6-5B7540F2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D85A-136F-45CB-8DEC-9549EB7F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9B15-BAAE-4390-BA3E-9ED7D612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D18D-CDCB-4534-B41A-B6536523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48EE-5A3D-4ADA-9B3A-85148D34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C8BE-1DD1-4D22-B5FF-D262E2AC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23FB-DE52-4105-AB1A-EB023D659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3BB4-07F1-405F-BD02-290CC00DD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096C-FCB0-4A7C-BB1B-DE7E276E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B81C-A311-4F48-99A2-0FF684BB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EE13-CFD0-4131-B8E8-E84665CD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DF8E-041D-4D69-8904-636CED51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B558-26C9-4C92-941E-56A4576A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1727-4BFB-4980-8891-51ACAD78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709A-DEAF-4232-A159-19B69682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44FA-2A0C-424A-A54E-250B5E74F626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1B55-B754-4DB5-B9A8-E22B9A0E1BFC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5.-7.klašu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vienveidīgus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258920" y="1700280"/>
          <a:ext cx="6769080" cy="1677960"/>
        </p:xfrm>
        <a:graphic>
          <a:graphicData uri="http://schemas.openxmlformats.org/drawingml/2006/table">
            <a:tbl>
              <a:tblPr/>
              <a:tblGrid>
                <a:gridCol w="3589200"/>
                <a:gridCol w="3179880"/>
              </a:tblGrid>
              <a:tr h="121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/uzdevum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patī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SMJU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06320" y="1700280"/>
          <a:ext cx="7993080" cy="1555560"/>
        </p:xfrm>
        <a:graphic>
          <a:graphicData uri="http://schemas.openxmlformats.org/drawingml/2006/table">
            <a:tbl>
              <a:tblPr/>
              <a:tblGrid>
                <a:gridCol w="3218040"/>
                <a:gridCol w="2327040"/>
                <a:gridCol w="2448000"/>
              </a:tblGrid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/uzdevum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patī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</a:t>
                      </a: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dod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713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400" spc="-1" strike="noStrike">
                <a:solidFill>
                  <a:srgbClr val="800080"/>
                </a:solidFill>
                <a:latin typeface="Calibri"/>
              </a:rPr>
              <a:t>KĀDĀS PROFESIJĀS NEPIECIEŠAMAS MANAS STIPRĀS PUSES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50920" y="1844640"/>
          <a:ext cx="8713800" cy="189072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94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stiprās pu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fesijas, kurās tās nepiecieša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ešvalodu zināšan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lks, tulkotājs, skolotājs, diplomāts, gids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Dažādu materiālu sagatavošana, kam nepieciešama informācijas vākšana un atlase, kā arī secinājumu izdarī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Mūsdienu informācijas tehnoloģiju izmanto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50920" y="1700280"/>
          <a:ext cx="8640720" cy="2927160"/>
        </p:xfrm>
        <a:graphic>
          <a:graphicData uri="http://schemas.openxmlformats.org/drawingml/2006/table">
            <a:tbl>
              <a:tblPr/>
              <a:tblGrid>
                <a:gridCol w="2879640"/>
                <a:gridCol w="3600360"/>
                <a:gridCol w="216072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stiprās pu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164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rbs ar dato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1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5260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6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intereses un stiprās puses saistās ar profesijā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6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inātnisko projek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8:19:39Z</dcterms:modified>
  <cp:revision>345</cp:revision>
  <dc:subject/>
  <dc:title>Slide 1</dc:title>
</cp:coreProperties>
</file>