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C5EB-1204-4D8F-875E-388D9D0A4CAA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5420-4F73-4CB9-A7EC-2D5A1EB65D6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930D-B483-4D21-98F1-D6A38137C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AA98-B0B3-4648-AE8E-74FE0C2F5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F95A-9959-4D7C-A86F-193C72C4CDA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003F-5533-4CCD-B085-089DD1D41C9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F573-8A8C-4A56-AD5E-5F7AEABF26D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F377-CD60-4E80-8E5A-26C3F27F95E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E890-3E45-40CC-BDD7-C206D7E82D1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6DF1-7E8A-477C-8C83-D4854AF5423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97CD-7884-4951-8A61-55DA9F76289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21A1-2985-448A-B48E-FDBBA2CBFEB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EEAF-5ACA-444A-B12B-BACF4B244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496-4C06-4B95-B0DB-4A609817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09B-607A-4606-9114-C26478CE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CC3E-1404-4AB7-AC0D-F4055182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E5C-B2FA-46D7-A753-EC87D5F9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0C73-148B-403A-8575-8471FC67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AAF5-ED60-4EB4-A01C-9D2C7545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A419-F9FD-4FF0-B4B4-16222C3F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1DD0-4C17-43FA-B3CA-79735E7E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F1E5-69ED-4859-807A-D637445A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3AC9-8DA3-4D12-A52E-E2F89163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A666-0DF3-441E-BF65-8EEF401E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3F7-E4C7-4F50-A279-E40D3330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DA0B-F91B-458F-B07B-B31E797F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D52C-F32F-4D57-B817-B2D95EA0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7C36-B811-40B0-877D-26A30648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3629-04C1-4C6F-B2DB-3E7B674A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07F6-F41B-4583-896F-360C5FD0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02BD-C794-4B3D-AF60-3C821822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F54B-FE22-4D0E-8E96-8AD980BE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641-56D9-493A-AEAB-9B23201A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5C9-C67D-4221-8950-A43161BC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300B-FFAD-4E36-AD78-BB98CAEB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E67-E144-4F15-A2FB-03B17BF0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44C0-982F-4E5E-9E42-516CF70C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DCF8-21A4-4494-906A-E5B040989A1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6141-4BB5-478F-9588-AE70933ED5A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-7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58920" y="1700280"/>
          <a:ext cx="6769080" cy="1677960"/>
        </p:xfrm>
        <a:graphic>
          <a:graphicData uri="http://schemas.openxmlformats.org/drawingml/2006/table">
            <a:tbl>
              <a:tblPr/>
              <a:tblGrid>
                <a:gridCol w="3589200"/>
                <a:gridCol w="3179880"/>
              </a:tblGrid>
              <a:tr h="12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SMJU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06320" y="1700280"/>
          <a:ext cx="7993080" cy="1555560"/>
        </p:xfrm>
        <a:graphic>
          <a:graphicData uri="http://schemas.openxmlformats.org/drawingml/2006/table">
            <a:tbl>
              <a:tblPr/>
              <a:tblGrid>
                <a:gridCol w="3218040"/>
                <a:gridCol w="2327040"/>
                <a:gridCol w="244800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</a:t>
                      </a: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dod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71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400" spc="-1" strike="noStrike">
                <a:solidFill>
                  <a:srgbClr val="800080"/>
                </a:solidFill>
                <a:latin typeface="Calibri"/>
              </a:rPr>
              <a:t>KĀDĀS PROFESIJĀS NEPIECIEŠAMAS MANAS STIPRĀS PUS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844640"/>
          <a:ext cx="8713800" cy="1890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ijas, kurās tās nepiecieša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ešvalodu zināša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lks, tulkotājs, skolotājs, diplomāts, gids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Dažādu materiālu sagatavošana, kam nepieciešama informācijas vākšana un atlase, kā arī secinājumu izdarī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Mūsdienu informācijas tehnoloģiju izmant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700280"/>
          <a:ext cx="8640720" cy="2927160"/>
        </p:xfrm>
        <a:graphic>
          <a:graphicData uri="http://schemas.openxmlformats.org/drawingml/2006/table">
            <a:tbl>
              <a:tblPr/>
              <a:tblGrid>
                <a:gridCol w="2879640"/>
                <a:gridCol w="3600360"/>
                <a:gridCol w="21607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1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6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intereses un stiprās puses saistās ar profesijā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6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inātnisko projek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19:39Z</dcterms:modified>
  <cp:revision>345</cp:revision>
  <dc:subject/>
  <dc:title>Slide 1</dc:title>
</cp:coreProperties>
</file>