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8.wmf" ContentType="image/x-wmf"/>
  <Override PartName="/ppt/media/image10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3417-A410-48BC-96D1-869B7D4CC162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F149-2F92-4E2F-950A-FB3EE068296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4784-034E-4E8B-BCAA-23C0B3613DD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AB4F-6ACF-4A22-AB41-4BB143FF1A6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8BBC-D821-4417-81B4-45B2FF496A0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3ADA-281C-42A2-A493-EA07BEF1F02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D4B3-7670-4765-BB18-F31988D846A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E98A-572A-4691-96B0-D0DC8C35819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CAA5-5939-4107-954C-FB5B6BC3564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6B7F-99A8-4602-BFB2-B43BC68F370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D455-703E-4DAC-88CF-AB7A90E8C0E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1C79-4E15-4693-B7DA-9B0121EB61F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F524-5DF5-46DA-BFEA-2A64979B4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rāta vēt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674A-A9A9-4A5D-AE6B-534D6B6D754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1F58-BEB7-45D2-AC29-D13BFCB9372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6092-A971-443D-8283-ED8EFB599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A0BD-74D3-4413-B5A2-C5A1D7E8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88B0-F5E7-4273-B06C-556602AF2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213A-948A-4F84-9A6E-F724F4930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BE83-582C-4F3B-9EA0-8B5F1F07D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774D-1371-4707-A59F-73F6AEF6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D5AE-AD8F-4FEF-A92D-B6803D32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C4C4-66EC-40FC-8692-4B9A3D96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1D00-91F4-4877-A713-AD038F55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EF7E-CD82-4F9E-B319-93D6A71B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9777-D9DC-48B5-B1DE-9BC7A8D0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ED0B-8DF1-42FD-B504-D19D6B2D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9A60-B673-40AA-8E6A-4EF61BDD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1B53-7E45-4D16-BEFB-8511F2F9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B88D-1A4F-4453-91AD-07807C9F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52FB-9412-4A7B-B3F5-A1748960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945F-6127-4FD2-95DD-FDE4F66A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C04D-60A3-4315-AE97-8D58993B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79B0-EF22-479C-B705-5F307B00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DDA1-C366-4668-8D79-865A8ED4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3D4F-D1FB-4F22-93AE-7249F282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1F86-BF21-454F-A7D1-BEF29500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F2A4-AE9C-475A-AA08-688DDB31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D10D-60F1-49BE-BB12-D2C848CE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82B9-4C77-4F91-B3DF-265F52BACEC5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4A17-43E5-4B3C-B8BE-A4BBB2D83992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jaunietim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vecāk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KT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68360" y="119700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468360" y="177336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ais personības tips ir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reāli domājoši; labprāt strādā roku darbu vai lieto instrumentus un ierīces, risina tehniskas dabas problēmas; rūpējas par augiem un dzīvniekiem, strādā ārā; labprātāk veic praktisku darbu nekā teorētisku, intelektuālu dar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ā vide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fiziskas darbības, darbs ar instrumentiem aparātiem, mašīnām; praktisku uzdevumu risināšana; nepieciešama roku veiklība un tehniskās zināša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MC900186084"/>
          <p:cNvPicPr/>
          <p:nvPr/>
        </p:nvPicPr>
        <p:blipFill>
          <a:blip r:embed="rId1"/>
          <a:stretch/>
        </p:blipFill>
        <p:spPr>
          <a:xfrm>
            <a:off x="7308720" y="4581360"/>
            <a:ext cx="1419480" cy="14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ZZINOŠ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468360" y="16286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od priekšroku pētnieciskai darbībai, lai novērotu, mācītos, analizētu un rastu problēmu risinājumus; raksturīga oriģinalitāte, zinātkāre, analītiskā domāšana; labāk patīk strādāt vienatnē vai vidē, kur nav jākontaktējas un jāsadarbojas ar daudz un dažādiem cilvēkiem, bieži trūkst organizatora ta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jānoskaidro dažādu parādību pamatā esošie iemesli un jāmeklē problēmu risinājums; darbs saistīts ar abstraktu ideju vai dabas un sociālo parādību izpēti, sakarību meklēšanu, jaunu teorētisko atziņu radīša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advice,answers,asking,cartoons,education,exclamation marks,iStockphoto,learning,librarians,professors,questions,solutions,students,wisdom"/>
          <p:cNvPicPr/>
          <p:nvPr/>
        </p:nvPicPr>
        <p:blipFill>
          <a:blip r:embed="rId1"/>
          <a:stretch/>
        </p:blipFill>
        <p:spPr>
          <a:xfrm>
            <a:off x="7524720" y="2637000"/>
            <a:ext cx="154800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ĀKSLINIEC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468360" y="1557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a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individuālists ar mākslinieciskiem talantiem, radošu domāšanu; labprāt izmanto iztēli un izsaka sevi oriģinālā un nesistemātiskā veidā; nepatīk vienveidība, stingrs darba režīms, darbs ar konkrētiem, precīzi definētiem darba uzdevumiem, instrukci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atklāta, brīva, ar nestrukturētām darba stundām, prasa iniciatīvu un radošu domāšanu; maksimāli novērtē personas mākslinieciskās un emocionālās izpausmes ve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artists,cartoonists,cartoons,entertainment,males,men,persons"/>
          <p:cNvPicPr/>
          <p:nvPr/>
        </p:nvPicPr>
        <p:blipFill>
          <a:blip r:embed="rId1"/>
          <a:srcRect l="0" t="5675" r="0" b="0"/>
          <a:stretch/>
        </p:blipFill>
        <p:spPr>
          <a:xfrm>
            <a:off x="7164360" y="4863960"/>
            <a:ext cx="153036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9528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OCI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68360" y="17002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labprāt strādā ar cilvēkiem, lai informētu, konsultētu, palīdzētu, izglītotu, rūpētos; raksturīgas labas saskarsmes iemaņas, bet nereti trūkt zinātniska un/vai tehniska darba iemaņu, priekšroku dod darbam ar cilvēkiem, nevis ar datiem, lietām vai ide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arbs saistīts ar atbalsta sniegšanu, sociālās labklājības vairošanu, citu cilvēku attīstīšanu un izglītoša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MC900383366"/>
          <p:cNvPicPr/>
          <p:nvPr/>
        </p:nvPicPr>
        <p:blipFill>
          <a:blip r:embed="rId1"/>
          <a:stretch/>
        </p:blipFill>
        <p:spPr>
          <a:xfrm>
            <a:off x="7020000" y="4653000"/>
            <a:ext cx="1890720" cy="159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ŅĒMĪG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g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špaļāvīgi, ekstraverti cilvēki, kuri labprāt uzņemas risku, pārliecina, vada un ietekmē cilvēkus, nodarbojas paši ar savu biznesu, sasniedz ievērojamu sociālo stāvokli; viņi dod priekšroku vadīt citus, nevis būt vadītiem; bieži pietrūkst zinātniskā darba iemaņ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bu rosinoša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orientācija uz sasniegumiem, konkurence; darbā nepieciešams vadīt un pārliecināt cilvēkus rīkoties, lai sasniegtu organizācijas, finanšu vai ekonomiskos mērķ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MC900383266"/>
          <p:cNvPicPr/>
          <p:nvPr/>
        </p:nvPicPr>
        <p:blipFill>
          <a:blip r:embed="rId1"/>
          <a:stretch/>
        </p:blipFill>
        <p:spPr>
          <a:xfrm>
            <a:off x="7524720" y="5013360"/>
            <a:ext cx="126360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NVENCION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95280" y="162864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tīk pedantisks, precīzs, detalizēts un sistemātisks darbs ar skaitļiem, datiem un informāciju nevis ar cilvēkiem, idejām vai lietām; neiebilst pret instrukciju saņemšanu no citiem cilvēkiem; dod priekšroku būt uzraudzītiem, nevis pašiem pieņemt lēmumus; bieži trūkst māksliniecisko spē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raksturīga darba organizācija un plānošana, darbs parasti tiek veikts birojā, ir saistīts ar datiem, pārskatiem, dokumentiem un prasa kārtību; visas darbības ir prognozējamas un atbilst pieņemtajai kārtī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MC900435981"/>
          <p:cNvPicPr/>
          <p:nvPr/>
        </p:nvPicPr>
        <p:blipFill>
          <a:blip r:embed="rId1"/>
          <a:stretch/>
        </p:blipFill>
        <p:spPr>
          <a:xfrm>
            <a:off x="7740720" y="3357720"/>
            <a:ext cx="119232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9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 ATBALSTĪT SAVU BĒRN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Stiprinot viņa/s izpratni pašam par sev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Sniedzot atgriezenisko sait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Attīstot viņa/s zināšanas par darb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Palīdzot viņam/i orientēties uz prasmēm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Uzticot ikdienas pienākumus un palīdzot attīstīt “strādāšanas” prasme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Atpazīstot un atbalstot aktivitātes, kurās bērns uzrāda labus rezultāt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Iedrošinot spert nākamo sol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4" name="Picture 5" descr="business concepts,businesses,capes,characters,concepts,flying,heroes,people,saves,savings,super heroes,superheroes,superman"/>
          <p:cNvPicPr/>
          <p:nvPr/>
        </p:nvPicPr>
        <p:blipFill>
          <a:blip r:embed="rId1"/>
          <a:stretch/>
        </p:blipFill>
        <p:spPr>
          <a:xfrm>
            <a:off x="7164360" y="4653000"/>
            <a:ext cx="16542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84358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MANĪGI PADOMĀJIET UN PABEIDZIET TEIKUMU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57000"/>
            <a:ext cx="82915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1. Mana bērna galvenās interese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2. Mans bērns ir intelektuāli spēcīgāks šādās jomās 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3. Manam bērnam ir ... dotības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4. Mans bērns spēj veikt šādus uzdevumus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5. Mana bērna spilgtākās rakstura īpašība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6. Mana bērna vājās puse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7" name="Picture 29" descr="1st,1st place,awards,business concepts,businesses,characters,concepts,firsts,number one,people,prizes,ribbons,winners,winnings,wins"/>
          <p:cNvPicPr/>
          <p:nvPr/>
        </p:nvPicPr>
        <p:blipFill>
          <a:blip r:embed="rId1"/>
          <a:stretch/>
        </p:blipFill>
        <p:spPr>
          <a:xfrm>
            <a:off x="7886880" y="1434960"/>
            <a:ext cx="122364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NODARBĪBAS MĒRĶI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68360" y="1557360"/>
            <a:ext cx="82803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zprast karjeras plānošanas nosacījum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emācīties analizēt bērna ikdienas pieredzi, lai labāk apzinātos viņa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Apzināt veidus, kā attīstīt bērna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50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924360" y="436572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77920" y="1424160"/>
            <a:ext cx="8686800" cy="48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arjeras plānošanas pamatnosacījum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Vecumposmu īpatnības karjeras plānošanas proces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ur un kā bērns iegūst informāciju par sev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 analizēt ikdienas pieredz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Dž. Hollanda karjeras teorij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 atbalstīt savu bērn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PLĀNOŠANAS NOSACĪJUM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96" name="Group 13"/>
          <p:cNvGrpSpPr/>
          <p:nvPr/>
        </p:nvGrpSpPr>
        <p:grpSpPr>
          <a:xfrm>
            <a:off x="539640" y="1557360"/>
            <a:ext cx="8115480" cy="4775040"/>
            <a:chOff x="539640" y="1557360"/>
            <a:chExt cx="8115480" cy="4775040"/>
          </a:xfrm>
        </p:grpSpPr>
        <p:pic>
          <p:nvPicPr>
            <p:cNvPr id="97" name="Picture 2" descr="C:\Users\Nora.Kaleja\Desktop\Picture1.png"/>
            <p:cNvPicPr/>
            <p:nvPr/>
          </p:nvPicPr>
          <p:blipFill>
            <a:blip r:embed="rId1"/>
            <a:srcRect l="18135" t="1702" r="22935" b="-409"/>
            <a:stretch/>
          </p:blipFill>
          <p:spPr>
            <a:xfrm>
              <a:off x="2721240" y="2291760"/>
              <a:ext cx="3407040" cy="29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ounded Rectangular Callout 11"/>
            <p:cNvSpPr/>
            <p:nvPr/>
          </p:nvSpPr>
          <p:spPr>
            <a:xfrm>
              <a:off x="900000" y="1917720"/>
              <a:ext cx="1563480" cy="1296720"/>
            </a:xfrm>
            <a:prstGeom prst="wedgeRoundRectCallout">
              <a:avLst>
                <a:gd name="adj1" fmla="val 97851"/>
                <a:gd name="adj2" fmla="val 46365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MA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INTERES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ĒLM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ĒRTĪB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ounded Rectangular Callout 12"/>
            <p:cNvSpPr/>
            <p:nvPr/>
          </p:nvSpPr>
          <p:spPr>
            <a:xfrm>
              <a:off x="6299280" y="1557360"/>
              <a:ext cx="2355840" cy="1726920"/>
            </a:xfrm>
            <a:prstGeom prst="wedgeRoundRectCallout">
              <a:avLst>
                <a:gd name="adj1" fmla="val -80805"/>
                <a:gd name="adj2" fmla="val 43217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MA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ASM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ZINĀŠAN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RAKSTURA ĪPAŠĪB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ESELĪBAS STĀVOKLI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FINANSIĀLĀS IE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ounded Rectangular Callout 13"/>
            <p:cNvSpPr/>
            <p:nvPr/>
          </p:nvSpPr>
          <p:spPr>
            <a:xfrm>
              <a:off x="539640" y="4076640"/>
              <a:ext cx="2808360" cy="2232000"/>
            </a:xfrm>
            <a:prstGeom prst="wedgeRoundRectCallout">
              <a:avLst>
                <a:gd name="adj1" fmla="val 67217"/>
                <a:gd name="adj2" fmla="val -33148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DARBA TIRG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OFESIJU “+” un “-”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DARBA VID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IEPRASĪJUMS un PROGNOZ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ATALGOJUMS UN IZAUGSMES IE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NODARBINĀTĪBAS VEID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DARBA MEKLĒŠAN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ounded Rectangular Callout 14"/>
            <p:cNvSpPr/>
            <p:nvPr/>
          </p:nvSpPr>
          <p:spPr>
            <a:xfrm>
              <a:off x="5724720" y="4149720"/>
              <a:ext cx="2844720" cy="2182680"/>
            </a:xfrm>
            <a:prstGeom prst="wedgeRoundRectCallout">
              <a:avLst>
                <a:gd name="adj1" fmla="val -75912"/>
                <a:gd name="adj2" fmla="val -37037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IZGLĪTĪBAS IESPĒJ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OFESIONĀLĀS KVALIFIKĀCIJAS  UN IZGLĪTĪBAS LĪMEŅ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MĀCĪBU SATU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IESTĀŠANĀS NOTEIKUM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MĀCĪBU ILGUMS UN VIET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FINANSIĀLAIS IEGULDĪJU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PLĀNOŠANAS PROCESA POSM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50560" y="1989000"/>
            <a:ext cx="64818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Vecums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Posms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  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4 - 10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fantāzij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1 - 12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intereš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3 - 14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spēj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4 - 15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vērtīb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6 - 17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pārejas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6" descr="advancements,advances,business concepts,businesses,characters,climbing,concepts,people,promotions,running,staircases,stairs,stairways,steps,ups"/>
          <p:cNvPicPr/>
          <p:nvPr/>
        </p:nvPicPr>
        <p:blipFill>
          <a:blip r:embed="rId1"/>
          <a:srcRect l="0" t="0" r="4000" b="0"/>
          <a:stretch/>
        </p:blipFill>
        <p:spPr>
          <a:xfrm>
            <a:off x="179280" y="4149720"/>
            <a:ext cx="17971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80"/>
                </a:solidFill>
                <a:latin typeface="Calibri"/>
              </a:rPr>
              <a:t>KARJERAS PLĀNOŠANA</a:t>
            </a: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 SOĻI – KO JAUNIETIS VAR DARĪT JAU ŠODI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zināt sevi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pētīt profesijas un izglītības iespējas</a:t>
            </a:r>
            <a:r>
              <a:rPr b="0" lang="lv-LV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Pieņemt lēmumu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cxnSp>
        <p:nvCxnSpPr>
          <p:cNvPr id="107" name="Straight Arrow Connector 5"/>
          <p:cNvCxnSpPr/>
          <p:nvPr/>
        </p:nvCxnSpPr>
        <p:spPr>
          <a:xfrm>
            <a:off x="1547280" y="227628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08" name="Straight Arrow Connector 6"/>
          <p:cNvCxnSpPr/>
          <p:nvPr/>
        </p:nvCxnSpPr>
        <p:spPr>
          <a:xfrm>
            <a:off x="2843280" y="400500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09" name="Picture 8" descr="business,businessmen,choices,choosing,deciding,decisions,doors,keyholes,locks,males,metaphors,people,persons,skeleton keys"/>
          <p:cNvPicPr/>
          <p:nvPr/>
        </p:nvPicPr>
        <p:blipFill>
          <a:blip r:embed="rId1"/>
          <a:stretch/>
        </p:blipFill>
        <p:spPr>
          <a:xfrm>
            <a:off x="3492360" y="5084640"/>
            <a:ext cx="151128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nteresē – un kāpēc tas viņu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m/-i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padodas tas, kas viņu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m/-i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nteresē tas, kas viņam/-i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erobežo? 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balsta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ādas ir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/-s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ērtīb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o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š/-a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gribu sasniegt nākotn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1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JAUNIET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5760" y="146952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askarsmē ar pieaugušaj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.....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5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541920" y="414972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Ž. HOLLANDA TIPOLOĢIJ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68360" y="134136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250920" y="1413000"/>
            <a:ext cx="8748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r izdalīt sešus personību tipus un sešus darba vides/profesiju pamattipus, kas atbilst katram no iepriekš minētajiem personību tip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Prakt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Izzinoš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Māksliniec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Sociāl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Uzņēmīg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Konvencionālo tip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Cilvēks savai profesionālai darbībai meklē tādu vidi, kurā viņš spētu atklāt savu personību, parādīt un attīstīt savas prasmes un spējas, paust savu attieksmi un vērtējumu, kā arī – pieņemt noteikumus, kurus izvirza konkrētais profesionālās darbības veid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9:37:30Z</dcterms:modified>
  <cp:revision>326</cp:revision>
  <dc:subject/>
  <dc:title>Slide 1</dc:title>
</cp:coreProperties>
</file>