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7.wmf" ContentType="image/x-wmf"/>
  <Override PartName="/ppt/media/image11.jpeg" ContentType="image/jpeg"/>
  <Override PartName="/ppt/media/image8.png" ContentType="image/png"/>
  <Override PartName="/ppt/media/image7.png" ContentType="image/png"/>
  <Override PartName="/ppt/media/image1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wmf" ContentType="image/x-wmf"/>
  <Override PartName="/ppt/media/image18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14.wmf" ContentType="image/x-wmf"/>
  <Override PartName="/ppt/media/image6.png" ContentType="image/png"/>
  <Override PartName="/ppt/media/image1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50E0F-CF7F-49DF-9148-19E2A837911E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E01A-5FC5-40EB-A56B-867CEC17D8E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061FA-F2FA-4EA8-91EA-B77FE6AE13B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836FD8-9B88-4A74-A593-93522F5FF9FB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17A52-8D75-4A81-B0C5-9B824D7BB40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D9B74-EB85-4C96-A151-DB41AD75D0B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C0A2-3ACB-443E-9B51-78C9818706F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4A03-CC5D-4FB1-898B-8705DEDC8931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6878E-6D6B-4FAA-A0E4-3D52BA50300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3ED3E-AE00-4C75-8D30-1D5D1E8554A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D6AE4-C7DF-40C8-8737-BB54A587A0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8D5D4-34BF-442A-A286-D83765368E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9EF169-4DF7-4B89-A168-82407ABBA4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BAE2B-7BD6-4B77-87B8-4D084C6568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20DA0-3A1B-42DD-87B2-378D32C6DCF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359A9-4040-432A-89E6-7D050C819E8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BE5CD-FE80-4F74-B827-438622A0987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18D96C-A97E-4C02-929D-3CF6C99B351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AF6B1-B68C-46DB-81B5-C398EF90B88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96DA-B8EE-4193-9E60-486EBCB86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E93B1-018C-49A9-8EB2-9CB4CEC62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26DE1-721B-49E7-98D7-7972FC5FB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31F33-B21B-4874-B717-82A9DAC05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8CF9-D529-4B47-A9E9-181DAB4FD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522F0-E41B-46D3-AAF1-353A98502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123E-BF90-482B-A9F4-C55D3AA9D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5AE69-6A49-4F27-B992-7E303248E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9A76-9912-474E-8FCF-82909AD71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15E4E-B4AD-4F4F-8FF6-2B4A5C912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7B4FE-4A23-463F-BD4D-8ABBCAB2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38A2-A593-4089-AECC-C9EE69604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9F6E9-A2B1-49D1-BEA8-1A36334D8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1CC36-A181-47B6-B380-C1E6248A2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32133-ED3E-4C0B-B42A-ED7855EAD2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4FE7-ABCF-4C36-AC1D-25BE3CCA9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6BCBF-083D-45D1-9E48-BF7E1E289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9FA1-BDD6-4079-A9EE-B0D03E70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BAA-3BED-4053-BD1F-EC50C966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23E2-B9B5-4338-B985-824EAD42E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69639-9D21-4D1D-9E74-4E527E772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924F8-5765-4202-B049-103D9CF6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56B7-86C0-4CA4-A8F4-9F680432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823E-9788-4025-9720-09F992D85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98C4-9AE6-42F2-A744-95B4EA78D154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E6049-2A67-4898-8A0C-0BD8B46B4191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nva.gov.lv/karjera/testi/lv/selfcheck_b/test/new_test/" TargetMode="External"/><Relationship Id="rId2" Type="http://schemas.openxmlformats.org/officeDocument/2006/relationships/hyperlink" Target="http://www.niid.lv/tests/testi/tests4_1.php" TargetMode="External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idus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METODIKAS INTERNETĀ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ašnoteicējs jauniešiem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odarbinātības valsts aģentūras mājas lapas sadaļā „Karjeras pakalpojum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nva.gov.lv/karjera/testi/lv/selfcheck_b/test/new_test/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Personības tests</a:t>
            </a: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 (Nacionālās izglītības iespēju datubāzes sadaļā „Karjeras izvēles testi”):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www.niid.lv/tests/testi/tests4_1.php</a:t>
            </a: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6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47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8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6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rutīnveida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7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tor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68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55736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21:25Z</dcterms:modified>
  <cp:revision>340</cp:revision>
  <dc:subject/>
  <dc:title>Slide 1</dc:title>
</cp:coreProperties>
</file>