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90788-2F8A-43BA-BCFF-DC57981200FA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C130-04C5-4B68-B427-6602B807A89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3580C-9667-4D4C-92CC-9F79DFC9073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8D8CB-8721-4F14-B19F-74E94CD06C3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B75AA-71A7-40E3-8461-3A7102750CC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CE9B9-20CD-4916-AD26-0C1E84750FA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49DB3-4550-484D-9252-A8C10170454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627A-DE7D-468D-845F-90495EB2C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4C0E-A71F-4468-A28C-3C9B2A38E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1A81-BE5F-482C-901E-BF509D727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7BB7-F410-46EE-9063-BEF3D994D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07B18-75E3-4589-AB23-939FF7959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4E71F-1BCE-4A5A-8912-D29A2BED4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CAE25-28A9-41D6-A6B1-A878D5F64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A3403-7582-47A1-A870-DAEA74343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3F178-8389-4864-A886-7682A063F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EBBCD-2628-4A3D-9EE0-0ABBBA8A7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D4778-D638-48AE-8010-D90DB977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4C2E-ACFC-46E0-BCCB-ABD7B67CD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75E35-3B8C-44D2-85A7-1710334F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40988-1033-4A47-A9B7-6D52BED8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C1056-7FB8-49E8-B105-315C6F0E4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FFA45-83B0-4DBA-87D3-AD2DB9A43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94628-06A4-4CB8-91CE-64AFD5D95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D9D2-5C28-40B6-B0FA-91222BF3E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0525-EA37-470C-B933-892EB4D81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7042-D53A-4E38-A408-795553E78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0B79-E033-4DAB-B8F8-E4F05403A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5D72-8332-4129-852E-E7080A3F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3C8E-665D-4FC1-A333-0D098EAF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9C5B-B938-45A4-972F-DCDA0104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3E608-1BF9-4ECB-ADE2-58EE04FBD836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F8AB9-42BE-4C0B-B20A-86A0D06C1DB9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4.bp.blogspot.com/-bc28VhVz2zE/Ttu4tpzhPSI/AAAAAAAACmo/57J5t0bgZmc/s1600/Non-effective_listening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39304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Ā INTERVĒT DARBA DEVĒJU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TBALSTS DARBAM AR 5. -7. KLASES 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68360" y="1557360"/>
            <a:ext cx="8207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saki paldies par tev veltīto laik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lūdz ieteikt vēl kādu, kurš varētu tev pastāstīt par nozari vai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ēc intervijas pieraksti iegūtās atziņa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domā, ko esi uzzinājis un kā to izmantot savas karjeras plānošanai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31640" y="47592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O DARĪT PĒC INTERVIJA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3" name="Picture 7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6804000" y="458136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ības vēstule ir būtiska biznesa etiķetes sastāvdaļa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oties par tev veltīto laiku un atbalstu, tu parādi, ka proti novērtēt pūles un radi labu priekšstatu par sevi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26" name="Picture 5" descr="business,gestures,greetings,meetings,men,people,shaking hands,women"/>
          <p:cNvPicPr/>
          <p:nvPr/>
        </p:nvPicPr>
        <p:blipFill>
          <a:blip r:embed="rId1"/>
          <a:stretch/>
        </p:blipFill>
        <p:spPr>
          <a:xfrm>
            <a:off x="3419640" y="4581360"/>
            <a:ext cx="2087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12480" y="1428840"/>
            <a:ext cx="8507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dresāta vārds, uzvārds datīvā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Uzņēmuma nosaukums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mats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.god. .............. k-gs/ Ļ.cien. .......... K-dze!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1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pateicies intervētajai personai par palīdzību un tev atvēlēto laiku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2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īsumā apraksti, kāpēc gūtā pieredze tev ir svarīga. Piemini dažas no gūtajām atziņām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r cieņu,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Vārds, uzvārds) 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......................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paraksts)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31" name="Picture 5" descr="checklists,clipboards,clipped images,cropped images,cropped pictures,households,icons,lists,office supplies,offices,pencils,PNG,things to do,to do,to do list,to do lists,transparent background,web elements"/>
          <p:cNvPicPr/>
          <p:nvPr/>
        </p:nvPicPr>
        <p:blipFill>
          <a:blip r:embed="rId1"/>
          <a:srcRect l="27922" t="30248" r="27899" b="27899"/>
          <a:stretch/>
        </p:blipFill>
        <p:spPr>
          <a:xfrm>
            <a:off x="3995640" y="4452840"/>
            <a:ext cx="18716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prast darba devēja intervijas mērķus un iegūstamo informāc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veidot intervijas jautājumu krāju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gūt intervijas etiķe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business concepts,businesses,Communications,concepts,correspondences,icons,people,speech balloons,speech bubbles,speeches,symbols,talking"/>
          <p:cNvPicPr/>
          <p:nvPr/>
        </p:nvPicPr>
        <p:blipFill>
          <a:blip r:embed="rId1"/>
          <a:srcRect l="0" t="10524" r="0" b="10524"/>
          <a:stretch/>
        </p:blipFill>
        <p:spPr>
          <a:xfrm>
            <a:off x="3203640" y="4292640"/>
            <a:ext cx="2736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792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TU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39640" y="1557360"/>
            <a:ext cx="84250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pēc intervēt darba devē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du informāciju var iegūt no darba devē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«jautājumu bankas» izve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etiķe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NTERVĒT DARBA DEVĒJ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98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7040" y="476280"/>
            <a:ext cx="84362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VARI UZZINĀT, INTERVĒJOT DARBA DEVĒJU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1789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 un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vadītāja profesij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4" name="Picture 5" descr="co-workers,cubicles,men,office,office staff,offices,people,people at work,staffs,women,occupations"/>
          <p:cNvPicPr/>
          <p:nvPr/>
        </p:nvPicPr>
        <p:blipFill>
          <a:blip r:embed="rId1"/>
          <a:srcRect l="0" t="20933" r="0" b="20909"/>
          <a:stretch/>
        </p:blipFill>
        <p:spPr>
          <a:xfrm>
            <a:off x="5445000" y="4653000"/>
            <a:ext cx="3591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8000" y="500040"/>
            <a:ext cx="8928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VEIDOSIM INTERVIJAS JAUTĀJUMU “BANKU”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79280" y="155736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domājiet pēc iespējas vairāk jautājumu, kurus uzdot darba devējam, lai uzzinātu par: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 un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NEPIECIEŠAMS, LAI INTERVIJA IZDOTO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989000"/>
            <a:ext cx="619272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Sagatavoti jautājumi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Laba klausī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einteresētība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Atbilstošs izskats un izturē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grpSp>
        <p:nvGrpSpPr>
          <p:cNvPr id="109" name="Group 7"/>
          <p:cNvGrpSpPr/>
          <p:nvPr/>
        </p:nvGrpSpPr>
        <p:grpSpPr>
          <a:xfrm>
            <a:off x="5148360" y="3500280"/>
            <a:ext cx="3600360" cy="2592720"/>
            <a:chOff x="5148360" y="3500280"/>
            <a:chExt cx="3600360" cy="2592720"/>
          </a:xfrm>
        </p:grpSpPr>
        <p:pic>
          <p:nvPicPr>
            <p:cNvPr id="110" name="Picture 7" descr="http://4.bp.blogspot.com/-bc28VhVz2zE/Ttu4tpzhPSI/AAAAAAAACmo/57J5t0bgZmc/s320/Non-effective_listening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148360" y="3500280"/>
              <a:ext cx="3600360" cy="25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Oval 5"/>
            <p:cNvSpPr/>
            <p:nvPr/>
          </p:nvSpPr>
          <p:spPr>
            <a:xfrm>
              <a:off x="5589360" y="3500280"/>
              <a:ext cx="15145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100" spc="-1" strike="noStrike">
                  <a:solidFill>
                    <a:srgbClr val="000000"/>
                  </a:solidFill>
                  <a:latin typeface="Calibri"/>
                </a:rPr>
                <a:t>Vai viņš vispār klausās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6"/>
            <p:cNvSpPr/>
            <p:nvPr/>
          </p:nvSpPr>
          <p:spPr>
            <a:xfrm>
              <a:off x="7292880" y="3500280"/>
              <a:ext cx="13237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200" spc="-1" strike="noStrike">
                  <a:solidFill>
                    <a:srgbClr val="000000"/>
                  </a:solidFill>
                  <a:latin typeface="Calibri"/>
                </a:rPr>
                <a:t>Blā, blā, blā, blā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Straight Connector 11"/>
          <p:cNvSpPr/>
          <p:nvPr/>
        </p:nvSpPr>
        <p:spPr>
          <a:xfrm flipH="1">
            <a:off x="4932000" y="3645000"/>
            <a:ext cx="4032360" cy="2448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3"/>
          <p:cNvSpPr/>
          <p:nvPr/>
        </p:nvSpPr>
        <p:spPr>
          <a:xfrm flipH="1" flipV="1">
            <a:off x="4932000" y="3715920"/>
            <a:ext cx="4032360" cy="23050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24000" y="1483920"/>
            <a:ext cx="8496000" cy="37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lasi visu, ko vari par uzņēmumu un nozari, kurā tas darboja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Nospraud intervijas mērķi – ko gribi uzzināt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Atlasi no «jautājumu bankas» tos jautājumus, kuri palīdzēs sasniegt intervijas mērķi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Sagatavo pieraksta papīru un pildspalvu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7" name="Picture 7" descr="books,covers,files,notes,paper clips,papers,pencils,readings"/>
          <p:cNvPicPr/>
          <p:nvPr/>
        </p:nvPicPr>
        <p:blipFill>
          <a:blip r:embed="rId1"/>
          <a:stretch/>
        </p:blipFill>
        <p:spPr>
          <a:xfrm>
            <a:off x="7596360" y="141300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78920" y="1341000"/>
            <a:ext cx="882036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Pieraksti intervējamās personas vārdu, uzvārdu un amatu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skaidro, kur notiks intervija un kā tur nokļūt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ekavē, taču neierodies arī pārāk savlaicīg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teikti informē, ja nevarēsi ierasties vai kavēs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Ievēro uzņēmuma iekšējās kārtības noteikumus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74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00000"/>
                </a:solidFill>
                <a:latin typeface="Calibri"/>
              </a:rPr>
              <a:t>Atceries, ka tu jau tagad veido savu darbinieka reputāciju!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3657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0" name="Picture 5" descr="agreements,businesses,conversations,customers,executives,greeting,handshakes,meeting,negotiations,partnership,professionals,silhouettes,PresentationPro"/>
          <p:cNvPicPr/>
          <p:nvPr/>
        </p:nvPicPr>
        <p:blipFill>
          <a:blip r:embed="rId1"/>
          <a:srcRect l="11629" t="4652" r="11606" b="11606"/>
          <a:stretch/>
        </p:blipFill>
        <p:spPr>
          <a:xfrm>
            <a:off x="1332000" y="5516640"/>
            <a:ext cx="10969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21T08:45:39Z</dcterms:modified>
  <cp:revision>349</cp:revision>
  <dc:subject/>
  <dc:title>Slide 1</dc:title>
</cp:coreProperties>
</file>