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D959F-9E35-44E4-A606-62D5931FD71B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7C2C5-55DC-4EA6-9FF3-488795C1A2B4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D3B27-7BBF-4E01-ABE3-A3265424485B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DEBD4-4C12-4F61-A5A9-07A8E555E64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15993-B717-4F19-B60D-1B939E1FC93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BFCBF-2654-4E3B-949A-E536C2900A5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EA2E7-784A-417C-9262-1044B1F021B0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5297-0B3C-4709-BBB8-263BC69BF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D88E-959D-42CF-A24D-B3B8C1BEA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7825-63E9-46DE-9D6C-5B27723EC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395D-6C4E-4F23-B5C1-820AD1341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36D57-17E6-41A1-9E9C-3F633EC35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3B0DA-C1A6-4D30-B0B1-1860876A7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43F08-4699-4947-AE89-F65A74121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17EEE-57B1-4B22-9B8C-409B93FD5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48164-18BE-4016-BEEC-E67BDBF62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EA70C-0121-49BC-BEEA-ACAB8854D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F8D30-F23D-4055-A683-5E1EEE9AC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1F07-FC50-45B7-9913-80AD0B251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1731D-C983-4DB0-BE54-DB531D87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7059C-976B-46A1-9C4A-CAD8FA0F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4D07D-78DC-40EB-9985-30E9B8277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075B4-ABB7-457F-9441-C397F2AFB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6F3EF-0675-4135-B6C7-1BED1C660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F20C-AE5B-4E3E-9BA3-C183DFADF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5552-DE77-4A0B-A064-5910A4B9B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B457-F7E6-4396-9A3B-8A183F4F5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D0EC-66BE-4EBA-AA6B-64303A22F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832F-A3A9-4C4B-8B41-C6D9C52C5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4A78-B1B2-4CE9-AA49-8E3AD28B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B620-B91C-4133-AE93-F1489E9B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7FA2F-B43D-4265-BDE8-5E7CE592D598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0AAFF-7582-430A-ABE3-BB66B18AF016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4.bp.blogspot.com/-bc28VhVz2zE/Ttu4tpzhPSI/AAAAAAAACmo/57J5t0bgZmc/s1600/Non-effective_listening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2160" y="39304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Ā INTERVĒT DARBA DEVĒJU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TBALSTS DARBAM AR VIDUSSKOLĒN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78920" y="1341000"/>
            <a:ext cx="8820360" cy="34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Pieraksti intervējamās personas vārdu, uzvārdu un amatu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oskaidro, kur notiks intervija un kā tur nokļūt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ekavē, taču neierodies arī pārāk savlaicīgi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oteikti informē, ja nevarēsi ierasties vai kavēsi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Ievēro uzņēmuma iekšējās kārtības noteikumus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74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00000"/>
                </a:solidFill>
                <a:latin typeface="Calibri"/>
              </a:rPr>
              <a:t>Atceries, ka tu jau tagad veido savu darbinieka reputāciju!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lvl="1" marL="3657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3" name="Picture 5" descr="agreements,businesses,conversations,customers,executives,greeting,handshakes,meeting,negotiations,partnership,professionals,silhouettes,PresentationPro"/>
          <p:cNvPicPr/>
          <p:nvPr/>
        </p:nvPicPr>
        <p:blipFill>
          <a:blip r:embed="rId1"/>
          <a:srcRect l="11629" t="4652" r="11606" b="11606"/>
          <a:stretch/>
        </p:blipFill>
        <p:spPr>
          <a:xfrm>
            <a:off x="1332000" y="5516640"/>
            <a:ext cx="10969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68360" y="1557360"/>
            <a:ext cx="82072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saki paldies par tev veltīto laik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lūdz ieteikt vēl kādu, kurš varētu tev pastāstīt par nozari vai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ēc intervijas pieraksti iegūtās atziņa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ārdomā, ko esi uzzinājis un kā to izmantot savas karjeras plānošanai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31640" y="475920"/>
            <a:ext cx="8229600" cy="84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O DARĪT PĒC INTERVIJAS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6" name="Picture 7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6804000" y="4581360"/>
            <a:ext cx="16556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ības vēstule ir būtiska biznesa etiķetes sastāvdaļa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oties par tev veltīto laiku un atbalstu, tu parādi, ka proti novērtēt pūles un radi labu priekšstatu par sevi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29" name="Picture 5" descr="business,gestures,greetings,meetings,men,people,shaking hands,women"/>
          <p:cNvPicPr/>
          <p:nvPr/>
        </p:nvPicPr>
        <p:blipFill>
          <a:blip r:embed="rId1"/>
          <a:stretch/>
        </p:blipFill>
        <p:spPr>
          <a:xfrm>
            <a:off x="3419640" y="4581360"/>
            <a:ext cx="20872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12480" y="1428840"/>
            <a:ext cx="85071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dresāta vārds, uzvārds datīvā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Uzņēmuma nosaukums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mats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.god. .............. k-gs/ Ļ.cien. .......... K-dze!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1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pateicies intervētajai personai par palīdzību un tev atvēlēto laiku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2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īsumā apraksti, kāpēc gūtā pieredze tev ir svarīga. Piemini dažas no gūtajām atziņām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r cieņu,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Vārds, uzvārds) 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......................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paraksts)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34" name="Picture 5" descr="checklists,clipboards,clipped images,cropped images,cropped pictures,households,icons,lists,office supplies,offices,pencils,PNG,things to do,to do,to do list,to do lists,transparent background,web elements"/>
          <p:cNvPicPr/>
          <p:nvPr/>
        </p:nvPicPr>
        <p:blipFill>
          <a:blip r:embed="rId1"/>
          <a:srcRect l="27922" t="30248" r="27899" b="27899"/>
          <a:stretch/>
        </p:blipFill>
        <p:spPr>
          <a:xfrm>
            <a:off x="3995640" y="4452840"/>
            <a:ext cx="187164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55760" y="170028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prast darba devēja intervijas mērķus un iegūstamo informāci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veidot intervijas jautājumu krāju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gūt intervijas etiķe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business concepts,businesses,Communications,concepts,correspondences,icons,people,speech balloons,speech bubbles,speeches,symbols,talking"/>
          <p:cNvPicPr/>
          <p:nvPr/>
        </p:nvPicPr>
        <p:blipFill>
          <a:blip r:embed="rId1"/>
          <a:srcRect l="0" t="10524" r="0" b="10524"/>
          <a:stretch/>
        </p:blipFill>
        <p:spPr>
          <a:xfrm>
            <a:off x="3203640" y="4292640"/>
            <a:ext cx="2736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792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TUR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539640" y="1557360"/>
            <a:ext cx="84250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pēc intervēt darba devē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du informāciju var iegūt no darba devē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ntervijas «jautājumu bankas» izve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ntervijas etiķe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4935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NTERVĒT DARBA DEVĒJU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98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AS IR DARBA DEVĒJS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Uzņēmējs, uzņēmuma īpašniek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Uzņēmuma valdes loceklis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Vadītājs (uzņēmuma, nodaļas, filiāles)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ersonāla daļas speciālist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4" name="Picture 5" descr="iCLIPART, silhouettes, women, men, people, teamwork, plannings, leaders, brainstorming, community, cooperation, lifestyle, city, business concepts, corporate"/>
          <p:cNvPicPr/>
          <p:nvPr/>
        </p:nvPicPr>
        <p:blipFill>
          <a:blip r:embed="rId1"/>
          <a:srcRect l="0" t="24131" r="0" b="8420"/>
          <a:stretch/>
        </p:blipFill>
        <p:spPr>
          <a:xfrm>
            <a:off x="2124000" y="4221000"/>
            <a:ext cx="341640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7040" y="476280"/>
            <a:ext cx="84362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VARI UZZINĀT, INTERVĒJOT DARBA DEVĒJU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360" y="155736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vadītāja profesij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7" name="Picture 5" descr="co-workers,cubicles,men,office,office staff,offices,people,people at work,staffs,women,occupations"/>
          <p:cNvPicPr/>
          <p:nvPr/>
        </p:nvPicPr>
        <p:blipFill>
          <a:blip r:embed="rId1"/>
          <a:srcRect l="0" t="20933" r="0" b="20909"/>
          <a:stretch/>
        </p:blipFill>
        <p:spPr>
          <a:xfrm>
            <a:off x="5445000" y="4653000"/>
            <a:ext cx="35910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8000" y="500040"/>
            <a:ext cx="8928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VEIDOSIM INTERVIJAS JAUTĀJUMU “BANKU”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79280" y="155736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domājiet pēc iespējas vairāk jautājumu, kurus uzdot darba devējam, lai uzzinātu par: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NEPIECIEŠAMS, LAI INTERVIJA IZDOTO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24000" y="1989000"/>
            <a:ext cx="619272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Sagatavoti jautājumi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Laba klausī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einteresētība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Atbilstošs izskats un izturē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grpSp>
        <p:nvGrpSpPr>
          <p:cNvPr id="112" name="Group 7"/>
          <p:cNvGrpSpPr/>
          <p:nvPr/>
        </p:nvGrpSpPr>
        <p:grpSpPr>
          <a:xfrm>
            <a:off x="5148360" y="3500280"/>
            <a:ext cx="3600360" cy="2592720"/>
            <a:chOff x="5148360" y="3500280"/>
            <a:chExt cx="3600360" cy="2592720"/>
          </a:xfrm>
        </p:grpSpPr>
        <p:pic>
          <p:nvPicPr>
            <p:cNvPr id="113" name="Picture 7" descr="http://4.bp.blogspot.com/-bc28VhVz2zE/Ttu4tpzhPSI/AAAAAAAACmo/57J5t0bgZmc/s320/Non-effective_listening.jpg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5148360" y="3500280"/>
              <a:ext cx="3600360" cy="25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Oval 5"/>
            <p:cNvSpPr/>
            <p:nvPr/>
          </p:nvSpPr>
          <p:spPr>
            <a:xfrm>
              <a:off x="5589360" y="3500280"/>
              <a:ext cx="15145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100" spc="-1" strike="noStrike">
                  <a:solidFill>
                    <a:srgbClr val="000000"/>
                  </a:solidFill>
                  <a:latin typeface="Calibri"/>
                </a:rPr>
                <a:t>Vai viņš vispār klausās?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6"/>
            <p:cNvSpPr/>
            <p:nvPr/>
          </p:nvSpPr>
          <p:spPr>
            <a:xfrm>
              <a:off x="7292880" y="3500280"/>
              <a:ext cx="13237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200" spc="-1" strike="noStrike">
                  <a:solidFill>
                    <a:srgbClr val="000000"/>
                  </a:solidFill>
                  <a:latin typeface="Calibri"/>
                </a:rPr>
                <a:t>Blā, blā, blā, blā.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Straight Connector 11"/>
          <p:cNvSpPr/>
          <p:nvPr/>
        </p:nvSpPr>
        <p:spPr>
          <a:xfrm flipH="1">
            <a:off x="4932000" y="3645000"/>
            <a:ext cx="4032360" cy="2448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traight Connector 13"/>
          <p:cNvSpPr/>
          <p:nvPr/>
        </p:nvSpPr>
        <p:spPr>
          <a:xfrm flipH="1" flipV="1">
            <a:off x="4932000" y="3715920"/>
            <a:ext cx="4032360" cy="23050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24000" y="1483920"/>
            <a:ext cx="8496000" cy="374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lasi visu, ko vari par uzņēmumu un nozari, kurā tas darboja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Nospraud intervijas mērķi – ko gribi uzzināt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Atlasi no «jautājumu bankas» tos jautājumus, kuri palīdzēs sasniegt intervijas mērķi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Sagatavo pieraksta papīru un pildspalvu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0" name="Picture 7" descr="books,covers,files,notes,paper clips,papers,pencils,readings"/>
          <p:cNvPicPr/>
          <p:nvPr/>
        </p:nvPicPr>
        <p:blipFill>
          <a:blip r:embed="rId1"/>
          <a:stretch/>
        </p:blipFill>
        <p:spPr>
          <a:xfrm>
            <a:off x="7596360" y="1413000"/>
            <a:ext cx="143964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18T14:24:03Z</dcterms:modified>
  <cp:revision>346</cp:revision>
  <dc:subject/>
  <dc:title>Slide 1</dc:title>
</cp:coreProperties>
</file>