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4.jpeg" ContentType="image/jpeg"/>
  <Override PartName="/ppt/media/image11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0A635-BF3A-4218-A8CB-0B2A47E425BC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59E7-2DDE-4B4E-B7C2-413C856701F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D4C44-1F79-4725-8A44-FC85F2BF87C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6AC34-E77C-4169-96BB-72D541E777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3673-FC7D-4731-8186-B057DF93734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4B304-DE86-4715-B17D-2B86BD3EA08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8BA73-A941-47E7-B015-F1DF5919818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FBC0-5159-4973-8E1B-BE6216DC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7457A-BAAF-4857-A625-D4CDDA059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7463E-D53E-46C1-9589-A289CE3ED8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3C463-9D31-4AAF-A4DE-97489B0B20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E6348-876A-49AE-8FB9-994EA692E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15431-B27C-4B2D-9F44-BE0803B100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23E01-0851-48DE-AF4E-8EBECA6E5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5EA62-A6B3-4384-B461-264F95C8C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C1CDE-A8B1-4ECB-8B2C-58502AA44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A7370-9BA4-4CF8-9D9D-470EEF295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FA777-5F58-40D1-8D91-A3B0CBBB7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CDA5-31F2-44EC-BF34-8B777049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5B91F-B631-481E-AA9C-197691A3F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EB245-42FB-45C0-AB09-105BFE0D4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C92E43-C3C6-4688-9917-898524D33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6696A-BDD0-43C9-9155-27D97CAE4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B88E3-10D0-424A-B2F1-5EE7A1F6C2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8E22-E675-4399-A55C-568914809E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DA405-16D4-4F0A-A783-553AE32B3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E980-883E-4F76-B73C-E3D35929E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EFD8-72D7-4E7A-92D4-1FDBC728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3FDE-0161-4103-B95A-E894DFF80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D074-5482-45B3-B1E6-5CC76405C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DAD9B-6BD1-4215-8699-424737F3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6EA2F-63A8-4CAE-B0B7-F7F3F9A11B3F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D4E47-F863-4F60-B6E5-AE952EE4084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84360" y="1600200"/>
            <a:ext cx="7920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runājiet ar jaunieti sagatavošanos intervijai, uzvedību intervijas laikā un pēc t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Atcerēties, ka jau tagad tiek veidota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c00000"/>
                </a:solidFill>
                <a:latin typeface="Calibri"/>
              </a:rPr>
              <a:t>jaunieša-darbinieka reputācija!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INTERVIJAS ETIĶET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8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3924360" y="4581360"/>
            <a:ext cx="1295280" cy="141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11280" y="1915920"/>
            <a:ext cx="6192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21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22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īt visu, ko var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st intervijas mērķi – kas jāuzzina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īt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t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9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68000" y="1557360"/>
            <a:ext cx="8280360" cy="439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erakstīt intervējamās personas vārdu, uzvārdu un amat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skaidrot, kur notiks intervija un kā tur nokļū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kavēt, taču neierasties arī pārāk savlaicīg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oteikti informēt par kavēšanu vai neierašan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evērot uzņēmuma iekšējās kārtības noteikum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  <a:p>
            <a:pPr lvl="1" marL="4294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teikties par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gt ieteikt vēl kādu, kurš varētu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īt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t uzzināto informāciju un kā to izmantot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34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veltīto laiku un atbalstu, jaunietis parāda, ka prot novērtēt pūles un rada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7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2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savus aizspriedumus un stereotipus par darba tirg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ies iespējas atbalstīt jaunieš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76720" y="4653000"/>
            <a:ext cx="2447640" cy="19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209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es varu palīdzēt savam bērnam iepazīt darba tirg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Mani aizspriedumi un stereotipi, to ietekme uz manu bēr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17114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profesijas pārstāv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konkrētas darba vietas darbiniek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eredzējis darba meklē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pilsētas/ciema/novada iedzīvotāj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kā Latvijas pilsoni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VARU PALĪDZĒT SAVAM BĒRNAM IEPAZĪT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4" name="Picture 2" descr="builds,business,businessmen,challenges,complete,Concepts,Fotolia,ideas,jigsaws,men,Photographs,pieces,pushes,puzzles,solutions,solve,struggles,teams,teamwork,work"/>
          <p:cNvPicPr/>
          <p:nvPr/>
        </p:nvPicPr>
        <p:blipFill>
          <a:blip r:embed="rId1"/>
          <a:srcRect l="9303" t="16281" r="9280" b="13932"/>
          <a:stretch/>
        </p:blipFill>
        <p:spPr>
          <a:xfrm>
            <a:off x="5867280" y="4324320"/>
            <a:ext cx="2233800" cy="19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457200" y="1557000"/>
            <a:ext cx="8229600" cy="439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Aizspriedumi vai stereotipi var atturēt jaunieti no mēģinājumiem iepazīt noteiktas profesionālās jom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Negatīva pieredze var radīt negatīvu attieksmi pret darba devējiem, darba interviju vai noteiktām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ANI AIZSPRIEDUMI UN STEREOTIPI PAR DARBA TIRG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800080"/>
                </a:solidFill>
                <a:latin typeface="Calibri"/>
              </a:rPr>
              <a:t>AIZSPRIEDUMI UN STEREOTIPI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412640"/>
            <a:ext cx="8650080" cy="53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m jā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s nedrīkst būt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prestiž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ir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..........(</a:t>
            </a:r>
            <a:r>
              <a:rPr b="0" i="1" lang="lv-LV" sz="2800" spc="-1" strike="noStrike">
                <a:solidFill>
                  <a:srgbClr val="006a7b"/>
                </a:solidFill>
                <a:latin typeface="Calibri"/>
              </a:rPr>
              <a:t>profesijas nosaukums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) nav labi apmaksāta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Darba devēji nav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profesionāl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Cilvēki ar augstāko izglītību ir...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9" name="Picture 7" descr="negative.WMF"/>
          <p:cNvPicPr/>
          <p:nvPr/>
        </p:nvPicPr>
        <p:blipFill>
          <a:blip r:embed="rId1"/>
          <a:srcRect l="8527" t="8641" r="8984" b="12122"/>
          <a:stretch/>
        </p:blipFill>
        <p:spPr>
          <a:xfrm>
            <a:off x="7164360" y="4941720"/>
            <a:ext cx="17146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68360" y="155736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2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JIET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24000" y="1844640"/>
            <a:ext cx="8424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līdziet jaunietim sagatavot jautājumus, ko uzdot, norādiet uz tēmām, par kurām jautāt un paskaidrojiet, kāpēc to ir svarīgi uzzināt.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academic,careers,children,daughters,education,employees,families,females,girls,instructors,jobs,mothers,occupations,parents,people,people at work,persons,schools,students,teachers,tutors,vocations,women,workers,working"/>
          <p:cNvPicPr/>
          <p:nvPr/>
        </p:nvPicPr>
        <p:blipFill>
          <a:blip r:embed="rId1"/>
          <a:stretch/>
        </p:blipFill>
        <p:spPr>
          <a:xfrm>
            <a:off x="3348000" y="3789360"/>
            <a:ext cx="237636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10:33:26Z</dcterms:modified>
  <cp:revision>374</cp:revision>
  <dc:subject/>
  <dc:title>Slide 1</dc:title>
</cp:coreProperties>
</file>