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13C84-3CD5-4384-9B6B-EFA9BDD246E0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74C1F-75BD-410A-ABF8-4AE56158C1C7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04C82-5FF8-4B4F-8629-B81621696FA1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21140-7ABC-445F-BCB0-CA885AECE255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C1673-50E9-49B2-BC76-2FC29D913BB4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160DC-4FE5-40C4-901C-6C3062F08FF0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86426-8FC2-4EEB-AF8F-B7878C676C61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4CC6-CE2F-406B-83DC-1CB3DFC1A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5166-DB9D-4386-96BB-5170E50D7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6F92B-047D-4617-8922-06F7727D2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551C-B5D9-4078-8FCF-E38D3ABF7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EE73A-B1F8-4646-852C-32585865E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6690A-FDBE-4A3C-ABC6-A17B9BA54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69CB9-4A42-4BE9-957D-F069D5EA6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978E6-F2DC-46C3-A339-5BFF4B0A7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D99D3-1954-45BF-BA7E-8B536F72E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7966C-A88B-4765-91B6-9AEAECE59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AD70E-17BF-4270-97BE-3E84602F4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A4F5-1B56-458D-AE49-B5C69DDBD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00285-77C2-4DEF-9379-7E33F510B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E2CE5-E9F0-4470-A395-50B5B41CD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E2285-6736-41CD-A7C2-F6D1D6F9C2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696AF-E3C7-4169-AA61-BB404FE99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3328B-88E9-42DA-B25A-9CA0E5DEA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9C67-D3E0-4C62-B7B5-47CB067951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C542-7D5B-4D70-A366-C3FAC742B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BF59-88A6-4A36-8E49-88FD6EAE3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601B-777F-442C-8BBC-A27DB27D9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2E0C-CD8B-4362-98AF-DF23D3966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71AB-4A8D-4CD2-874C-B047FFC26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27BB-BC10-41F1-AB0E-2918D1815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564D3-16E9-4056-AA37-EBE2036210D2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9DBBC-D87A-4481-9E39-C3C18D4BBFB3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4.bp.blogspot.com/-bc28VhVz2zE/Ttu4tpzhPSI/AAAAAAAACmo/57J5t0bgZmc/s1600/Non-effective_listening.jpg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22160" y="39304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Ā INTERVĒT DARBA DEVĒJU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TBALSTS DARBAM AR 8. – 9. KLASES SKOLĒN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68360" y="1557360"/>
            <a:ext cx="820728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saki paldies par tev veltīto laik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lūdz ieteikt vēl kādu, kurš varētu tev pastāstīt par nozari vai darba tirg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ēc intervijas pieraksti iegūtās atziņa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ārdomā, ko esi uzzinājis un kā to izmantot savas karjeras plānošanai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31640" y="475920"/>
            <a:ext cx="8229600" cy="84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O DARĪT PĒC INTERVIJAS?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3" name="Picture 7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6804000" y="4581360"/>
            <a:ext cx="165564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600200"/>
            <a:ext cx="807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ības vēstule ir būtiska biznesa etiķetes sastāvdaļa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Pateicoties par tev veltīto laiku un atbalstu, tu parādi, ka proti novērtēt pūles un radi labu priekšstatu par sevi. 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algn="ctr">
              <a:spcBef>
                <a:spcPts val="9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26" name="Picture 5" descr="business,gestures,greetings,meetings,men,people,shaking hands,women"/>
          <p:cNvPicPr/>
          <p:nvPr/>
        </p:nvPicPr>
        <p:blipFill>
          <a:blip r:embed="rId1"/>
          <a:stretch/>
        </p:blipFill>
        <p:spPr>
          <a:xfrm>
            <a:off x="3419640" y="4581360"/>
            <a:ext cx="2087280" cy="20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312480" y="1428840"/>
            <a:ext cx="85071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dresāta vārds, uzvārds datīvā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 algn="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Uzņēmuma nosaukums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mats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.god. .............. k-gs/ Ļ.cien. .......... K-dze!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1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pateicies intervētajai personai par palīdzību un tev atvēlēto laiku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2.rindkopa: </a:t>
            </a:r>
            <a:r>
              <a:rPr b="1" i="1" lang="lv-LV" sz="2000" spc="-1" strike="noStrike">
                <a:solidFill>
                  <a:srgbClr val="006a7b"/>
                </a:solidFill>
                <a:latin typeface="Calibri"/>
              </a:rPr>
              <a:t>īsumā apraksti, kāpēc gūtā pieredze tev ir svarīga. Piemini dažas no gūtajām atziņām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Ar cieņu,</a:t>
            </a: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Vārds, uzvārds) 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.......................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(paraksts)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1" lang="lv-LV" sz="2000" spc="-1" strike="noStrike">
                <a:solidFill>
                  <a:srgbClr val="006a7b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ATEICĪBAS VĒSTULE 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31" name="Picture 5" descr="checklists,clipboards,clipped images,cropped images,cropped pictures,households,icons,lists,office supplies,offices,pencils,PNG,things to do,to do,to do list,to do lists,transparent background,web elements"/>
          <p:cNvPicPr/>
          <p:nvPr/>
        </p:nvPicPr>
        <p:blipFill>
          <a:blip r:embed="rId1"/>
          <a:srcRect l="27922" t="30248" r="27899" b="27899"/>
          <a:stretch/>
        </p:blipFill>
        <p:spPr>
          <a:xfrm>
            <a:off x="3995640" y="4452840"/>
            <a:ext cx="187164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55760" y="170028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prast darba devēja intervijas mērķus un iegūstamo informāci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zveidot intervijas jautājumu krāju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gūt intervijas etiķe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5" descr="business concepts,businesses,Communications,concepts,correspondences,icons,people,speech balloons,speech bubbles,speeches,symbols,talking"/>
          <p:cNvPicPr/>
          <p:nvPr/>
        </p:nvPicPr>
        <p:blipFill>
          <a:blip r:embed="rId1"/>
          <a:srcRect l="0" t="10524" r="0" b="10524"/>
          <a:stretch/>
        </p:blipFill>
        <p:spPr>
          <a:xfrm>
            <a:off x="3203640" y="4292640"/>
            <a:ext cx="2736720" cy="21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77920" y="4762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TUR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Rectangle 3"/>
          <p:cNvSpPr/>
          <p:nvPr/>
        </p:nvSpPr>
        <p:spPr>
          <a:xfrm>
            <a:off x="539640" y="1557360"/>
            <a:ext cx="842508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pēc intervēt darba devēj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du informāciju var iegūt no darba devē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ntervijas «jautājumu bankas» izve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ntervijas etiķe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49356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NTERVĒT DARBA DEVĒJU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7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98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7040" y="476280"/>
            <a:ext cx="843624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 VARI UZZINĀT, INTERVĒJOT DARBA DEVĒJU?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8360" y="1789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 un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vadītāja profesij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4" name="Picture 5" descr="co-workers,cubicles,men,office,office staff,offices,people,people at work,staffs,women,occupations"/>
          <p:cNvPicPr/>
          <p:nvPr/>
        </p:nvPicPr>
        <p:blipFill>
          <a:blip r:embed="rId1"/>
          <a:srcRect l="0" t="20933" r="0" b="20909"/>
          <a:stretch/>
        </p:blipFill>
        <p:spPr>
          <a:xfrm>
            <a:off x="5445000" y="4653000"/>
            <a:ext cx="359100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8000" y="500040"/>
            <a:ext cx="89280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VEIDOSIM INTERVIJAS JAUTĀJUMU “BANKU”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79280" y="155736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domājiet pēc iespējas vairāk jautājumu, kurus uzdot darba devējam, lai uzzinātu par: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u un nozari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uzņēmumā strādājošo profesijā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tirgu un darba meklēšan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ar darba devēja personīgo karjeras ceļu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NEPIECIEŠAMS, LAI INTERVIJA IZDOTO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324000" y="1989000"/>
            <a:ext cx="6192720" cy="36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Sagatavoti jautājumi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Laba klausī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einteresētība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Atbilstošs izskats un izturēšanā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grpSp>
        <p:nvGrpSpPr>
          <p:cNvPr id="109" name="Group 7"/>
          <p:cNvGrpSpPr/>
          <p:nvPr/>
        </p:nvGrpSpPr>
        <p:grpSpPr>
          <a:xfrm>
            <a:off x="5148360" y="3500280"/>
            <a:ext cx="3600360" cy="2592720"/>
            <a:chOff x="5148360" y="3500280"/>
            <a:chExt cx="3600360" cy="2592720"/>
          </a:xfrm>
        </p:grpSpPr>
        <p:pic>
          <p:nvPicPr>
            <p:cNvPr id="110" name="Picture 7" descr="http://4.bp.blogspot.com/-bc28VhVz2zE/Ttu4tpzhPSI/AAAAAAAACmo/57J5t0bgZmc/s320/Non-effective_listening.jpg">
              <a:hlinkClick r:id="rId2"/>
            </p:cNvPr>
            <p:cNvPicPr/>
            <p:nvPr/>
          </p:nvPicPr>
          <p:blipFill>
            <a:blip r:embed="rId3"/>
            <a:stretch/>
          </p:blipFill>
          <p:spPr>
            <a:xfrm>
              <a:off x="5148360" y="3500280"/>
              <a:ext cx="3600360" cy="259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Oval 5"/>
            <p:cNvSpPr/>
            <p:nvPr/>
          </p:nvSpPr>
          <p:spPr>
            <a:xfrm>
              <a:off x="5589360" y="3500280"/>
              <a:ext cx="15145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100" spc="-1" strike="noStrike">
                  <a:solidFill>
                    <a:srgbClr val="000000"/>
                  </a:solidFill>
                  <a:latin typeface="Calibri"/>
                </a:rPr>
                <a:t>Vai viņš vispār klausās?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Oval 6"/>
            <p:cNvSpPr/>
            <p:nvPr/>
          </p:nvSpPr>
          <p:spPr>
            <a:xfrm>
              <a:off x="7292880" y="3500280"/>
              <a:ext cx="1323720" cy="547560"/>
            </a:xfrm>
            <a:prstGeom prst="ellipse">
              <a:avLst/>
            </a:prstGeom>
            <a:solidFill>
              <a:srgbClr val="ffc000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200" spc="-1" strike="noStrike">
                  <a:solidFill>
                    <a:srgbClr val="000000"/>
                  </a:solidFill>
                  <a:latin typeface="Calibri"/>
                </a:rPr>
                <a:t>Blā, blā, blā, blā...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Straight Connector 11"/>
          <p:cNvSpPr/>
          <p:nvPr/>
        </p:nvSpPr>
        <p:spPr>
          <a:xfrm flipH="1">
            <a:off x="4932000" y="3645000"/>
            <a:ext cx="4032360" cy="244800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Straight Connector 13"/>
          <p:cNvSpPr/>
          <p:nvPr/>
        </p:nvSpPr>
        <p:spPr>
          <a:xfrm flipH="1" flipV="1">
            <a:off x="4932000" y="3715920"/>
            <a:ext cx="4032360" cy="2305080"/>
          </a:xfrm>
          <a:prstGeom prst="line">
            <a:avLst/>
          </a:prstGeom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24000" y="1483920"/>
            <a:ext cx="8496000" cy="374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901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6a7b"/>
                </a:solidFill>
                <a:latin typeface="Calibri"/>
              </a:rPr>
              <a:t>Izlasi visu, ko vari par uzņēmumu un nozari, kurā tas darbojas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Nospraud intervijas mērķi – ko gribi uzzināt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Atlasi no «jautājumu bankas» tos jautājumus, kuri palīdzēs sasniegt intervijas mērķi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  <a:p>
            <a:pPr marL="305280" indent="-305280">
              <a:spcBef>
                <a:spcPts val="876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500" spc="-1" strike="noStrike">
                <a:solidFill>
                  <a:srgbClr val="006a7b"/>
                </a:solidFill>
                <a:latin typeface="Calibri"/>
              </a:rPr>
              <a:t>Sagatavo pieraksta papīru un pildspalvu</a:t>
            </a:r>
            <a:endParaRPr b="0" lang="en-US" sz="35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17" name="Picture 7" descr="books,covers,files,notes,paper clips,papers,pencils,readings"/>
          <p:cNvPicPr/>
          <p:nvPr/>
        </p:nvPicPr>
        <p:blipFill>
          <a:blip r:embed="rId1"/>
          <a:stretch/>
        </p:blipFill>
        <p:spPr>
          <a:xfrm>
            <a:off x="7596360" y="1413000"/>
            <a:ext cx="1439640" cy="143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178920" y="1341000"/>
            <a:ext cx="8820360" cy="34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0000"/>
          </a:bodyPr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Pieraksti intervējamās personas vārdu, uzvārdu un amatu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oskaidro, kur notiks intervija un kā tur nokļūt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ekavē, taču neierodies arī pārāk savlaicīgi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Noteikti informē, ja nevarēsi ierasties vai kavēsi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825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300" spc="-1" strike="noStrike">
                <a:solidFill>
                  <a:srgbClr val="006a7b"/>
                </a:solidFill>
                <a:latin typeface="Calibri"/>
              </a:rPr>
              <a:t>Ievēro uzņēmuma iekšējās kārtības noteikumus</a:t>
            </a:r>
            <a:endParaRPr b="0" lang="en-US" sz="3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>
              <a:spcBef>
                <a:spcPts val="74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006a7b"/>
              </a:solidFill>
              <a:latin typeface="Calibri"/>
            </a:endParaRPr>
          </a:p>
          <a:p>
            <a:pPr marL="274320" indent="-27432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c00000"/>
                </a:solidFill>
                <a:latin typeface="Calibri"/>
              </a:rPr>
              <a:t>Atceries, ka tu jau tagad veido savu darbinieka reputāciju!</a:t>
            </a: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  <a:p>
            <a:pPr lvl="1" marL="36576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24000" y="58248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SAGATAVOŠANĀS INTERVIJAI 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20" name="Picture 5" descr="agreements,businesses,conversations,customers,executives,greeting,handshakes,meeting,negotiations,partnership,professionals,silhouettes,PresentationPro"/>
          <p:cNvPicPr/>
          <p:nvPr/>
        </p:nvPicPr>
        <p:blipFill>
          <a:blip r:embed="rId1"/>
          <a:srcRect l="11629" t="4652" r="11606" b="11606"/>
          <a:stretch/>
        </p:blipFill>
        <p:spPr>
          <a:xfrm>
            <a:off x="1332000" y="5516640"/>
            <a:ext cx="1096920" cy="11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21T08:46:05Z</dcterms:modified>
  <cp:revision>349</cp:revision>
  <dc:subject/>
  <dc:title>Slide 1</dc:title>
</cp:coreProperties>
</file>