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BDC7-A721-4589-AC7F-9DB25BB140E1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B6F8-AAB4-4596-9203-0CD9F2CCC06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C307-18DA-490C-9DD1-1331CCC2EC3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E1DB-8192-4CC8-BC41-44B58DF5295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9AE4-E0CC-4422-A93A-A9F238A1E2D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88A8-243E-4466-84DB-5507B52AEF1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308D-EC1E-4973-A27D-2A33C7A1033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4170-7FBC-472A-B3F3-1C7F7E14D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549A-5F72-4A3A-A45E-209182AA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C84F-42B5-4222-9A3D-1D9922E37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95CD-28E5-466A-BECE-9A65A942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2046-6FFE-4799-837D-E75295BC8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DC9E-0753-4BA6-9E64-2D6D5118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B1840-6020-4479-9A70-5F8F13C5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F2A6-2182-436B-933F-66BBB589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225B-EC93-4987-96CF-839FF289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F80D-2A79-429E-9765-6C7654D1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60B8-9FCC-4BDB-B025-865E1B2E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7054-3B7E-410A-8764-008C9E18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CBDA-46B1-423D-B006-86D38BA2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1445-68E3-4D09-93D3-F0364D2C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02A7-A545-4804-870E-E6B236BA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20E0-FEFF-42AD-B535-02A2DE0CB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EB6F-7E85-4204-90E2-0011E2FE6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DA55-83DA-4934-A3F6-4802DD8C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3FF6-5120-4D68-81ED-04AC64F4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0E08-2D58-4B67-B5A6-05FAEDD4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7D43-E7B0-4B1C-AD3F-46D407F4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DD04-24D4-4FB2-B630-14D795DB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38C2-CB54-4F26-8B11-1396D46A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4EC4-4497-4643-AF49-6265F33E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4F7B-C249-4C58-987B-41572BC622D6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DA7C-48EC-4A9A-819E-38841867BDF7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VECĀK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4360" y="160020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runājiet ar jaunieti sagatavošanos intervijai, uzvedību intervijas laikā un pēc t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c00000"/>
                </a:solidFill>
                <a:latin typeface="Calibri"/>
              </a:rPr>
              <a:t>Atcerēties, ka jau tagad tiek veidota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c00000"/>
                </a:solidFill>
                <a:latin typeface="Calibri"/>
              </a:rPr>
              <a:t>jaunieša-darbinieka reputācija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INTERVIJAS ETIĶET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8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3924360" y="4581360"/>
            <a:ext cx="129528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915920"/>
            <a:ext cx="6192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21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22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īt visu, ko var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st intervijas mērķi – kas jāuzzina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īt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t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68000" y="1557360"/>
            <a:ext cx="828036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erakstīt intervējamās personas vārdu, uzvārdu un amat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skaidrot, kur notiks intervija un kā tur nokļū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ekavēt, taču neierasties arī pārāk savlaicīg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teikti informēt par kavēšanu vai neierašan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evērot uzņēmuma iekšējās kārtības noteikum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a7b"/>
              </a:solidFill>
              <a:latin typeface="Calibri"/>
            </a:endParaRPr>
          </a:p>
          <a:p>
            <a:pPr lvl="1" marL="42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teikties par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gt ieteikt vēl kādu, kurš varētu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īt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t uzzināto informāciju un kā to izmantot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4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veltīto laiku un atbalstu, jaunietis parāda, ka prot novērtēt pūles un rada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7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2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68360" y="155736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ies savus aizspriedumus un stereotipus par darba tir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ies iespējas atbalstīt jaunieš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76720" y="4653000"/>
            <a:ext cx="2447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209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es varu palīdzēt savam bērnam iepazīt darba tirg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Mani aizspriedumi un stereotipi, to ietekme uz manu bēr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konkrētas profesijas pārstāvi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konkrētas darba vietas darbiniek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pieredzējis darba meklētāj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pilsētas/ciema/novada iedzīvotāj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Latvijas pilsoni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VARU PALĪDZĒT SAVAM BĒRNAM IEPAZĪT DARBA TIRG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2" descr="builds,business,businessmen,challenges,complete,Concepts,Fotolia,ideas,jigsaws,men,Photographs,pieces,pushes,puzzles,solutions,solve,struggles,teams,teamwork,work"/>
          <p:cNvPicPr/>
          <p:nvPr/>
        </p:nvPicPr>
        <p:blipFill>
          <a:blip r:embed="rId1"/>
          <a:srcRect l="9303" t="16281" r="9280" b="13932"/>
          <a:stretch/>
        </p:blipFill>
        <p:spPr>
          <a:xfrm>
            <a:off x="5867280" y="4324320"/>
            <a:ext cx="223380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557000"/>
            <a:ext cx="82296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Aizspriedumi vai stereotipi var atturēt jaunieti no mēģinājumiem iepazīt noteiktas profesionālās jom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egatīva pieredze var radīt negatīvu attieksmi pret darba devējiem, darba interviju vai noteiktām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ANI AIZSPRIEDUMI UN STEREOTIPI PAR DARBA TIRG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800080"/>
                </a:solidFill>
                <a:latin typeface="Calibri"/>
              </a:rPr>
              <a:t>AIZSPRIEDUMI UN STEREOTIPI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412640"/>
            <a:ext cx="8650080" cy="53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m jābūt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s nedrīkst būt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ir prestiž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nav prestiž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ir labi apmaksāt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nav labi apmaksāt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 devēji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 devēji nav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Cilvēki ar profesionālo izglītību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Cilvēki ar augstāko izglītību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9" name="Picture 7" descr="negative.WMF"/>
          <p:cNvPicPr/>
          <p:nvPr/>
        </p:nvPicPr>
        <p:blipFill>
          <a:blip r:embed="rId1"/>
          <a:srcRect l="8527" t="8641" r="8984" b="12122"/>
          <a:stretch/>
        </p:blipFill>
        <p:spPr>
          <a:xfrm>
            <a:off x="7164360" y="4941720"/>
            <a:ext cx="17146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360" y="155736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2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JIET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24000" y="1844640"/>
            <a:ext cx="8424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līdziet jaunietim sagatavot jautājumus, ko uzdot, norādiet uz tēmām, par kurām jautāt un paskaidrojiet, kāpēc to ir svarīgi uzzināt.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5" name="Picture 5" descr="academic,careers,children,daughters,education,employees,families,females,girls,instructors,jobs,mothers,occupations,parents,people,people at work,persons,schools,students,teachers,tutors,vocations,women,workers,working"/>
          <p:cNvPicPr/>
          <p:nvPr/>
        </p:nvPicPr>
        <p:blipFill>
          <a:blip r:embed="rId1"/>
          <a:stretch/>
        </p:blipFill>
        <p:spPr>
          <a:xfrm>
            <a:off x="3348000" y="378936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10:33:26Z</dcterms:modified>
  <cp:revision>374</cp:revision>
  <dc:subject/>
  <dc:title>Slide 1</dc:title>
</cp:coreProperties>
</file>