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2487C-A8E2-442E-9394-A82FCC04F91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13E91-26D0-4933-85CE-6182006801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AD698-587D-4D2C-B0FA-C77929FB060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CAF7-0E45-4880-942B-C9BA8F2D8F8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DEEF-47B8-4213-8EFE-EBCA3BD82C7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DAD3-EA77-4151-B899-E973ADB943E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AB806-93D2-42B7-B150-F62436A21D8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67A10-B7D3-4D7E-B317-697D76F95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0AD2-B2FB-49AE-877C-C6840FB4E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54FA-521A-4B17-A6F2-5F103440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5863C-23AD-4DA9-B853-626FDD654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BBBA2-A048-4363-9DB7-07D0F8000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B5A86-6DBB-49A5-8061-927A88438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E19E0-8414-4D10-AA69-D3DD49320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9DA35-59D8-48A1-9732-CC907AAF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CA0A9F-5EFE-4D72-BA8A-F9C7BD434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FDB72-319E-4416-B060-DB4074D4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47EF-1B7E-4EDE-B7A3-E0C768A5D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D0C02-1A2F-45CE-8969-49CBFC3E9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088629-79E6-4640-9703-9C0322DE4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FFB35-6193-40E7-9A37-376BC1AB6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24D00-B500-4202-B1FB-9A9F82138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1DE37-B8B9-4F48-AA46-FE285153B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2DC8E5-FA40-4E1D-8D81-F333F1422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5EEE-EDDD-4107-8B62-98F11AF96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1BA6-B803-4D19-B730-443A8CE978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FDC7-77A1-4216-AA31-D618CA7BD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650F-7989-4F66-8878-70FAE4D55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F04C-1442-45B3-B9C1-808F15E97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61B99-3D4C-48CB-B22F-2744BD4DB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04D2-E86B-45B3-8EA5-F1CC12F79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3997E-2B18-4A58-89E9-43DEC8D8139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E143D-D2D7-472F-A8D9-4A7BC4FE6AA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6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9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4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AS IR DARBA DEVĒJ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ējs, uzņēmuma īpaš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Uzņēmuma valdes locekli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Vadītājs (uzņēmuma, nodaļas, filiāles)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ersonāla daļas speciālist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iCLIPART, silhouettes, women, men, people, teamwork, plannings, leaders, brainstorming, community, cooperation, lifestyle, city, business concepts, corporate"/>
          <p:cNvPicPr/>
          <p:nvPr/>
        </p:nvPicPr>
        <p:blipFill>
          <a:blip r:embed="rId1"/>
          <a:srcRect l="0" t="24131" r="0" b="8420"/>
          <a:stretch/>
        </p:blipFill>
        <p:spPr>
          <a:xfrm>
            <a:off x="2124000" y="4221000"/>
            <a:ext cx="34164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7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12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3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8T14:24:03Z</dcterms:modified>
  <cp:revision>346</cp:revision>
  <dc:subject/>
  <dc:title>Slide 1</dc:title>
</cp:coreProperties>
</file>