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569B-90F8-49CD-A952-90E96BAC7DA2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D91F-D689-4576-9044-157CEB7F9E4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D5D1-BE1B-4DDE-A3CF-E6B0F2CFB16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9F8F-E1E9-4887-A37B-7BEA4FD745B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5FDA-B79E-4AB9-B339-AED13644D7A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FA2D-65A0-4D19-9771-325F84DE66E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3CC2-CC81-4D5B-816C-FD9BE493632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95FD-90A4-41AD-B80C-34A984BD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F86-9E27-4EAA-ABA8-3E8AF426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B6F-94D8-4992-9986-00C1E41E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33C9-47F7-4E2D-A914-E7DE0B46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0F5C-DA8A-43D9-A89A-AE826C38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E310-46A2-4C47-80CD-6FDD7C1A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A1C2-96B4-44B3-8E95-02E89FEE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8492-BFBC-4E1A-9943-01B7EF21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49A3-BF20-4141-933B-0CFDAF9B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9E05-56E8-487D-8289-8FB0C2E8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C45A-F475-4AC1-A389-1A6B6675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8F0-7C8F-49F8-BE25-4544F34F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EC1D-34D0-4958-9466-7ADB32EE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D40E-D31F-46F8-86A3-1C33F0F8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8D51-F7BE-44B2-8799-94C38DAF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F817-10BD-476F-842B-3E5C79E1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D12D-DFFD-4A85-91B4-F197AD61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16D3-E6F0-4F65-95C3-E2A9DCB2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677-2FFA-4DF3-9756-6FC6873B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9E07-2A94-443B-962C-2F31E8D3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3A8-A4E2-48DA-ACAC-9F317715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9D46-D4E6-469C-9F91-9422AE9D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ED0C-E703-4665-885D-51E416E6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3F63-11B7-4D12-BBBD-3AB5439D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543E-4CF7-4479-ACA5-BBEC1668133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B62B-D7C7-46F6-B5AB-6FDE72501BD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jiet ar jaunieti sagatavošanos intervijai, uzvedību intervijas laikā un pēc t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Atcerēties, ka jau tagad tiek veidota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jaunieša-darbinieka reputācija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INTERVIJAS ETIĶ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3924360" y="4581360"/>
            <a:ext cx="1295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915920"/>
            <a:ext cx="61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22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īt visu, ko var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st intervijas mērķi – kas jāuzzina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īt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t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1557360"/>
            <a:ext cx="82803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erakstīt intervējamās personas vārdu, uzvārdu un amat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skaidrot, kur notiks intervija un kā tur nokļū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kavēt, taču neierasties arī pārāk savlaicīg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teikti informēt par kavēšanu vai neierašan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evērot uzņēmuma iekšējās kārtības noteikum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  <a:p>
            <a:pPr lvl="1" marL="42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teikties par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gt ieteikt vēl kādu, kurš varētu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īt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t uzzināto informāciju un kā to izmantot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veltīto laiku un atbalstu, jaunietis parāda, ka prot novērtēt pūles un rada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7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2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savus aizspriedumus un stereotipus par darba tir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iespējas atbalstīt jaunieš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76720" y="4653000"/>
            <a:ext cx="244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20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es varu palīdzēt savam bērnam iepazīt darba tir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Mani aizspriedumi un stereotipi, to ietekme uz manu bēr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profesijas pārstāv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darba vietas darbi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eredzējis darba meklē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lsētas/ciema/novada iedzīvo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Latvijas pilson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VARU PALĪDZĒT SAVAM BĒRNAM IEPAZĪT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builds,business,businessmen,challenges,complete,Concepts,Fotolia,ideas,jigsaws,men,Photographs,pieces,pushes,puzzles,solutions,solve,struggles,teams,teamwork,work"/>
          <p:cNvPicPr/>
          <p:nvPr/>
        </p:nvPicPr>
        <p:blipFill>
          <a:blip r:embed="rId1"/>
          <a:srcRect l="9303" t="16281" r="9280" b="13932"/>
          <a:stretch/>
        </p:blipFill>
        <p:spPr>
          <a:xfrm>
            <a:off x="5867280" y="4324320"/>
            <a:ext cx="22338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Aizspriedumi vai stereotipi var atturēt jaunieti no mēģinājumiem iepazīt noteiktas profesionālās jom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gatīva pieredze var radīt negatīvu attieksmi pret darba devējiem, darba interviju vai noteiktām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ANI AIZSPRIEDUMI UN STEREOTIPI PAR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800080"/>
                </a:solidFill>
                <a:latin typeface="Calibri"/>
              </a:rPr>
              <a:t>AIZSPRIEDUMI UN STEREOTIP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412640"/>
            <a:ext cx="865008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m jā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s nedrīkst 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nav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profesionāl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augstāk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9" name="Picture 7" descr="negative.WMF"/>
          <p:cNvPicPr/>
          <p:nvPr/>
        </p:nvPicPr>
        <p:blipFill>
          <a:blip r:embed="rId1"/>
          <a:srcRect l="8527" t="8641" r="8984" b="12122"/>
          <a:stretch/>
        </p:blipFill>
        <p:spPr>
          <a:xfrm>
            <a:off x="7164360" y="494172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2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JIET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8446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līdziet jaunietim sagatavot jautājumus, ko uzdot, norādiet uz tēmām, par kurām jautāt un paskaidrojiet, kāpēc to ir svarīgi uzzināt.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academic,careers,children,daughters,education,employees,families,females,girls,instructors,jobs,mothers,occupations,parents,people,people at work,persons,schools,students,teachers,tutors,vocations,women,workers,working"/>
          <p:cNvPicPr/>
          <p:nvPr/>
        </p:nvPicPr>
        <p:blipFill>
          <a:blip r:embed="rId1"/>
          <a:stretch/>
        </p:blipFill>
        <p:spPr>
          <a:xfrm>
            <a:off x="334800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10:33:26Z</dcterms:modified>
  <cp:revision>374</cp:revision>
  <dc:subject/>
  <dc:title>Slide 1</dc:title>
</cp:coreProperties>
</file>