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85023-F2CA-4D6C-AEDD-F7235E4437D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AD13-334C-4EEE-A2AC-0AD80967B9E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9FF6-B762-49E3-BE2D-EFFD852AF5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5FF32-FD7E-4444-A01E-ED8C7FC840C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9CD4F-B847-4C46-AD52-39E583F9543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9E0C-3307-4419-B4F1-0AD664E341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5F1ED-5E95-4C64-A7A2-8192788AB2E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37511-16DD-4C87-8BDC-8FE78FD76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65D6-4638-436F-A1D5-D8A377FC6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3CD6E-B108-48F8-8C1D-D0A98F105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1BD5-7E5F-451C-837D-9CF3386E0D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28B5-807B-4024-ACBF-5DB84F6C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D0534-0A74-4D42-BA48-156E95E7B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87135-CA4F-4DED-BC4A-C3D165BF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EF64-932D-4A71-B9F9-92F97ADF2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6033B5-9887-4ABB-AC5B-435F5A93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1EC6D-4A75-4724-A43A-5D2BF186C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272BD-3FD9-4E13-BEB0-BA8F9EAC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9D989-1B48-4580-B068-C79CFB708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0B9C4-2875-4139-8EB4-44434844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5C94E-6F5D-4DEB-BD98-24A1CD161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B0A91-2D0D-4A95-B3A4-EB3A60AE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D73D0-91E2-4500-AFE3-3F1111F4B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B2A2E-6BAB-4E45-A85D-82817C91D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3F265-827A-4771-ABED-A14EB7458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B85D-0C0F-4EC5-9CA4-55B35E6B4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906D-D48B-4A42-B75A-D19C694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AA055-CAEC-4B0B-A737-20D0C7BC3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37A48-A1CA-48A4-918C-F41C59E3F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E5BA-7E74-4098-A907-109071A2B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83D63-C450-4AA9-8695-4F83479F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07134D-792B-426A-837A-084649004E5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B6F0D-380C-4832-B82F-98D7F6BDBFF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5. -7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5:39Z</dcterms:modified>
  <cp:revision>349</cp:revision>
  <dc:subject/>
  <dc:title>Slide 1</dc:title>
</cp:coreProperties>
</file>