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F24D-6D86-4242-B1F5-5EDA371439DF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1697-1ADD-4FCB-85A0-7CA0FAE236B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A275-A26E-4D56-92E5-93E0ECE5CBD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0A50-2919-418A-A59F-AA62555C3C7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6B5B-8BDA-4F7E-B1F8-C1653DD9EE2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FA0D-8771-44F6-969C-A2915286773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4530-817E-4986-A8BC-8778656CD75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8DA6-F908-4A7F-91DB-CCE681A2121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E0EB-286C-4155-B4A2-23A23818CA2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0ED2-D82C-4BBB-9923-21C0D1966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ADC4-BDB4-4F12-AC8F-FB0D27DD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B5EF-4D43-4817-91C5-2885E185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96DB-E991-46C8-85F9-AF1F74EAB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CF67-48D0-49EA-8D62-D39508AD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FF35-C57C-470D-AF2B-67AE1846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F2C0-A142-4281-958C-2FB227E7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0A53-31A6-424E-9662-9383D83F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F387-A5BE-4B2F-B1E9-817B08EA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3D44-598D-48AF-834D-0674F9D2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647C-EC79-43C6-AAB4-C951D997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9E0D-9929-40E4-86E7-7EE1D105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26C1-D262-48F1-910C-BE9E1354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4BC1-A1A9-44EE-A862-A32F889E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97A3-9819-494B-992A-3205A43D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ADAB-4F3E-4BA2-8A64-0D9D9107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B7F2-193E-4F3B-B06B-23152176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C331-2FBF-40CF-9F26-534F0707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F19E-8B93-4E75-8B8C-CC58931D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F244-C6AC-425C-85F7-EA6DB0F6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58E8-4FDB-4CDE-9BC5-6DEE178B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EAD2-6B08-457B-ACBA-09B77019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40D1-4594-4EAA-B8A3-0166ED3F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5940-D575-441C-B536-559D42CF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D867-DB71-4119-A3BE-69B6D80A1E7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58D5-7BBE-4C0E-BB6A-0B4A094573A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niid.lv/" TargetMode="External"/><Relationship Id="rId2" Type="http://schemas.openxmlformats.org/officeDocument/2006/relationships/hyperlink" Target="http://www.profesijupasaule.lv/" TargetMode="External"/><Relationship Id="rId3" Type="http://schemas.openxmlformats.org/officeDocument/2006/relationships/hyperlink" Target="http://www.viaa.gov.lv/lat/karjeras_atbalsts/euroguidance_sadala/kad_zinu_izdevumi/" TargetMode="External"/><Relationship Id="rId4" Type="http://schemas.openxmlformats.org/officeDocument/2006/relationships/hyperlink" Target="http://www.prakse.lv/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niid.lv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Zini informācijas resurs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5. – 7. klašu jaunieš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ETEIKUMI INFORMĀCIJAS MEKLĒŠANA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irms sāc meklēt informāciju – saplāno, ko tieši tu gribi atrast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Izmanto dažādus informācijas avotus, lai iegūtu pēc iespējas plašāku informāciju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ārbaudi informācijas precizitāti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8000" y="1557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grāmatas un metodika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Veido savu karjeru pats!”, grāmata patstāvīgai profesijas izvēlei”; “„Kurš mācību priekšmets man patīk vislabāk? Padomi veiksmīgai karjeras izvēlei”; karjeras izvēles testi internetā u.c.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academic,books,calculators,educations,homework,kids,pencils,people,students,studies,thinking"/>
          <p:cNvPicPr/>
          <p:nvPr/>
        </p:nvPicPr>
        <p:blipFill>
          <a:blip r:embed="rId1"/>
          <a:stretch/>
        </p:blipFill>
        <p:spPr>
          <a:xfrm>
            <a:off x="7885080" y="3860640"/>
            <a:ext cx="12225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7"/>
          <p:cNvSpPr/>
          <p:nvPr/>
        </p:nvSpPr>
        <p:spPr>
          <a:xfrm>
            <a:off x="39528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UZZINĀT PAR IZGLĪTĪBAS IESPĒJĀM UN PROFESIJĀ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8000" y="1413000"/>
            <a:ext cx="89280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tIns="0" anchor="t">
            <a:normAutofit fontScale="99000"/>
          </a:bodyPr>
          <a:p>
            <a:pPr marL="339480" indent="-339480"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ztaujājot cilvēkus –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esošos un bijušos studentus, profesionāļus, paziņas, radiniekus u.c. 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nternetā:</a:t>
            </a:r>
            <a:endParaRPr b="0" lang="en-US" sz="26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izglītības iespēju vai darba sludinājumu datubāze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izglītības iestāžu mājaslapās, </a:t>
            </a:r>
            <a:r>
              <a:rPr b="0" i="1" lang="lv-LV" sz="2200" spc="-1" strike="noStrike">
                <a:solidFill>
                  <a:srgbClr val="006a7b"/>
                </a:solidFill>
                <a:latin typeface="Calibri"/>
              </a:rPr>
              <a:t>twitter</a:t>
            </a: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, </a:t>
            </a:r>
            <a:r>
              <a:rPr b="0" i="1" lang="lv-LV" sz="2200" spc="-1" strike="noStrike">
                <a:solidFill>
                  <a:srgbClr val="006a7b"/>
                </a:solidFill>
                <a:latin typeface="Calibri"/>
              </a:rPr>
              <a:t>facebook</a:t>
            </a: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 profilo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jauniešu un nevalstisko organizāciju mājaslapā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Bef>
                <a:spcPts val="2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uzņēmumu vai profesionālo asociāciju mājaslapās u.c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7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Grāmatā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Profesiju aprakstu katalogs”) </a:t>
            </a: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un  preses izdevumo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Diena”, “Dienas bizness”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spcAft>
                <a:spcPts val="7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Videofilmā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Profesionālās darbības jomas Latvijā”, “Karjeras un izglītības iespējas meža nozarē” u.c.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zpētot uz vietas –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Skola 2013, atvērto durvju dienas, ēnu dienas, “viltus students” un “viltus klients”...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4" name="Picture 5" descr="communications,computer hardware,connectivity,Earth,globes,Internet,maps,metaphors,monitors,networking,networks,office,PCS,planets,science,technology,World Wide Web,worlds,WWW"/>
          <p:cNvPicPr/>
          <p:nvPr/>
        </p:nvPicPr>
        <p:blipFill>
          <a:blip r:embed="rId1"/>
          <a:stretch/>
        </p:blipFill>
        <p:spPr>
          <a:xfrm>
            <a:off x="7451640" y="2565360"/>
            <a:ext cx="1368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5075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DARĪT AR APKOPOTO INFORMĀCIJ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līdzināt ar sākotnējo plānu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vai ir visa nepieciešamā informācij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vai ir parādījušies jauni izpētes ceļ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zanalizēt, lai atmestu lieko un izceltu būtisko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runāt rezultātus ar cit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7" name="Picture 5" descr="business,businessmen,businesswomen,documents,females,looking,males,men,papers,people,persons,plans,reviewing,women"/>
          <p:cNvPicPr/>
          <p:nvPr/>
        </p:nvPicPr>
        <p:blipFill>
          <a:blip r:embed="rId1"/>
          <a:srcRect l="0" t="9303" r="0" b="11606"/>
          <a:stretch/>
        </p:blipFill>
        <p:spPr>
          <a:xfrm>
            <a:off x="6300720" y="4221000"/>
            <a:ext cx="230364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6372360" y="6237360"/>
            <a:ext cx="136836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2195640" y="0"/>
            <a:ext cx="488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NFORMATĪVIE RESURSI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1341360"/>
            <a:ext cx="867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acionālā izglītības iespēju datubāze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niid.lv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ortāls “Profesiju Pasaule”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profesijupasaule.lv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Eiropas Komisijas informācijas apmaiņas un konsultāciju tīkls EUROGUIDANCE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viaa.gov.lv/lat/karjeras_atbalsts/euroguidance_sadala/kad_zinu_izdevumi/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Jauniešu konsultācijas”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prakse.lv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"/>
          <p:cNvPicPr/>
          <p:nvPr/>
        </p:nvPicPr>
        <p:blipFill>
          <a:blip r:embed="rId1"/>
          <a:srcRect l="13668" t="10626" r="16544" b="11833"/>
          <a:stretch/>
        </p:blipFill>
        <p:spPr>
          <a:xfrm>
            <a:off x="1908000" y="1420920"/>
            <a:ext cx="5904000" cy="5248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7640" y="2924280"/>
            <a:ext cx="1368360" cy="43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Meklētāj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4" name="Text Placeholder 2"/>
          <p:cNvSpPr/>
          <p:nvPr/>
        </p:nvSpPr>
        <p:spPr>
          <a:xfrm>
            <a:off x="108000" y="3860640"/>
            <a:ext cx="180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Meklēšanas sagata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9"/>
          <p:cNvCxnSpPr/>
          <p:nvPr/>
        </p:nvCxnSpPr>
        <p:spPr>
          <a:xfrm>
            <a:off x="1332000" y="3141720"/>
            <a:ext cx="1080000" cy="21672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36" name="Straight Arrow Connector 10"/>
          <p:cNvCxnSpPr/>
          <p:nvPr/>
        </p:nvCxnSpPr>
        <p:spPr>
          <a:xfrm flipV="1">
            <a:off x="1618920" y="3715560"/>
            <a:ext cx="2377080" cy="7380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37" name="Text Placeholder 2"/>
          <p:cNvSpPr/>
          <p:nvPr/>
        </p:nvSpPr>
        <p:spPr>
          <a:xfrm>
            <a:off x="7596360" y="335772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Izglītības informā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Straight Arrow Connector 12"/>
          <p:cNvCxnSpPr/>
          <p:nvPr/>
        </p:nvCxnSpPr>
        <p:spPr>
          <a:xfrm flipH="1">
            <a:off x="6803640" y="3716280"/>
            <a:ext cx="1008720" cy="50544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39" name="Text Placeholder 2"/>
          <p:cNvSpPr/>
          <p:nvPr/>
        </p:nvSpPr>
        <p:spPr>
          <a:xfrm>
            <a:off x="108000" y="537372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Aktuālā informā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Straight Arrow Connector 17"/>
          <p:cNvCxnSpPr/>
          <p:nvPr/>
        </p:nvCxnSpPr>
        <p:spPr>
          <a:xfrm>
            <a:off x="1402920" y="5444640"/>
            <a:ext cx="577080" cy="10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1" name="Text Placeholder 2"/>
          <p:cNvSpPr/>
          <p:nvPr/>
        </p:nvSpPr>
        <p:spPr>
          <a:xfrm>
            <a:off x="6516720" y="551664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Iespēja saņemt e-konsultācij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20"/>
          <p:cNvCxnSpPr/>
          <p:nvPr/>
        </p:nvCxnSpPr>
        <p:spPr>
          <a:xfrm flipH="1" flipV="1">
            <a:off x="5866920" y="5876280"/>
            <a:ext cx="721440" cy="10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NACIONĀLĀ IZGLĪTĪBAS IESPĒJU DATUBĀZE</a:t>
            </a:r>
            <a:br>
              <a:rPr sz="3600"/>
            </a:br>
            <a:r>
              <a:rPr b="0" lang="lv-LV" sz="28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NIID.LV</a:t>
            </a:r>
            <a:r>
              <a:rPr b="1" lang="lv-LV" sz="24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lv-LV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44" name="Straight Arrow Connector 13"/>
          <p:cNvCxnSpPr/>
          <p:nvPr/>
        </p:nvCxnSpPr>
        <p:spPr>
          <a:xfrm flipH="1" flipV="1">
            <a:off x="6803280" y="4436280"/>
            <a:ext cx="864360" cy="7236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5" name="Text Placeholder 2"/>
          <p:cNvSpPr/>
          <p:nvPr/>
        </p:nvSpPr>
        <p:spPr>
          <a:xfrm>
            <a:off x="7596360" y="450864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Testi karjeras izvēl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3"/>
          <p:cNvSpPr/>
          <p:nvPr/>
        </p:nvSpPr>
        <p:spPr>
          <a:xfrm>
            <a:off x="0" y="525600"/>
            <a:ext cx="914400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</a:rPr>
              <a:t>PROFESIJU PASA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www.profesijupasaule.lv</a:t>
            </a: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4524" t="6784" r="5031" b="18603"/>
          <a:stretch/>
        </p:blipFill>
        <p:spPr>
          <a:xfrm>
            <a:off x="324000" y="1413000"/>
            <a:ext cx="82501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"/>
          <p:cNvPicPr/>
          <p:nvPr/>
        </p:nvPicPr>
        <p:blipFill>
          <a:blip r:embed="rId1"/>
          <a:srcRect l="0" t="5178" r="15083" b="2916"/>
          <a:stretch/>
        </p:blipFill>
        <p:spPr>
          <a:xfrm>
            <a:off x="1476360" y="1413000"/>
            <a:ext cx="6288120" cy="5445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69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  <a:ea typeface="Arial"/>
              </a:rPr>
              <a:t>EUROGUIDANCE TĪKLA LATVIJAS NODAĻA</a:t>
            </a:r>
            <a:br>
              <a:rPr sz="3200"/>
            </a:br>
            <a:r>
              <a:rPr b="0" lang="lv-LV" sz="1800" spc="-1" strike="noStrike" u="sng">
                <a:solidFill>
                  <a:srgbClr val="17375e"/>
                </a:solidFill>
                <a:uFillTx/>
                <a:latin typeface="Calibri"/>
              </a:rPr>
              <a:t>http://www.viaa.gov.lv/lat/karjeras_atbalsts/euroguidance_sadala/kad_zinu_izdevumi/ </a:t>
            </a:r>
            <a:r>
              <a:rPr b="1" i="1" lang="lv-LV" sz="1800" spc="-1" strike="noStrike">
                <a:solidFill>
                  <a:srgbClr val="17375e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1763640" y="6021360"/>
            <a:ext cx="935280" cy="2872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1619280" y="5805360"/>
            <a:ext cx="865080" cy="21600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4716360" y="1916280"/>
            <a:ext cx="1728720" cy="5047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1692360" y="5229360"/>
            <a:ext cx="1081080" cy="28872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rcRect l="13222" t="8390" r="15207" b="31698"/>
          <a:stretch/>
        </p:blipFill>
        <p:spPr>
          <a:xfrm>
            <a:off x="684360" y="1365120"/>
            <a:ext cx="8135640" cy="5448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404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  <a:ea typeface="Arial"/>
              </a:rPr>
              <a:t>NVO JAUNIEŠU KONSULTĀCIJ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www.prakse.l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NODARBĪBAS MĒRĶI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557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Saprast, kāda informācija nepieciešama, lai plānotu savu karjeru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Apzināties veidus, kā iegūt nepieciešamo informāciju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Iepazīties ar izglītības iespējām Latvijā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Iepazīties ar dažādiem informācijas avotiem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NFORMATĪVIE RESURSI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1413000"/>
            <a:ext cx="9144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darbinātības valsts aģentūra </a:t>
            </a:r>
            <a:r>
              <a:rPr b="0" lang="lv-LV" sz="3200" spc="-1" strike="noStrike" u="sng">
                <a:solidFill>
                  <a:srgbClr val="006a7b"/>
                </a:solidFill>
                <a:uFillTx/>
                <a:latin typeface="Calibri"/>
              </a:rPr>
              <a:t>www.nva.gov.lv/pkiva 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rivātie personāla atlases uzņēmumi, piemēram, www.cv.lv 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www.workingday.lv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umu un profesionālās asociāciju mājas lapas, profesionāļu forum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5"/>
          <p:cNvSpPr/>
          <p:nvPr/>
        </p:nvSpPr>
        <p:spPr>
          <a:xfrm>
            <a:off x="0" y="40464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NODARBINĀTĪBAS VALSTS AĢENTŪ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6600"/>
                </a:solidFill>
                <a:latin typeface="Arial Narrow"/>
              </a:rPr>
              <a:t>http://www.nva.gov.lv/pkiva/index.php?cid=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10459" t="7039" r="11516" b="7113"/>
          <a:stretch/>
        </p:blipFill>
        <p:spPr>
          <a:xfrm>
            <a:off x="1835280" y="1557360"/>
            <a:ext cx="5978520" cy="5261040"/>
          </a:xfrm>
          <a:prstGeom prst="rect">
            <a:avLst/>
          </a:prstGeom>
          <a:ln w="0">
            <a:noFill/>
          </a:ln>
        </p:spPr>
      </p:pic>
      <p:sp>
        <p:nvSpPr>
          <p:cNvPr id="160" name="Oval 4"/>
          <p:cNvSpPr/>
          <p:nvPr/>
        </p:nvSpPr>
        <p:spPr>
          <a:xfrm>
            <a:off x="4067280" y="2205000"/>
            <a:ext cx="1728720" cy="5032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"/>
          <p:cNvPicPr/>
          <p:nvPr/>
        </p:nvPicPr>
        <p:blipFill>
          <a:blip r:embed="rId1"/>
          <a:srcRect l="9821" t="8393" r="11610" b="9353"/>
          <a:stretch/>
        </p:blipFill>
        <p:spPr>
          <a:xfrm>
            <a:off x="4157640" y="1413000"/>
            <a:ext cx="4986360" cy="4176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2"/>
          <a:srcRect l="11613" t="9331" r="12912" b="41941"/>
          <a:stretch/>
        </p:blipFill>
        <p:spPr>
          <a:xfrm>
            <a:off x="0" y="3976560"/>
            <a:ext cx="5580000" cy="28814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179280" y="4046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ERSONĀLA ATLASES UZŅĒMU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WWW.CV.LV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WWW.WORKINGDAY.L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66" name="Picture 6" descr="academics,commencements,graduations,mortarboards,special occasions,tassels,textbooks"/>
          <p:cNvPicPr/>
          <p:nvPr/>
        </p:nvPicPr>
        <p:blipFill>
          <a:blip r:embed="rId1"/>
          <a:stretch/>
        </p:blipFill>
        <p:spPr>
          <a:xfrm>
            <a:off x="3924360" y="4437000"/>
            <a:ext cx="158256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84280"/>
            <a:ext cx="8496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1. Ieva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2. Kāda informācija nepieciešama, lai plānotu savu karje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3. Kur un kā iegūt nepieciešamo informā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4. Ko darīt ar apkopoto informā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5. Izglītības sistēma Latvij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6. Informatīvie resursi internet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7. Kopsavilk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IEVADS</a:t>
            </a:r>
            <a:endParaRPr b="0" lang="en-US" sz="3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varīgi atcerēties: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formācijas pieejamība sniedz iespēj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pieņemt vislabāko lēmum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tač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formācijai jābūt precīzai, plašai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un atbilstošai izvirzītajam mērķim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97" name="Picture 7" descr="1281091899-7855"/>
          <p:cNvPicPr/>
          <p:nvPr/>
        </p:nvPicPr>
        <p:blipFill>
          <a:blip r:embed="rId1"/>
          <a:stretch/>
        </p:blipFill>
        <p:spPr>
          <a:xfrm>
            <a:off x="7812000" y="5013360"/>
            <a:ext cx="99072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1979640" y="1916280"/>
            <a:ext cx="4680000" cy="4176720"/>
          </a:xfrm>
          <a:prstGeom prst="rect">
            <a:avLst/>
          </a:prstGeom>
          <a:ln w="0">
            <a:noFill/>
          </a:ln>
        </p:spPr>
      </p:pic>
      <p:sp>
        <p:nvSpPr>
          <p:cNvPr id="99" name="Rounded Rectangular Callout 7"/>
          <p:cNvSpPr/>
          <p:nvPr/>
        </p:nvSpPr>
        <p:spPr>
          <a:xfrm>
            <a:off x="108000" y="1700280"/>
            <a:ext cx="1800000" cy="1657440"/>
          </a:xfrm>
          <a:prstGeom prst="wedgeRoundRectCallout">
            <a:avLst>
              <a:gd name="adj1" fmla="val 96569"/>
              <a:gd name="adj2" fmla="val 40171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ĒL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ĒRTĪ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8"/>
          <p:cNvSpPr/>
          <p:nvPr/>
        </p:nvSpPr>
        <p:spPr>
          <a:xfrm>
            <a:off x="6659640" y="1700280"/>
            <a:ext cx="2305080" cy="1800000"/>
          </a:xfrm>
          <a:prstGeom prst="wedgeRoundRectCallout">
            <a:avLst>
              <a:gd name="adj1" fmla="val -85666"/>
              <a:gd name="adj2" fmla="val 3405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SPĒ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RAS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ZINĀŠ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RAKSTURA ĪPAŠĪ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ESELĪBAS STĀVOK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FINANSIĀLĀS IESPĒ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9"/>
          <p:cNvSpPr/>
          <p:nvPr/>
        </p:nvSpPr>
        <p:spPr>
          <a:xfrm>
            <a:off x="1187280" y="4869000"/>
            <a:ext cx="1800360" cy="1655640"/>
          </a:xfrm>
          <a:prstGeom prst="wedgeRoundRectCallout">
            <a:avLst>
              <a:gd name="adj1" fmla="val 94171"/>
              <a:gd name="adj2" fmla="val -49939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IEPRASĪJUMS DARBA TIRG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DA INFORMĀCIJA NEPIECIEŠAMA, LAI PLĀNOTU SAVU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mani interesē tas, kas man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4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crime scenes,evidence,fingerprints,government,magnifying glasses,detectives,investigations,clues"/>
          <p:cNvPicPr/>
          <p:nvPr/>
        </p:nvPicPr>
        <p:blipFill>
          <a:blip r:embed="rId1"/>
          <a:stretch/>
        </p:blipFill>
        <p:spPr>
          <a:xfrm>
            <a:off x="6948360" y="3860640"/>
            <a:ext cx="179892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UZZINĀT PAR PROFESIJ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341360"/>
            <a:ext cx="8640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dara šīs profesijas pārstāvji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os apstākļos jāstrādā (telpas, darba stundas, instrumenti, ietekme uz veselību u.tml.)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jāzina un jāpro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sniedz gandarījumu un kādas ir “ēnas puses”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 un kurās mācību iestādēs var apgū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os uzņēmumos un organizācijās var strādā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izaugsmes iespēj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“radniecīgās” profesij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s ir iespējamais atalgojum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Cik pieprasīta darba tirgū tā ir/bū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8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tretch/>
        </p:blipFill>
        <p:spPr>
          <a:xfrm>
            <a:off x="7380360" y="465300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7"/>
          <p:cNvSpPr/>
          <p:nvPr/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UZZINĀT PAR IZGLĪTĪBAS IESPĒJĀ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50920" y="1341000"/>
            <a:ext cx="8640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urās mācību iestādēs var apgūt interesējošo profesiju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“radniecīgās” specialitāte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u profesionālo kvalifikāciju var iegū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nepieciešams, lai uzsāktu mācīb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 varēs turpināt izglītību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ur atrodas mācību iestāde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Cik ilgi jāmācā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Mācību maksa, budžeta viet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Prakses iespējas mācību laikā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Darba iespējas pēc mācībām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1" name="Picture 5" descr="academic,education,funnels,knowledge,learning,men,metaphors,people,students,training"/>
          <p:cNvPicPr/>
          <p:nvPr/>
        </p:nvPicPr>
        <p:blipFill>
          <a:blip r:embed="rId1"/>
          <a:srcRect l="30248" t="0" r="30224" b="0"/>
          <a:stretch/>
        </p:blipFill>
        <p:spPr>
          <a:xfrm>
            <a:off x="7421400" y="1916280"/>
            <a:ext cx="11113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80"/>
                </a:solidFill>
                <a:latin typeface="Calibri"/>
              </a:rPr>
              <a:t>KARJERAS PLĀNOŠANA</a:t>
            </a: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 SOĻI – KO TU VARI DARĪT JAU ŠODI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zini sevi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pēti profesijas un izglītības iespējas</a:t>
            </a:r>
            <a:r>
              <a:rPr b="0" lang="lv-LV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Pieņem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lēmumu</a:t>
            </a: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cxnSp>
        <p:nvCxnSpPr>
          <p:cNvPr id="114" name="Straight Arrow Connector 5"/>
          <p:cNvCxnSpPr/>
          <p:nvPr/>
        </p:nvCxnSpPr>
        <p:spPr>
          <a:xfrm>
            <a:off x="1547280" y="227628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843280" y="400500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16" name="Picture 8" descr="business,businessmen,choices,choosing,deciding,decisions,doors,keyholes,locks,males,metaphors,people,persons,skeleton keys"/>
          <p:cNvPicPr/>
          <p:nvPr/>
        </p:nvPicPr>
        <p:blipFill>
          <a:blip r:embed="rId1"/>
          <a:stretch/>
        </p:blipFill>
        <p:spPr>
          <a:xfrm>
            <a:off x="3492360" y="5084640"/>
            <a:ext cx="1511280" cy="1513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2-11-12T07:35:18Z</dcterms:modified>
  <cp:revision>241</cp:revision>
  <dc:subject/>
  <dc:title>Slide 1</dc:title>
</cp:coreProperties>
</file>