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C7287-1DAF-4CA7-A839-0B87C409E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CAA57-5CDA-4B86-8B2B-B7206BC32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10FBFC7F-9B16-423C-8082-AB694D00F99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78F11F5E-1A6F-4410-B7E5-FF6046E5E1A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8324A2BE-C0DB-4240-AA8C-E3D992B03E9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11EB5C1-FB2E-4C20-81F4-98EEE28F2A0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7230123-745C-47F5-ABA2-1A46CCB0132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2A8EDBA-58FC-4CE0-8870-5C4CA385972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379B0F1-3B4C-4F64-B9BB-63B987D77C2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8B1B6721-9275-4327-9EA2-0A8F5028E2F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9E6AC86B-F84F-4B1C-A766-DA64A0B6518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2FE46-3AE1-4D15-B59F-1AADC5EB6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99803-2C2E-4B33-83C8-92D2BAB12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4F38D-2494-48F5-83EC-1998831F0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F080CB-18C8-4675-A4EB-900C9B77F7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6AF4D630-95E0-468A-9827-5A5F81EDE0C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DE7BA29-41C1-4F1C-B635-CA6B1074442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B524847-629D-4702-9989-78F7F5CB91A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E79519A6-20A0-4724-9879-8581434575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103DE-19FB-44CD-A082-62830E93B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4A384BD6-EF29-4B8B-A6E2-B709A4F7414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3B38B3B-463F-4460-90D7-5CD24992107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425F57B-71B3-47EE-97D3-BF1D943EA07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E0D48FA-46EF-47CA-85C4-7838A92706F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C24471DF-AE3E-48E2-B9C4-761ECD14F0D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6E38763F-81AF-4A1E-A9EB-2ECDD5CA54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A1F6D1C1-DD04-4E57-ADB1-9375BE1F25E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27DA5E1-E436-40B6-9604-F8FD5C7FEC5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2A63756-194A-4122-BB78-50840F7F708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69C9A14B-DF52-4420-B056-434A9C34F7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466D9-D2A4-4F31-AF2C-6AD2FF7C5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8D43FBB8-3D49-4D44-BB18-957C3C5AEEA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D750A5E6-6085-4587-980A-459E40F8188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2DCB1417-D8F9-4E57-9BAA-8630BD280CC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4C1FE366-D2C0-4DD8-AE15-5B37B2D5637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6A69081-681E-4279-A718-3FDB53997F3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5C17ACF-2298-4EEB-9C66-AD50CA40AD4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84424329-EF17-4C29-A067-62CACE67060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4E410B0A-CAEC-484E-82E0-2E617735385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067DEF1F-30FC-4B4A-B6BC-EB929A9A311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B4E4680-FC51-412A-ACA0-4681EADB1A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575FB-F890-4581-B434-B037023B6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A124A114-1FEF-460C-B2C7-11344BBE946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9F88538E-5524-4E6F-966D-5C5F45CA2BD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7B0BC506-E36C-4039-95A2-F82AB0FAAA1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2F97E7BB-8F89-40E1-B416-D552096D28B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20CF2856-613D-4BB7-9BB2-7FAF8801730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DAB6A7B-61C5-4FAE-B3D8-4F276B6BC23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B0847C3-11CF-46FE-96E8-E4E07B2F235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9C34892-6319-4C0A-8D8A-5C87FBA000D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0960E24-D3F5-477F-B7BC-6F8F73C15D3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7BD20600-F335-4979-8ED2-4FD0B4BCDF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4057C-2066-457B-8A58-7D19289AE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44723FCA-85C3-44D1-8E6D-38495458077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C8FC76E-B1D7-4609-A13E-322C7E2ABE8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73B644F8-D4F5-4989-A082-AF1254B88FA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9491DEAE-A8EE-4E21-A8C3-40FB1488501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B6AC0307-E82F-48C2-9FCA-B52EF0BC94E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AB56ED56-44ED-4F2D-B802-3695E07A893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0B5BF585-D360-4AAE-A53F-EEB28888AE4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4181AAB-AB04-44DB-ADCF-7EF1EEB9472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A8793C0A-5B69-4B3F-94E6-772B9A1956E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538B8FC-F854-4D82-9555-E77628399F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94CC7-010B-48EB-AD16-DBA76EC7E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07A153A4-6B3E-420C-8E3B-D8039776AC8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8E67707A-BD46-4250-B441-A8918F6281B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E7ABB59D-AA1C-4865-A44C-8604D13F80B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29827E7-7B5A-44CF-A8C6-26B90051120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F9BADC6D-433A-4543-9A2D-06FE30196A5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63D61625-A286-4D4D-955B-1DEDF941C7F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DE7D2A75-3E92-4EA6-A290-F21DDE44B4E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BAAB96A4-42CC-4C0A-87B0-0338071BDB9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8B8D1888-D809-41A2-88B2-066080E1A8D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CC121E4-CC7D-48A8-8D28-FF97CDED7A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D5BD9-0F5B-400F-AE4C-D99A6886C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B06D3DB-16C2-49DA-9B91-C4961269D2B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68571D3-BB71-44CC-9738-36C05DF7404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E9AFFCA8-A931-4E34-9FB4-5B8F5BDA599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EE5C7A1E-27BE-4175-8528-0E767AFF46C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EF815E4C-C607-44AE-9B7D-B76580CD9F2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A970D47-D0AF-43F7-9769-CCD1B33088A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5C724CCD-6EAC-4052-A6D8-874846F1858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681B28F6-50B1-4632-BFDF-4EA8E09C6A0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A9FC5052-2123-4B0D-BC41-79ADEE12B0B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8690039C-9C18-4369-98A5-68AD161316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6BB09-BE4D-4302-A6F7-074A4DF45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944C936D-53FA-4E96-B591-A0FF5B40EDA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146A08C-155E-4127-8AB9-644413DD573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4350697-BBF1-48CA-9C65-504618AA853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A955A79-E0D4-4D03-8369-582B74845C1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EE836855-D6A7-45AD-A601-93D323D8A80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44E7B2D9-E376-4154-A0D5-16277AF8E25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FF5DFD6A-E5DB-42FC-B5E9-0D1E893E885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378C0EB-9F45-463C-B334-5BFB86AD02F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5E4805F6-F064-4A15-B632-E666515D06D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7567076B-4E7E-46B6-945C-EFF81E9193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4ACCF17-95B5-4836-AABB-8E3B630B665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A46711-3E99-4302-B6E0-F61FBB8FF2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1F240D-40AB-4103-A64A-358BB1EEBD7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3E5EF3B-B6AB-48CF-95FA-2B75533AD98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C8798A7-FC98-4EF3-A2FF-5C3C6B7626C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1FE2FB1-F63C-414B-B882-888ED2BC558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78D3AF-8124-4E41-85DA-DC10C55EB98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7C32490-A262-4CBC-B276-7E69DC7337F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F9FF25-9CF4-40FC-8378-DD4A8426521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178080"/>
            <a:ext cx="7772400" cy="14241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Verdana"/>
                <a:ea typeface="Verdana"/>
              </a:rPr>
              <a:t>Atbalsts dalībai starptautiskās sadarbības programmās pētniecības un tehnoloģiju jomā</a:t>
            </a:r>
            <a:endParaRPr b="0" lang="en-US" sz="2900" spc="-1" strike="noStrike">
              <a:solidFill>
                <a:srgbClr val="000000"/>
              </a:solidFill>
              <a:latin typeface="Times New Roman"/>
            </a:endParaRPr>
          </a:p>
        </p:txBody>
      </p:sp>
      <p:sp>
        <p:nvSpPr>
          <p:cNvPr id="403" name="PlaceHolder 2"/>
          <p:cNvSpPr>
            <a:spLocks noGrp="1"/>
          </p:cNvSpPr>
          <p:nvPr>
            <p:ph/>
          </p:nvPr>
        </p:nvSpPr>
        <p:spPr>
          <a:xfrm>
            <a:off x="685800" y="4724280"/>
            <a:ext cx="7772400" cy="91440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Maija Bundule</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Pētniecības Starptautisko programmu nodaļas vadītāja</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Valsts Izglītības attīstības aģentūra</a:t>
            </a:r>
            <a:endParaRPr b="0" lang="en-US" sz="1400" spc="-1" strike="noStrike">
              <a:solidFill>
                <a:srgbClr val="000000"/>
              </a:solidFill>
              <a:latin typeface="Times New Roman"/>
            </a:endParaRPr>
          </a:p>
        </p:txBody>
      </p:sp>
      <p:sp>
        <p:nvSpPr>
          <p:cNvPr id="404" name="PlaceHolder 3"/>
          <p:cNvSpPr>
            <a:spLocks noGrp="1"/>
          </p:cNvSpPr>
          <p:nvPr>
            <p:ph/>
          </p:nvPr>
        </p:nvSpPr>
        <p:spPr>
          <a:xfrm>
            <a:off x="685800" y="5760720"/>
            <a:ext cx="7772400" cy="6397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400" spc="-1" strike="noStrike">
              <a:solidFill>
                <a:srgbClr val="000000"/>
              </a:solidFill>
              <a:latin typeface="Verdana"/>
              <a:ea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Projekta attiecināmās izmaksas</a:t>
            </a:r>
            <a:endParaRPr b="0" lang="en-US" sz="2400" spc="-1" strike="noStrike">
              <a:solidFill>
                <a:srgbClr val="000000"/>
              </a:solidFill>
              <a:latin typeface="Times New Roman"/>
            </a:endParaRPr>
          </a:p>
        </p:txBody>
      </p:sp>
      <p:sp>
        <p:nvSpPr>
          <p:cNvPr id="446" name=""/>
          <p:cNvSpPr txBox="1"/>
          <p:nvPr/>
        </p:nvSpPr>
        <p:spPr>
          <a:xfrm>
            <a:off x="1218960" y="1752120"/>
            <a:ext cx="7467480" cy="4373640"/>
          </a:xfrm>
          <a:prstGeom prst="rect">
            <a:avLst/>
          </a:prstGeom>
          <a:noFill/>
          <a:ln w="0">
            <a:noFill/>
          </a:ln>
        </p:spPr>
        <p:txBody>
          <a:bodyPr lIns="93960" rIns="93960" tIns="46800" bIns="46800" anchor="t">
            <a:normAutofit/>
          </a:bodyPr>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tiešās izmaksas</a:t>
            </a:r>
            <a:r>
              <a:rPr b="0" lang="lv-LV" sz="1400" spc="-1" strike="noStrike">
                <a:solidFill>
                  <a:srgbClr val="404040"/>
                </a:solidFill>
                <a:latin typeface="Verdana"/>
                <a:ea typeface="Verdana"/>
              </a:rPr>
              <a:t>:</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ā nodarbinātā personāla atlīdzība saskaņā ar šādām stundas likmēm:</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zinātniskajām vadītājam – līdz 20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galvenajam izpildītājam – līdz 16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izpildītājam – līdz 14 EUR stundā.</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Zinātniskā aprīkojuma un iekārtu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Ēku un zemes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Līgumpētījumu, konsultantu pakalpojumu izmaksas, patentu iegādes izmaksas – nepārsniedzot 25% no projekta kopējām attiecināmajām izmaksām;</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Maksa par materiāliem, inventāru un instrumentiem, ciktāl tos izmanto projektā, to iegādes un piegāde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atentu vai cita rūpnieciskā īpašuma tiesību iegūšanas, apstiprināšanas un aizstāvēšana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ārējā audita izmaksas (ja nepieciešams);</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netiešās izmaksas</a:t>
            </a:r>
            <a:r>
              <a:rPr b="0" lang="lv-LV" sz="1400" spc="-1" strike="noStrike">
                <a:solidFill>
                  <a:srgbClr val="404040"/>
                </a:solidFill>
                <a:latin typeface="Verdana"/>
                <a:ea typeface="Verdana"/>
              </a:rPr>
              <a:t>, kas nepārsniedz 25% no projekta tiešo izmaksu summas, kurā nav ieskaitītas ārpakalpojumu izmaksas. </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434CF9-8981-4686-AE61-4741209A4F2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s dalībai COST akcijā</a:t>
            </a:r>
            <a:endParaRPr b="0" lang="en-US" sz="2400" spc="-1" strike="noStrike">
              <a:solidFill>
                <a:srgbClr val="000000"/>
              </a:solidFill>
              <a:latin typeface="Times New Roman"/>
            </a:endParaRPr>
          </a:p>
        </p:txBody>
      </p:sp>
      <p:sp>
        <p:nvSpPr>
          <p:cNvPr id="451" name=""/>
          <p:cNvSpPr txBox="1"/>
          <p:nvPr/>
        </p:nvSpPr>
        <p:spPr>
          <a:xfrm>
            <a:off x="1349280" y="1752120"/>
            <a:ext cx="733752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Var piešķirt valsts līdzfinansējumu bet ne vairāk kā 2 200 EUR gadā (izņemot izmaksas, kas saistītas ar COST akcijas ietvaros plānoto starptautisko pasākumu organizēšanu Latvijā un to norisi) šādu izdevumu segšanai:</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1. dalībai COST akcijas vadības komitejas sanāksmēs tiem speciālistiem, kuri nav apstiprināti kā Latvijas pārstāvji akcijas vadības komitejā;</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2. dalībai COST akcijas darba grupu sēdē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3. dalībai COST akcijas ietvaros organizētajos pasākumos (konferencēs, semināros un apmācības pasākumo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ietvaros plānotu starptautisku pasākumu norisei Latvijā; </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koordinatora funkciju izpildei, līdzfinansējot šīs aktivitātes administrēšanas izdevumu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5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FBE818B-4B86-43BB-9EA2-F57461DB2D4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regulējums</a:t>
            </a:r>
            <a:endParaRPr b="0" lang="en-US" sz="2400" spc="-1" strike="noStrike">
              <a:solidFill>
                <a:srgbClr val="000000"/>
              </a:solidFill>
              <a:latin typeface="Times New Roman"/>
            </a:endParaRPr>
          </a:p>
        </p:txBody>
      </p:sp>
      <p:sp>
        <p:nvSpPr>
          <p:cNvPr id="406" name=""/>
          <p:cNvSpPr txBox="1"/>
          <p:nvPr/>
        </p:nvSpPr>
        <p:spPr>
          <a:xfrm>
            <a:off x="2590560" y="1752120"/>
            <a:ext cx="609588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Ministru kabineta 2015.gada 26.maija noteikumi nr.259 «Atbalsta piešķiršanas kārtība dalībai starptautiskās sadarbības programmās pētniecības un tehnoloģiju jomā»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Finansējums no valsts budžeta apakšprogrammas 70.06.00 «Dalība Eiropas Savienības pētniecības un tehnoloģiju attīstības programmā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0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645799-E514-4563-B556-B18DFA01554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piešķirt</a:t>
            </a:r>
            <a:endParaRPr b="0" lang="en-US" sz="2400" spc="-1" strike="noStrike">
              <a:solidFill>
                <a:srgbClr val="000000"/>
              </a:solidFill>
              <a:latin typeface="Times New Roman"/>
            </a:endParaRPr>
          </a:p>
        </p:txBody>
      </p:sp>
      <p:sp>
        <p:nvSpPr>
          <p:cNvPr id="411" name=""/>
          <p:cNvSpPr txBox="1"/>
          <p:nvPr/>
        </p:nvSpPr>
        <p:spPr>
          <a:xfrm>
            <a:off x="1584000" y="1752120"/>
            <a:ext cx="7102440" cy="4373640"/>
          </a:xfrm>
          <a:prstGeom prst="rect">
            <a:avLst/>
          </a:prstGeom>
          <a:noFill/>
          <a:ln w="0">
            <a:noFill/>
          </a:ln>
        </p:spPr>
        <p:txBody>
          <a:bodyPr lIns="93960" rIns="93960" tIns="46800" bIns="46800" anchor="t">
            <a:normAutofit/>
          </a:bodyPr>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7.Ietvara programma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ētniecības un inovāciju atbalsta programmas Apvārsnis 2020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alībvalsti kopīgo programmu (LESD 185.pant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Kopējo tehnoloģiju ierosmju (LESD 187.pants)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700" spc="-1" strike="noStrike">
                <a:solidFill>
                  <a:srgbClr val="404040"/>
                </a:solidFill>
                <a:latin typeface="Verdana"/>
                <a:ea typeface="Verdana"/>
              </a:rPr>
              <a:t>Fusion for Energy</a:t>
            </a:r>
            <a:r>
              <a:rPr b="0" lang="lv-LV" sz="1700" spc="-1" strike="noStrike">
                <a:solidFill>
                  <a:srgbClr val="404040"/>
                </a:solidFill>
                <a:latin typeface="Verdana"/>
                <a:ea typeface="Verdana"/>
              </a:rPr>
              <a:t> (ITER projekts) kopuzņēmuma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URATOM programmas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COST aktivitātē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RA-NET, ERA-NET Plus un ERA-NET COFUND ietvaros atbalstīt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i ERIC </a:t>
            </a:r>
            <a:r>
              <a:rPr b="0" i="1" lang="lv-LV" sz="1700" spc="-1" strike="noStrike">
                <a:solidFill>
                  <a:srgbClr val="404040"/>
                </a:solidFill>
                <a:latin typeface="Verdana"/>
                <a:ea typeface="Verdana"/>
              </a:rPr>
              <a:t>European Social Survey </a:t>
            </a:r>
            <a:r>
              <a:rPr b="0" lang="lv-LV" sz="1700" spc="-1" strike="noStrike">
                <a:solidFill>
                  <a:srgbClr val="404040"/>
                </a:solidFill>
                <a:latin typeface="Verdana"/>
                <a:ea typeface="Verdana"/>
              </a:rPr>
              <a:t>pētījuma posmos</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s maksas starptautisko programmu konsorcijos, t.sk. Eiropas Akadēmiskajā tīklā GEANT, nodrošinot tam Latvijas pieslēgumu  </a:t>
            </a:r>
            <a:endParaRPr b="0" lang="en-US" sz="1700" spc="-1" strike="noStrike">
              <a:solidFill>
                <a:srgbClr val="000000"/>
              </a:solidFill>
              <a:latin typeface="Times New Roman"/>
            </a:endParaRPr>
          </a:p>
          <a:p>
            <a:pPr marL="90360" indent="-90360">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1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D0665FA-D9AE-4F0B-BB82-2479E18B7E0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apmērs</a:t>
            </a:r>
            <a:endParaRPr b="0" lang="en-US" sz="2400" spc="-1" strike="noStrike">
              <a:solidFill>
                <a:srgbClr val="000000"/>
              </a:solidFill>
              <a:latin typeface="Times New Roman"/>
            </a:endParaRPr>
          </a:p>
        </p:txBody>
      </p:sp>
      <p:sp>
        <p:nvSpPr>
          <p:cNvPr id="416" name=""/>
          <p:cNvSpPr txBox="1"/>
          <p:nvPr/>
        </p:nvSpPr>
        <p:spPr>
          <a:xfrm>
            <a:off x="1436400" y="1684080"/>
            <a:ext cx="68454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saskaņā ar projekta izdevumu plānojum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bilstoši attiecīgās programmas nosacījum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nepārsniedz vienu miljonu EUR/gadā vienam projektam.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1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3A9D176-1B28-417A-B840-62759967ABA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saņemt</a:t>
            </a:r>
            <a:endParaRPr b="0" lang="en-US" sz="2400" spc="-1" strike="noStrike">
              <a:solidFill>
                <a:srgbClr val="000000"/>
              </a:solidFill>
              <a:latin typeface="Times New Roman"/>
            </a:endParaRPr>
          </a:p>
        </p:txBody>
      </p:sp>
      <p:sp>
        <p:nvSpPr>
          <p:cNvPr id="421" name=""/>
          <p:cNvSpPr txBox="1"/>
          <p:nvPr/>
        </p:nvSpPr>
        <p:spPr>
          <a:xfrm>
            <a:off x="1463760" y="1752120"/>
            <a:ext cx="7223040" cy="4373640"/>
          </a:xfrm>
          <a:prstGeom prst="rect">
            <a:avLst/>
          </a:prstGeom>
          <a:noFill/>
          <a:ln w="0">
            <a:noFill/>
          </a:ln>
        </p:spPr>
        <p:txBody>
          <a:bodyPr lIns="93960" rIns="93960" tIns="46800" bIns="46800" anchor="t">
            <a:normAutofit/>
          </a:bodyPr>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Izglītības un zinātnes ministrijas Zinātnisko institūciju reģistrā reģistrēta zinātniskā institūcija;</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Uzņēmums (mikro, mazais, vidējais, lielais) kas reģistrēts Uzņēmumu reģistrā;</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ja ir noslēgts līgums ar Eiropas Komis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līgums ar Latvijas Zinātņu akadēm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tiek slēgts līgums ar Valsts izglītības attīstības aģentūru par projekta īstenošanu.</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125783-9DA7-41F9-9C62-50E21E539B5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386080" y="380880"/>
            <a:ext cx="630072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 -1</a:t>
            </a:r>
            <a:endParaRPr b="0" lang="en-US" sz="2400" spc="-1" strike="noStrike">
              <a:solidFill>
                <a:srgbClr val="000000"/>
              </a:solidFill>
              <a:latin typeface="Times New Roman"/>
            </a:endParaRPr>
          </a:p>
        </p:txBody>
      </p:sp>
      <p:sp>
        <p:nvSpPr>
          <p:cNvPr id="426" name=""/>
          <p:cNvSpPr txBox="1"/>
          <p:nvPr/>
        </p:nvSpPr>
        <p:spPr>
          <a:xfrm>
            <a:off x="914400" y="1752120"/>
            <a:ext cx="7772400" cy="4373640"/>
          </a:xfrm>
          <a:prstGeom prst="rect">
            <a:avLst/>
          </a:prstGeom>
          <a:noFill/>
          <a:ln w="0">
            <a:noFill/>
          </a:ln>
        </p:spPr>
        <p:txBody>
          <a:bodyPr lIns="93960" rIns="93960" tIns="46800" bIns="46800" anchor="t">
            <a:normAutofit/>
          </a:bodyPr>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Atbalsta pretendentam ir noteiktas šādas prasība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1. tas tieši atbild par projekta sagatavošanu un izpildi;</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2. tam ir pieejami stabili un pietiekami finanšu līdzekļi, atbilstošs pētnieciskais un tehniskais personāls (laboranti un tehniķi), kā arī projekta īstenošanai nepieciešamais materiāltehniskais nodrošinājum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3. neattiecas neizpildīts līdzekļu atgūšanas rīkojums atbilstoši regulas Nr. 651/2014 1. panta 4. punkta "a" apakšpunktam, ja viņš pretendē uz valsts atbalst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4. saskaņā ar Valsts ieņēmumu dienesta administrēto nodokļu (nodevu) parādnieku datubāzē pieejamo informāciju nav nodokļu vai nodevu parād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5. tam nav ar tiesas nolēmumu pasludināts 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6. tas nav sodīts par Latvijas Administratīvo pārkāpumu kodeksa 189.</a:t>
            </a:r>
            <a:r>
              <a:rPr b="0" lang="lv-LV" sz="1300" spc="-1" strike="noStrike" baseline="30000">
                <a:solidFill>
                  <a:srgbClr val="000000"/>
                </a:solidFill>
                <a:latin typeface="Verdana"/>
                <a:ea typeface="Verdana"/>
              </a:rPr>
              <a:t>2</a:t>
            </a:r>
            <a:r>
              <a:rPr b="0" lang="lv-LV" sz="1300" spc="-1" strike="noStrike">
                <a:solidFill>
                  <a:srgbClr val="000000"/>
                </a:solidFill>
                <a:latin typeface="Verdana"/>
                <a:ea typeface="Verdana"/>
              </a:rPr>
              <a:t> panta trešajā daļā minēto administratīvo pārkāpumu vai tam nav piemēroti piespiedu ietekmēšanas līdzekļi par Krimināllikuma 280. panta otrajā daļā minētā noziedzīgā nodarījuma izdarīšan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7. ja tiek saņemts valsts atbalsts, tas nav grūtībās nonācis uzņēmums atbilstoši regulas Nr. 651/2014 2. panta 18. punkta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8. tas nav saņēmis vai neplāno saņemt par tām pašām projekta attiecināmajām izmaksām finansējumu no citiem Eiropas Savienības finanšu avotiem vai citiem finanšu resursie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9. uzņēmums ir iesniedzis finanšu pārskatus par diviem pēdējiem noslēgtajiem saimnieciskajiem gadiem.</a:t>
            </a:r>
            <a:endParaRPr b="0" lang="en-US" sz="1300" spc="-1" strike="noStrike">
              <a:solidFill>
                <a:srgbClr val="000000"/>
              </a:solidFill>
              <a:latin typeface="Times New Roman"/>
            </a:endParaRPr>
          </a:p>
          <a:p>
            <a:pPr>
              <a:lnSpc>
                <a:spcPct val="80000"/>
              </a:lnSpc>
              <a:spcBef>
                <a:spcPts val="32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300" spc="-1" strike="noStrike">
              <a:solidFill>
                <a:srgbClr val="000000"/>
              </a:solidFill>
              <a:latin typeface="Times New Roman"/>
            </a:endParaRPr>
          </a:p>
        </p:txBody>
      </p:sp>
      <p:sp>
        <p:nvSpPr>
          <p:cNvPr id="42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EB3B592-41AC-468A-845B-1205ADEA08A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2</a:t>
            </a:r>
            <a:endParaRPr b="0" lang="en-US" sz="2400" spc="-1" strike="noStrike">
              <a:solidFill>
                <a:srgbClr val="000000"/>
              </a:solidFill>
              <a:latin typeface="Times New Roman"/>
            </a:endParaRPr>
          </a:p>
        </p:txBody>
      </p:sp>
      <p:sp>
        <p:nvSpPr>
          <p:cNvPr id="431" name=""/>
          <p:cNvSpPr txBox="1"/>
          <p:nvPr/>
        </p:nvSpPr>
        <p:spPr>
          <a:xfrm>
            <a:off x="948960" y="1752120"/>
            <a:ext cx="7737480" cy="4373640"/>
          </a:xfrm>
          <a:prstGeom prst="rect">
            <a:avLst/>
          </a:prstGeom>
          <a:noFill/>
          <a:ln w="0">
            <a:noFill/>
          </a:ln>
        </p:spPr>
        <p:txBody>
          <a:bodyPr lIns="93960" rIns="93960" tIns="46800" bIns="46800" anchor="t">
            <a:normAutofit/>
          </a:bodyPr>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3. atbalsta pretendents - pētniecības organizācija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4. ja pretendē uz valsts atbalstu, tas iesniedz informāciju par atbalsta stimulējošo ietekmi atbilstoši regulas Nr. 651/2014 6. panta 2. punktam (ja attiecināms);</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5. atbalsta pretendents - pētniecības organizācija, saņemot valsts atbalstu,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7F94384-BC7A-458D-96DB-D0C6A4F5882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intensitāte -1</a:t>
            </a:r>
            <a:endParaRPr b="0" lang="en-US" sz="2400" spc="-1" strike="noStrike">
              <a:solidFill>
                <a:srgbClr val="000000"/>
              </a:solidFill>
              <a:latin typeface="Times New Roman"/>
            </a:endParaRPr>
          </a:p>
        </p:txBody>
      </p:sp>
      <p:sp>
        <p:nvSpPr>
          <p:cNvPr id="436" name=""/>
          <p:cNvSpPr txBox="1"/>
          <p:nvPr/>
        </p:nvSpPr>
        <p:spPr>
          <a:xfrm>
            <a:off x="1131840" y="1752120"/>
            <a:ext cx="7554960" cy="4373640"/>
          </a:xfrm>
          <a:prstGeom prst="rect">
            <a:avLst/>
          </a:prstGeom>
          <a:noFill/>
          <a:ln w="0">
            <a:noFill/>
          </a:ln>
        </p:spPr>
        <p:txBody>
          <a:bodyPr lIns="93960" rIns="93960" tIns="46800" bIns="46800" anchor="t">
            <a:normAutofit/>
          </a:bodyPr>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 </a:t>
            </a:r>
            <a:r>
              <a:rPr b="0" lang="lv-LV" sz="1700" spc="-1" strike="noStrike">
                <a:solidFill>
                  <a:srgbClr val="000000"/>
                </a:solidFill>
                <a:latin typeface="Verdana"/>
                <a:ea typeface="Verdana"/>
              </a:rPr>
              <a:t>atbilstoši Eiropas Komisijas 2014.gada 14.jūnija Regulas (ES) Nr.651/2014 ar ko noteiktas atbalsta kategorijas atzītas par saderīgām ar iekšējo tirgu, piemērojot Līguma 107. un 108.pantu;</a:t>
            </a: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Atbalsta intensitāte katram atbalsta saņēmējam nepārsniedz:</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fundamentāliem pētījumiem  - 10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Rūpnieciskajiem pētījumiem –  5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Eksperimentālajai izstrādei – 25%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Mikro, maziem un vidējiem uzņēmumiem atbalsta intensitāte rūpniecisko pētījumu un eksperimentālās izstrādes gadījumā var tikt palielināta, bet tā nepārsniedz 80% no projekta attiecināmajām izmaksām.  </a:t>
            </a:r>
            <a:endParaRPr b="0" lang="en-US" sz="1700" spc="-1" strike="noStrike">
              <a:solidFill>
                <a:srgbClr val="000000"/>
              </a:solidFill>
              <a:latin typeface="Times New Roman"/>
            </a:endParaRPr>
          </a:p>
          <a:p>
            <a:pPr>
              <a:lnSpc>
                <a:spcPct val="9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2D553F-0CE2-43A1-8C98-10DB97DC8DA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Atbalsta intensitāte -2</a:t>
            </a:r>
            <a:endParaRPr b="0" lang="en-US" sz="2400" spc="-1" strike="noStrike">
              <a:solidFill>
                <a:srgbClr val="000000"/>
              </a:solidFill>
              <a:latin typeface="Times New Roman"/>
            </a:endParaRPr>
          </a:p>
        </p:txBody>
      </p:sp>
      <p:sp>
        <p:nvSpPr>
          <p:cNvPr id="441" name=""/>
          <p:cNvSpPr txBox="1"/>
          <p:nvPr/>
        </p:nvSpPr>
        <p:spPr>
          <a:xfrm>
            <a:off x="1201680" y="1752120"/>
            <a:ext cx="7485120" cy="4373640"/>
          </a:xfrm>
          <a:prstGeom prst="rect">
            <a:avLst/>
          </a:prstGeom>
          <a:noFill/>
          <a:ln w="0">
            <a:noFill/>
          </a:ln>
        </p:spPr>
        <p:txBody>
          <a:bodyPr lIns="93960" rIns="93960" tIns="46800" bIns="46800" anchor="t">
            <a:normAutofit/>
          </a:bodyPr>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Valsts atbalsta intensitāti var palielināt: </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1. 10% apmērā no projekta attiecināmajām izmaksām, ja atbalstu piešķir atbalsta pretendentam, kas ir vidējais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2. 20%  apmērā no projekta attiecināmajām izmaksām, ja atbalstu piešķir atbalsta pretendentam, kas ir mazais (mikro)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3. 15%  apmērā no projekta attiecināmajām izmaksām papildus 1. vai 2.punktā norādītajam apmēram, ja:</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s paredz efektīvu sadarbību kādā no šādiem gadījumiem:</a:t>
            </a:r>
            <a:endParaRPr b="0" lang="en-US" sz="16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starp uzņēmumiem, no kuriem vismaz viens ir sīkais (mikro), mazais vai vidējais uzņēmums, </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i projektu īsteno vismaz divās valstīs un neviens atsevišķs uzņēmums nesedz vairāk kā 70% no projekta attiecināmajām izmaksām;</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starp uzņēmumu un vienu vai vairākām pētniecības organizācijām, kuras sedz vismaz 10% no projekta attiecināmajām izmaksām un kurām ir tiesības publicēt projektā veikto pētījumu rezultātus;</a:t>
            </a:r>
            <a:endParaRPr b="0" lang="en-US" sz="14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a rezultātus izplata tehniskajās un zinātniskajās konferencēs vai publicē zinātnes vai tehnikas izdevumos, publiski pieejamās datubāzēs vai atvērtā pirmkoda programmatūras veidā.</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D7FCE34-2A7B-4845-9492-44881B8A1C8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Maija Bundule</cp:lastModifiedBy>
  <dcterms:modified xsi:type="dcterms:W3CDTF">2016-05-12T13:53:00Z</dcterms:modified>
  <cp:revision>16</cp:revision>
  <dc:subject/>
  <dc:title>PowerPoint Presentation</dc:title>
</cp:coreProperties>
</file>