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4FF9-A88F-4C09-996D-B9E02DE94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6AC0-7CF4-4854-98CE-546594EF5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007D8F-440B-4FC8-9D82-CAE2365A7236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6BA78D-14A4-4BB7-B429-CD98AB5AD8A3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D884ED-7567-4C2B-B12F-84347E4AA59C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E23FD5-6EE2-46F2-BE0E-C27CBA7BC3D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6615E3-1F68-4E91-B83F-8E64A8A3447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F74944-6C9B-41F1-BA18-2548D88A85AE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AA3C64-AA02-4C8C-B3D7-8AB3A913FAB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FD2C66-5B29-49C5-9BCB-21CA75E2CB22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D9CF8A-7DD9-4C83-BA2E-67098052A8FD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B725-E416-495C-8CA5-C221B3A23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6A13-7DA7-49DA-88B3-7268F1E06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985E-B217-4E66-B32C-C2685E56D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E1A787-6014-4C78-A3C0-33E56BA554C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0A5C2B-E556-459C-A1D2-BC011372000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D111C3-D63C-4825-9097-838ED8811EC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588166-6C81-4AD4-A966-08E1CD42B03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33A6AE-53E6-4CA6-BC86-E8936531D4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3372-82D2-4D18-BC7F-C0446E2FD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E3A31B-CD44-4B5D-B8DF-30811B38E9A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6C850C-B4C7-43DB-A598-54C4F6C694F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4D3E4B-77F0-489B-91B1-0AAE09FEC26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1B240B-3624-41F3-806B-C7B9A701325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0E1D02-6D52-4AA0-9C56-F189BB55FF4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31A202-37FA-48D9-8859-BCA5CF419F0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D1EE74-4470-42C5-8066-F7C503A8D1E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E44998-DF35-43BB-8786-1EF5B14D705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F44B74-F827-446A-84D2-92DB22DCA8C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F816A8-424C-47F3-A465-7DC53240CB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52A2-09DA-45FB-A0CB-7C68D93CF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24C857-2F45-438E-82BF-9806C6FC0B7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87713A-E010-4C58-900F-3BA7D49CA07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24FB47-CB10-42A9-BC24-D4049817D8B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AB2E8A-7A84-4EAA-9CEF-F9174C14257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E7A87A-7DA9-4F98-A822-675842A874D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4B031E-C516-424A-BFEA-DD0892C294D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5D69C8-6A8E-4C29-981A-FCC9271351D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ED4F06-2CFC-460A-BEAF-FE64DAC227C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E58A1E-5DC0-4E42-BF0D-5401CAE3488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793DD-3B32-4CC1-BF1A-1E6573A718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398C-0473-4B9D-9ABD-DA3982B80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C036E-E7AB-43BF-88FE-FB2D43B32CE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C868C-869E-44F3-9B0C-FD7147579F5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C3DB1-970E-41DD-9E34-DAAE5DA59B9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A1DEC-7DF9-41C1-9C73-EA141E1CC0B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E1151-61A4-4ABD-B6F4-FB77E3B2AAA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11330-14B7-487B-A86C-DC9EB21D8C0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D7A03-86AE-4FCB-887B-9F34B46771A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FB5D9-7932-4501-9E88-72C198CBC2F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19500-3319-4D6C-B389-44E0C6A1933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3085C-EB71-450A-A201-D892DA3040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BC82-D355-4798-95C7-EFB53BD16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9CC17-E890-4F98-A0D6-BFF9CEC010F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208A80-43A3-48CC-8103-806A7C3EF07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BFE0DF-E373-4031-9DE6-973B8DF5064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F17F81-1110-49CE-9591-AA1886AB91A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408DF6-E598-4DC2-B512-F36711D5541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9975DB-1D51-45A5-B5EB-5CDF9D51BE0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F9F224-0C9A-40B2-95AA-6D589E46A78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B5B79A-C1CB-45F0-AC85-1345AB9C7DC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0D6F10-2CED-400C-BF64-4F821C62691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B37BE5-8C6F-4CA9-A9DE-64C129766B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C369-472B-4119-974F-C61C0C6D9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BD4708-E165-4464-8EF0-AFB1B3DCDFD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7EACEE-D89B-46C2-9775-958181F8CA6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DA3776-C453-416C-A61F-FD6D7064D990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FB1C6D-3390-4FF3-976A-E2E85C763BF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01A6BC-EE08-4D70-8BC4-033C10A480D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A01566-8CEA-4454-A76F-4DCEFD95791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44C86D-B848-44D3-A131-59016B7DF30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E94081-236C-4556-AAD4-EBE37ECC1DF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42B07A-D390-4D75-8DEE-0677580AE738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FC9B61-7EC9-4C39-B8B4-BD7BEE0F83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AF0E-DF00-4F33-B82E-C9FF6D9A0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AB9FB9-A4BF-4498-9893-1CB0D40DC444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A7B4F7-924C-4B59-9AAD-A5AB9D29406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686C30-78EE-404E-BD63-9E795C2B2F0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77A7E4-BBAE-4097-B090-633DE5BE87E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CEE938-C951-4738-93E9-BD3C0AC3863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28B14-4A14-4A17-AABD-6A883B5A959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E96AB-6051-44E0-9226-52146BA50DA0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C46F3-2286-455B-909B-6554E1BEADCE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7758A-E8AC-495E-8F3A-77C1C80D30E1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9E3E9-0700-44E9-8D7C-986832BA75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84A5-CD41-4460-B71A-B02034D9E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6C50E-CADE-4AE1-8676-90F08D97837E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B64CD-8C1D-43BA-8E6E-A5B811594FE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B84E1-143A-4E34-9988-5D93167B7132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F2208-D1CB-4D37-B6BC-FB411EF0C246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B400D-9FA6-42DC-B653-D75A3948EFD7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E818E-4171-4B67-AFC7-57F96AEF0955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D963A-2387-4892-804A-A227BB9CC6E1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9A9B66-3A76-4729-A1F8-18DDAEAB75D3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F793D3-A1FF-4AEC-BA23-89315E98F9C7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990361-C384-4D83-9109-46654B3249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E8314E6-3684-445B-AFCA-214D63D09F46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5073484-CB60-4751-BB6C-540C634CA1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7" descr=""/>
          <p:cNvPicPr/>
          <p:nvPr/>
        </p:nvPicPr>
        <p:blipFill>
          <a:blip r:embed="rId2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6" descr=""/>
          <p:cNvPicPr/>
          <p:nvPr/>
        </p:nvPicPr>
        <p:blipFill>
          <a:blip r:embed="rId3"/>
          <a:stretch/>
        </p:blipFill>
        <p:spPr>
          <a:xfrm>
            <a:off x="2682720" y="0"/>
            <a:ext cx="3778560" cy="416556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2682720" y="0"/>
            <a:ext cx="3778560" cy="4165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43" name="Title 1"/>
          <p:cNvSpPr/>
          <p:nvPr/>
        </p:nvSpPr>
        <p:spPr>
          <a:xfrm>
            <a:off x="685800" y="4724280"/>
            <a:ext cx="777240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052E485-82B1-423E-AB27-6716CDE9C50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76047BC-6CDF-4217-86E8-01A123BF99B8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B7A96A8-8F48-48A8-B489-1964BAA7B22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2C4C080-4765-499D-8E6D-2B1858CF330B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sldNum" idx="8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25023EB-9F8E-496A-B46C-B84209194DDC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sldNum" idx="9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3E86FB4-FC9E-4522-9095-9BA53EEFE10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sldNum" idx="10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995C15C-EA29-41AE-A2C3-0F8DCC8060A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3505320"/>
            <a:ext cx="7772400" cy="960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i="1" lang="lv-LV" sz="3200" spc="-1" strike="noStrike">
                <a:solidFill>
                  <a:srgbClr val="000000"/>
                </a:solidFill>
                <a:latin typeface="Verdana"/>
                <a:ea typeface="Verdana"/>
              </a:rPr>
              <a:t>Baltic Bonus </a:t>
            </a:r>
            <a:r>
              <a:rPr b="1" lang="lv-LV" sz="3200" spc="-1" strike="noStrike">
                <a:solidFill>
                  <a:srgbClr val="000000"/>
                </a:solidFill>
                <a:latin typeface="Verdana"/>
                <a:ea typeface="Verdana"/>
              </a:rPr>
              <a:t>programma 20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4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85800" y="57607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4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i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Baltic Bonus </a:t>
            </a:r>
            <a:r>
              <a:rPr b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programmas mērķ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698480" y="1752120"/>
            <a:ext cx="6988320" cy="3699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lv-LV" sz="2800" spc="-1" strike="noStrike">
                <a:solidFill>
                  <a:srgbClr val="000000"/>
                </a:solidFill>
                <a:latin typeface="Verdana"/>
                <a:ea typeface="Verdana"/>
              </a:rPr>
              <a:t>Baltic Bonus </a:t>
            </a:r>
            <a:r>
              <a:rPr b="0" lang="lv-LV" sz="2800" spc="-1" strike="noStrike">
                <a:solidFill>
                  <a:srgbClr val="000000"/>
                </a:solidFill>
                <a:latin typeface="Verdana"/>
                <a:ea typeface="Verdana"/>
              </a:rPr>
              <a:t>programmas mērķis ir sekmēt starptautisko sadarbību zinātnē un inovācijā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balstot konkurētspējīgu projektu pieteikumu izstrād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īpaši atbalstot sadarbību starp Baltijas valstu zinātniekiem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ļēji kompensējot projektu pieteikumu izstrādes izdevum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09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9E3BC86-8133-4F53-91CF-E3216809677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i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Baltic Bonus </a:t>
            </a:r>
            <a:r>
              <a:rPr b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program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2003040" y="1752120"/>
            <a:ext cx="668340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90360" indent="-90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Baltic Bonus </a:t>
            </a: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programmu </a:t>
            </a:r>
            <a:r>
              <a:rPr b="1" lang="lv-LV" sz="2000" spc="-1" strike="noStrike" u="sng">
                <a:solidFill>
                  <a:srgbClr val="404040"/>
                </a:solidFill>
                <a:uFillTx/>
                <a:latin typeface="Verdana"/>
                <a:ea typeface="Verdana"/>
              </a:rPr>
              <a:t>ievieš</a:t>
            </a: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 Valsts izglītības attīstības aģentūras Zinātnes, pētniecības un inovācijas politikas atbalsta departamenta Pētniecības starptautisko programmu nodaļ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 u="sng">
                <a:solidFill>
                  <a:srgbClr val="404040"/>
                </a:solidFill>
                <a:uFillTx/>
                <a:latin typeface="Verdana"/>
                <a:ea typeface="Verdana"/>
              </a:rPr>
              <a:t>Lēmumu</a:t>
            </a:r>
            <a:r>
              <a:rPr b="0" lang="lv-LV" sz="2000" spc="-1" strike="noStrike" u="sng">
                <a:solidFill>
                  <a:srgbClr val="404040"/>
                </a:solidFill>
                <a:uFillTx/>
                <a:latin typeface="Verdana"/>
                <a:ea typeface="Verdana"/>
              </a:rPr>
              <a:t> </a:t>
            </a: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par finansiāla atbalsta piešķiršanu </a:t>
            </a:r>
            <a:r>
              <a:rPr b="1" lang="lv-LV" sz="2000" spc="-1" strike="noStrike" u="sng">
                <a:solidFill>
                  <a:srgbClr val="404040"/>
                </a:solidFill>
                <a:uFillTx/>
                <a:latin typeface="Verdana"/>
                <a:ea typeface="Verdana"/>
              </a:rPr>
              <a:t>pieņem</a:t>
            </a:r>
            <a:r>
              <a:rPr b="1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komisija, kuras sastāvu veido Izglītības un zinātnes ministrijas, Valsts izglītības attīstības aģentūras, Latvijas Zinātnes padomes un Latvijas investīciju un attīstības aģentūras pārstāvj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14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C79BBFD-9609-4363-BC1D-9598AA64547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Kas var saņemt atbals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1793520" y="1752120"/>
            <a:ext cx="689292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Verdana"/>
                <a:ea typeface="Verdana"/>
              </a:rPr>
              <a:t>Zinātnisko institūciju reģistrā reģistrēta zinātniskā institūcija vai mazais un vidējais uzņēmu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 projekta izstrādi, kas iesniegts 2014., 2015. vai 2016.gada projektu konkursā;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ktam ekspertu dotā novērtējuma skaitliskā vērtība ir sasniegusi nepieciešamo sliekšņa vērtību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19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AD216E4-C93E-4A3E-A427-B21E146D090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Atbalstu var saņemt p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1411200" y="1752480"/>
            <a:ext cx="7275600" cy="3611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Apvārsnis 2020 inovācijas projekt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EURATOM programmas projekt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EUROSTARS 2 programmas projekt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BONUS programmas projekt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ECSEL kopuzņēmuma projekt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IMI 2 kopuzņēmuma projekt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Clean Sky 2 </a:t>
            </a: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kopuzņēmuma projekt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Bio-Based Industries </a:t>
            </a: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kopuzņēmuma projekt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ERA-NET aktivitātes ietvaros iesniegtu projektu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4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958965D-7618-4EE5-B22D-DACF9C095BD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Verdana"/>
                <a:ea typeface="Verdana"/>
              </a:rPr>
              <a:t>Atbalstu nevar saņem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2046240" y="1752120"/>
            <a:ext cx="664056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lvl="1"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 tādu projektu, kura izstrādei ir piešķirts finansējums no Eiropas Struktūrfondu darbības programmas "Uzņēmējdarbība un inovācijas" papildinājuma 2.1.1.2. aktivitātes "Atbalsts starptautiskās sadarbības projektiem zinātnē un tehnoloģijās" resursie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9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1EC76F6-542E-49B4-9CD2-F88F4738CD8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Lai saņemtu atbalst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1523520" y="1752120"/>
            <a:ext cx="716292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Verdana"/>
                <a:ea typeface="Verdana"/>
              </a:rPr>
              <a:t>Atbalsts pretendents VIAA lietvedībā iesniedz iesniegumu (iesnieguma veidlapa pieejama internetā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Verdana"/>
                <a:ea typeface="Verdana"/>
              </a:rPr>
              <a:t>- Izstrādātā projekta sadaļas, kurā ir norādīti projekta dalībnieki, kopiju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Verdana"/>
                <a:ea typeface="Verdana"/>
              </a:rPr>
              <a:t>- Izdrukas no </a:t>
            </a:r>
            <a:r>
              <a:rPr b="0" i="1" lang="lv-LV" sz="2200" spc="-1" strike="noStrike">
                <a:solidFill>
                  <a:srgbClr val="000000"/>
                </a:solidFill>
                <a:latin typeface="Verdana"/>
                <a:ea typeface="Verdana"/>
              </a:rPr>
              <a:t>Research Participant Portal  </a:t>
            </a:r>
            <a:r>
              <a:rPr b="0" lang="lv-LV" sz="2200" spc="-1" strike="noStrike">
                <a:solidFill>
                  <a:srgbClr val="000000"/>
                </a:solidFill>
                <a:latin typeface="Verdana"/>
                <a:ea typeface="Verdana"/>
              </a:rPr>
              <a:t>vietnes vai citu dokumentāciju, kas satur informāciju pa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kta iesniegšanas laiku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balsta pretendenta budžeta apjomu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kta novērtējumu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Verdana"/>
                <a:ea typeface="Verdana"/>
              </a:rPr>
              <a:t>- komersanta uzskaites  veidlapu par saņemto </a:t>
            </a:r>
            <a:r>
              <a:rPr b="0" i="1" lang="lv-LV" sz="2200" spc="-1" strike="noStrike">
                <a:solidFill>
                  <a:srgbClr val="000000"/>
                </a:solidFill>
                <a:latin typeface="Verdana"/>
                <a:ea typeface="Verdana"/>
              </a:rPr>
              <a:t>de minimis </a:t>
            </a:r>
            <a:r>
              <a:rPr b="0" lang="lv-LV" sz="2200" spc="-1" strike="noStrike">
                <a:solidFill>
                  <a:srgbClr val="000000"/>
                </a:solidFill>
                <a:latin typeface="Verdana"/>
                <a:ea typeface="Verdana"/>
              </a:rPr>
              <a:t>atbalstu (ja attiecināms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34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E2B15EF-9533-4069-8142-84E76AD4909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C9F8CED-7F2F-43F3-BA6C-35A1B9F90C7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8" name="Picture 1" descr=""/>
          <p:cNvPicPr/>
          <p:nvPr/>
        </p:nvPicPr>
        <p:blipFill>
          <a:blip r:embed="rId1"/>
          <a:stretch/>
        </p:blipFill>
        <p:spPr>
          <a:xfrm>
            <a:off x="1889280" y="606600"/>
            <a:ext cx="7146720" cy="57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Kontakti un informāc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1906560" y="1752120"/>
            <a:ext cx="678024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Valsts izglītības attīstības aģentū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    </a:t>
            </a: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Vaļņu iela 1, Rīga, LV-10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     </a:t>
            </a: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Kontaktpersona – Lelde Valei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     </a:t>
            </a: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E.pasts: lelde.valeine@viaa.gov.lv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     </a:t>
            </a: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Tel. 677854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    </a:t>
            </a: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Informācija par </a:t>
            </a:r>
            <a:r>
              <a:rPr b="0" i="1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Baltic Bonus </a:t>
            </a: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2015 programmu un  iesnieguma veidlapa ir pieejama internetā www.viaa.gov.lv/lat/zinatnes_inovacijas_progr/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43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4E87A20-CE71-4C8E-AAD6-D0DAC2272B84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14:46:47Z</dcterms:created>
  <dc:creator>Dagnija</dc:creator>
  <dc:description/>
  <dc:language>en-US</dc:language>
  <cp:lastModifiedBy>Maija Bundule</cp:lastModifiedBy>
  <dcterms:modified xsi:type="dcterms:W3CDTF">2016-05-12T14:04:19Z</dcterms:modified>
  <cp:revision>16</cp:revision>
  <dc:subject/>
  <dc:title>PowerPoint Presentation</dc:title>
</cp:coreProperties>
</file>