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172D-3577-4815-B78C-47D9065A8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5176-C515-454F-93C8-E02E96E87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73DAF5-8C1F-4185-AE26-98FD7CDF861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590B74-FC2E-43A9-9D8A-208C1FE1541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108B55-8B0F-4D50-BA06-17A33A0C7FE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14BE00-AFA4-48D5-81C5-29BF93E688F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A8165F-FD6C-4596-8483-144625655EF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5EF0BA-0787-465A-9DC1-7BBCD21ACAA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9C50B4-02D8-46AD-A1E2-034B8BF352B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85D07F-05EE-4034-B9E6-4EC9678C157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6EBDEE-1C2B-4F51-A92A-C40ECE586D2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756C-85D5-4088-B4BC-DD414C40B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0E12-E0CA-495E-A064-F2209322F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7D57-A08E-4EFD-B819-5FA1223EC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9F80B3-CC5A-49EC-BD0E-EA2AF2F09A5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3E8684-3240-4C6E-AF15-B6D5FD7A551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EA6D60-9195-44AC-95E7-1851A9A0BA0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C3FD2C-A0C9-4246-B7BC-1995DC19B64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FDDF03-DC19-4D79-BA95-7DBA127850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ECB4-9CBE-447F-ACB4-7AEE1AF18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F6899D-E831-4E37-AE9F-3AB347B110E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A6C632-F3EE-4835-A28C-EFB91469042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DBDB3F-7C86-44B1-9FAE-15771761C92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690F8B-160A-4F04-9D39-E693A6593A5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2CEFCE-9C84-4F76-9FE5-2D461BDD30D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6E573F-9766-4132-8188-B81E70B6D2D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7A0C9F-C12D-4941-9A32-BAA306D335B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D951C2-6372-43B7-97E2-1EAAE5FA26A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1160AD-B623-4035-8638-6F3EA2FBABA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6676B0-88E1-4A76-9309-468249E59F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E85E-CDCD-46B4-9135-FD28295E3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BD0A4B-6C8A-4959-9E29-0D718B96097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65726D-B135-4631-ADEE-11F3BC69E90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5E871E-E32E-4465-AE68-0A5AA021C22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8B7B57-EC95-4EF9-AAA0-53794156292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EE5CFA-2739-4FB4-B4D2-BEBB54B2819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2FDC44-68AD-4E16-9655-0B2CA70A51A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317B6A-8180-42FF-AF5F-07F8BE1DA9D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EF108B-C804-4B5A-81FB-07A43C89AA0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6659CA-F80C-45AA-A4E6-762C3463CD2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AC068-B297-43ED-A89B-00B85FE00C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FCBD-3869-46E1-8650-8A334BF19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13D28-0D5C-430A-BB97-5DC66523C81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7262F-7B4A-48C5-AD44-B1A86C94083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CB0CA-9876-4FC3-A5E9-F25DD979FC2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0C396-AFE1-44C5-871F-AD2D9537904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06A69-A020-414B-8204-3CEA1E49711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D588F-554E-4228-BD80-70824D9014C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65A4D-36D5-48E9-BD04-0DF5C2B2DE9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F5180-F6BB-45A1-B98B-A798C96A570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AB404-4FE6-4E03-8AE8-619D796AEF3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D553B-9647-4636-90A2-F52D94F5C1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3796-49F6-487C-AC25-4F5B5982B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A9F17-FE78-4DFF-B732-0A7B3547381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2BC560-B1F7-4298-8A05-7D21C599C3B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12C1AC-A40A-4DF8-9D0D-FA9C2862EC9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844746-5C24-41B1-9446-EE1DDF71A7E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6A1217-CD3A-4F95-85E8-7D811EA4DD6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D10B17-98B7-441B-A3FF-7D520F98F8E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D21C0C-D3BE-47E1-8156-5153E20B0F1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32FDDD-2E53-4329-9989-617C63732E2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1E6C30-D5A4-4D09-851F-0F51D0BBFA6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40D231-5608-46D9-AB39-5FD605DC1B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0F4E-2BEF-4F84-9811-5217F76B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DA2CE7-CEF7-4761-AD9F-7651EFDA4EA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EDBBEB-3367-4732-BE19-BADA9D7F91C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58C8C8-D3C8-4F7D-870F-81EDD775D91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2B7D80-0A81-4F72-B798-0085727B3A6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999A4B-D9ED-4CCB-9D2D-57161683763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ACD1F4-D266-4ADD-BDEC-D43798D3535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C97B95-21E5-4626-9ECD-7C0DFC09ED4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8A28FF-9301-4B86-AEAE-9C36DDDCCC5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D781F1-EDCE-4C07-A7FC-8B6A7606843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4D86BA-BD37-45EA-BC98-4F8B6BEF93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840A-295B-4018-98DB-1B4708BE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AFE12B-7E22-41DC-AB44-74673CEAE8F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9781AE-B807-451A-9494-8E55A951744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0D991A-2C23-4F7E-B222-FE7B2570FEF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A64C03-0177-4A09-8C1E-0811F76CD97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39185A-FAE0-44C5-90AD-86A48AEA954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86E62-E89D-4434-BA94-4E32A2B5713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19307-1ECC-4CB3-A47E-28110203D0F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B5FCB-9FE8-46F4-A935-9E22C268342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90EAA-2FE9-4D78-9FC6-E2E7C2A484A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65368-E537-42BC-B938-76D89C5A82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67CB-1F48-46DF-B590-DA8CE6BE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5DBEE-6736-48A0-8D81-9264D0D024C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05125-F16E-49B7-B0DB-82C92727A09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2552D-5D40-4DE7-A69F-F52FDB93843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7D623-1161-46EB-9802-BD2259AFDA1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A2C26-8F62-4386-8F5C-70C8CF57356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40325-CD74-4CA6-B15D-CEE74846C77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E8F38-B878-4E5A-B833-100E139F335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8A12E9-4F9B-455B-8265-B6E91640C30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DF513B-C5AF-4FBE-A3C6-AA13F330CF5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267EB8-D8A1-4391-83D2-9BD50B0990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07DD961-511A-442B-8AC7-298DB4ACEB1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A0E132E-0A36-41FF-BE50-0281A788FC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7" descr=""/>
          <p:cNvPicPr/>
          <p:nvPr/>
        </p:nvPicPr>
        <p:blipFill>
          <a:blip r:embed="rId2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6" descr=""/>
          <p:cNvPicPr/>
          <p:nvPr/>
        </p:nvPicPr>
        <p:blipFill>
          <a:blip r:embed="rId3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685800" y="4724280"/>
            <a:ext cx="77724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0B39031-5F45-4EF9-9F61-2441179C688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8657FDD-43AA-4EF2-8C4D-994E5D14B7D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765B62C-2492-471C-9843-20C99363050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5A399FC-541A-4AFA-8C38-B7D7BCBBE51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728A22C-615A-4D03-A769-F9891A76014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1DDDD74-C04D-4A5F-86DF-B78348FD1A7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3F51FEC-65CB-4020-A236-925ED235558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Maija.Bundule@lza.lv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-era.net/joint-call-2016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505320"/>
            <a:ext cx="7772400" cy="960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900" spc="-1" strike="noStrike">
                <a:solidFill>
                  <a:srgbClr val="000000"/>
                </a:solidFill>
                <a:latin typeface="Verdana"/>
                <a:ea typeface="Verdana"/>
              </a:rPr>
              <a:t>M-era.Net 2 –                       2016.gada projektu konkurss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85800" y="57607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Verdana"/>
                <a:ea typeface="Verdana"/>
              </a:rPr>
              <a:t>M-era.Net 2 projek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733040" y="1752120"/>
            <a:ext cx="695340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Projekta mērķis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– koordinēt “M.ERA-Net” projekta konsorcija dalībnieku sadarbību materiālzinātņu un inženierzinātņu jomā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Projekta uzdevums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– kopīgu projektu konkursu organizēšan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a darbības laiks: 1.03.2016.-28.02.2021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a koordinators – Austrijas Zinātnes fonds (Austrija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Latviju pārstāv Valsts izglītības attīstības aģentūra, kontaktpersonas:  Dr. Maija Bundule, tel. 67785423, e-pasts: 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1"/>
              </a:rPr>
              <a:t>Maija.Bundule@viaa.gov.lv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09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3843945-91CC-4E04-86AA-9B9E3DF7346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Bild 1" descr=""/>
          <p:cNvPicPr/>
          <p:nvPr/>
        </p:nvPicPr>
        <p:blipFill>
          <a:blip r:embed="rId2"/>
          <a:stretch/>
        </p:blipFill>
        <p:spPr>
          <a:xfrm>
            <a:off x="7308720" y="28728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246400" y="380880"/>
            <a:ext cx="644040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Verdana"/>
                <a:ea typeface="Verdana"/>
              </a:rPr>
              <a:t>M-era.Net projekta dalībnie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1314000" y="1752120"/>
            <a:ext cx="737244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Konkursā piedalās Eiropas 41 zinātni finansējoša organizācija pārstāvot 23 Eiropas valsti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Konkursā piedalā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aivānas Zinātnes un tehnoloģijas ministrij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ievijas inovācijas atbalsta fond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Dienvidkorejas pētniecības atbalsta fond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Brazīlijas Izglītības un zinātnes ministrij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15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2F003B0-3691-4717-989B-FA8DE92DB27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Bild 1" descr=""/>
          <p:cNvPicPr/>
          <p:nvPr/>
        </p:nvPicPr>
        <p:blipFill>
          <a:blip r:embed="rId1"/>
          <a:stretch/>
        </p:blipFill>
        <p:spPr>
          <a:xfrm>
            <a:off x="7454880" y="28728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Verdana"/>
                <a:ea typeface="Verdana"/>
              </a:rPr>
              <a:t>M-era.Net 2 konkur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776240" y="1752120"/>
            <a:ext cx="6910560" cy="3899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konkursa tematik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ntegrated computational materials engineering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nnovative surfaces, coatings and interfaces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High performance synthetic and bio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based composites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Functional materials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nterfaces between materials and biological hosts for health applications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Materials for additive manufactur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1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440784B-A998-4527-84FB-C9E1E2C39EB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Bild 1" descr=""/>
          <p:cNvPicPr/>
          <p:nvPr/>
        </p:nvPicPr>
        <p:blipFill>
          <a:blip r:embed="rId1"/>
          <a:stretch/>
        </p:blipFill>
        <p:spPr>
          <a:xfrm>
            <a:off x="7607160" y="33480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395440" y="380880"/>
            <a:ext cx="62913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Verdana"/>
                <a:ea typeface="Verdana"/>
              </a:rPr>
              <a:t>M-era.Net konkur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634680" y="1684080"/>
            <a:ext cx="827388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Konkursam var iesniegt projektus ar īstenošanas ilgumu līdz trīs gadie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Projekta konsorcija minimālais sastāvs: trīs dalībnieki no vismaz divām valstī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Informācija par konkursu atrodama projekta mājas lapā </a:t>
            </a:r>
            <a:r>
              <a:rPr b="0" lang="lv-LV" sz="22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1"/>
              </a:rPr>
              <a:t>www.m-era.net/joint-call-2016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Latvijas dalībnieki var plānot projekta izdevumus līdz 70 000 EUR/gadā</a:t>
            </a: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Verdana"/>
              </a:rPr>
              <a:t>Partner</a:t>
            </a:r>
            <a:r>
              <a:rPr b="1" lang="lv-LV" sz="1900" spc="-1" strike="noStrike">
                <a:solidFill>
                  <a:srgbClr val="000000"/>
                </a:solidFill>
                <a:latin typeface="Verdana"/>
                <a:ea typeface="Verdana"/>
              </a:rPr>
              <a:t>u meklēšanas instrumenti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Verdana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kts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v-LV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MPTeAm3 piedāvā partneru meklēšanas instrumentu interneta vietnē  https://www.nmp-partnersearch.eu/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lv-LV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opas Uzņēmumu tīkla (EEN, </a:t>
            </a:r>
            <a:r>
              <a:rPr b="0" i="1" lang="lv-LV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erprise Europe Network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lv-LV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tnerības vietne internetā http://een.ec.europa.eu/tools/services/SearchCenter/Search/ProfileSimpleSearch?shid=32db25cb-726f-43b0-8b5f-7742d0935799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7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4B2E312-78B1-4773-9C9E-55DD80D5F8F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Bild 1" descr=""/>
          <p:cNvPicPr/>
          <p:nvPr/>
        </p:nvPicPr>
        <p:blipFill>
          <a:blip r:embed="rId2"/>
          <a:stretch/>
        </p:blipFill>
        <p:spPr>
          <a:xfrm>
            <a:off x="7607160" y="33660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Verdana"/>
                <a:ea typeface="Verdana"/>
              </a:rPr>
              <a:t>M-era.Net konkur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1193760" y="1752120"/>
            <a:ext cx="749304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u konkurss notiks divās kārtā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a mājas lapa www.m-era.net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u konkurss atvērts 2016.gada 15.mart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u ideju iesniegšanas termiņš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2016.gada 14.jūnij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ilno projektu iesniegšanas termiņš – 2016.gada 10.novembri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Lēmums par atbalstāmajiem projektiem  2017.gada 24.janvār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3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E4BB1B2-6E17-4BAB-AC0E-89DD2A4DA94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Bild 1" descr=""/>
          <p:cNvPicPr/>
          <p:nvPr/>
        </p:nvPicPr>
        <p:blipFill>
          <a:blip r:embed="rId1"/>
          <a:stretch/>
        </p:blipFill>
        <p:spPr>
          <a:xfrm>
            <a:off x="7607160" y="33660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Maija Bundule</cp:lastModifiedBy>
  <dcterms:modified xsi:type="dcterms:W3CDTF">2016-05-12T14:30:05Z</dcterms:modified>
  <cp:revision>17</cp:revision>
  <dc:subject/>
  <dc:title>PowerPoint Presentation</dc:title>
</cp:coreProperties>
</file>