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F15E9-A312-4365-9B9A-D974B824C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91766-B5EF-4021-840B-6CD10DA4E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60574718-8A5B-4089-9AE2-407605CB326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79FF1EC1-C1E4-46F8-9DA1-320E643A6A1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261B185A-6102-4FEC-B480-FEE80236139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34AB54A9-8854-440D-9FFF-4AB681A621B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7A45CFA-742C-4E2B-9A43-74752267762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97F7A045-F220-44C0-A9E2-243F74CC482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264EA272-2CBB-49A7-A776-67E0EA798D1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53297E82-940A-4F0B-A06A-991D0BBEB08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886DE729-55BA-404D-B4C0-75654044995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88FAF-C209-409E-A663-B677B16BA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69B47-75AB-4500-A138-CC423A709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F3BA7-9B25-4F77-9D9A-A4B4B59D4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D5A159-D057-46E5-9C03-9EF329F0350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8861AFE3-D289-47F2-A33D-0FB11F0575C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FDB5ABB2-4116-49D8-A5C3-3DF48EAEEB2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9A7C7F27-BBA4-4406-9305-DECB80F2312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90923C36-EB9D-4F26-BAC9-42AA584B80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8EB09-4142-40C9-A09D-B5A6FC487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D2644A1B-1B68-4E2B-BF27-6312003D2FD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227FABB1-FCE5-4BEB-A7E3-4A2B7D43D78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2C9B93C8-0612-4D8B-AC7C-6EFE152B835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6BCA950D-0693-4D41-A5BA-A5638A3D21D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0E8AB101-C57E-4026-A724-69F21294CA3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B6369EF0-3BD0-44D7-B4A9-31FD6A8B0ED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78915981-BCCC-40D8-83DE-F196C63F232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2F4E6E5-0756-4998-9A74-5677B00C8C7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BA479E75-F9A1-4E76-9F8E-E63B86C6FAF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A966BF9D-88FD-404E-997B-7D30619CE9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8D4AD-79D3-4BF0-8E52-06CD51274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0F24D8D3-0EE3-4770-AD5D-217F56DA78D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65F31004-95CF-46C9-853E-C22230E88A2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D9631E3C-A004-4A9C-952E-B333A7FEA0D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CB27C58A-7D21-48CB-BB09-FD98E015B14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F7F6212B-9035-4090-B7DF-B3ED4D8BA4F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4103ABEF-1B54-49B0-AED9-7549373066C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F21A7795-62CE-43F0-9920-E7FA31B5FD2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970F1C29-114E-4CE8-A40C-6A539C0BC5A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374E70A3-E7C4-423D-8E6C-B9779BFEAE6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219563F-1520-4BB9-AE14-CA4B5C0968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ACB9A-0566-4350-8390-C5B52F3F8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8081C953-B4C7-490A-9510-84FFA71C53A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542C27B6-9A40-45BB-90F9-8C240A4A6D0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FFE4191D-01C3-4001-A938-9021CC44457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8ACBD8B4-F200-489B-81E4-277A11504A3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5C12293D-3FAB-45E1-ADAB-92BD7D14B4A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4CA8FA32-FB62-4021-BD90-89D3179A59E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36F87C8-DCF5-4A40-9829-AA06F9FCD06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F5293F6B-E336-49C3-8442-A33D78BD572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630CEDBF-DC07-4E38-ADF0-D639BA4FADB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D6A7FFD9-95CD-4BAE-B87F-A43D731532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6CCEC-A3A7-46D6-80E6-7A391D49F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EC3A7B94-3A37-4A19-8018-ABCCE544A14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E853847-3707-4794-A3D6-1D015D2BFD5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C0B532C9-A884-414B-9A59-CBE1972B1C2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04B829C2-4ECB-43ED-AE29-3702F7608A2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E4EE0D78-CD26-4C3E-B2CB-963FCD8D961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A3A5976B-2D98-41FF-B551-FF2951FD933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CB5BF448-CEA9-4E79-B304-C4A9112D5BB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C839DB80-5DCB-4A8D-8370-5FC1FF2BCB7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0A8851C3-3855-4E80-9491-DF844F3B1FA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FF153A7C-09BE-445E-8B75-BD1C353EE4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34D97-7DC8-4B6E-A8F5-6E3CD51E2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3A4C78FF-45A1-447A-B40B-BC117F7C831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D6029F02-BF98-4F4D-8223-77A65C9B68E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047991FC-1680-4C77-A543-1507E9DDB57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6F6168C-7267-41DA-B327-61125D8CDB9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56E45253-49BC-4932-9D31-64F5035CAA0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5AE8DC7D-5763-4944-A3D8-D92DA72E346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E671E51F-6FE4-4192-A58F-13E7DA4795E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42FE0D9E-FC90-4871-A7CF-D2FFCCBDED0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D1A4F88B-8871-4113-9CFE-CC6232A56C5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2AF45AF-B01F-459B-96D9-BD964B25C9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896AC-1739-4C9E-A411-FFFD7A3C5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BD9C55D6-8C43-4759-A5EC-9B82C2AB833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3901F9E2-2D6A-4E37-91FA-AE892592B65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F510AC6B-1E98-49B8-8C2D-EFB0AA62A29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E341187F-1F55-4621-BE14-47276F1E439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799BDD7F-71ED-41F5-928E-E4F48EEFB8B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565A40F-B59E-434F-A910-61867E0DE5E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9864D862-D117-4D3D-A251-17BF863F229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63CC93EF-C9EC-4187-9888-81DFA44C729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37ABA779-EB2A-42FC-B587-1290DCFBE0C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287428F2-E439-4041-B7E3-528719EA60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6C712-1A11-419E-8335-88E981E80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4779ECE9-A81D-4CD2-AC28-2F18090E8CA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9E544D4-2044-4549-B5FE-7F7E4B5FCFB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685CA0D-038A-4217-9E6D-86C98476604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3C2D1EFF-B484-4F80-9AEB-B6BF888EBCE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B4F63A2E-4DDD-4F92-8F9C-54B870DD976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52054CFE-7886-4383-917C-87845DADE3E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1AAA821E-1FB1-410E-8D02-1701C8EF92F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DC84D03-22AF-47F1-9077-8B2C263CD66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0343DD08-3272-4232-93D1-C1CB9C0D345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E872CEDF-4F52-419B-87A5-E31F7DD5D5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D697A1D-F3E3-4C81-8D99-4029D3613828}"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8439378-2086-45FF-8CB7-3803BC7AED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5141EDD-E561-4400-8A4E-764834715B9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10370F6-F8A0-4E72-8523-715DF07FDF2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B59A27D-8C57-4832-855D-0B07A1D08A4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DEFC6FE-EC5D-4A62-99D1-1BA6803D359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2AD4E11-7366-422F-8839-AB186C45C3E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808A5B1-7E08-49A9-B49F-00E18AB0F66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5BCCD96-6255-4078-B08E-741AA0CA2AE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178080"/>
            <a:ext cx="7772400" cy="14241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Verdana"/>
                <a:ea typeface="Verdana"/>
              </a:rPr>
              <a:t>Atbalsts dalībai starptautiskās sadarbības programmās pētniecības un tehnoloģiju jomā</a:t>
            </a:r>
            <a:endParaRPr b="0" lang="en-US" sz="2900" spc="-1" strike="noStrike">
              <a:solidFill>
                <a:srgbClr val="000000"/>
              </a:solidFill>
              <a:latin typeface="Times New Roman"/>
            </a:endParaRPr>
          </a:p>
        </p:txBody>
      </p:sp>
      <p:sp>
        <p:nvSpPr>
          <p:cNvPr id="403" name="PlaceHolder 2"/>
          <p:cNvSpPr>
            <a:spLocks noGrp="1"/>
          </p:cNvSpPr>
          <p:nvPr>
            <p:ph/>
          </p:nvPr>
        </p:nvSpPr>
        <p:spPr>
          <a:xfrm>
            <a:off x="685800" y="4724280"/>
            <a:ext cx="7772400" cy="91440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Maija Bundule</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Pētniecības Starptautisko programmu nodaļas vadītāja</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Valsts Izglītības attīstības aģentūra</a:t>
            </a:r>
            <a:endParaRPr b="0" lang="en-US" sz="1400" spc="-1" strike="noStrike">
              <a:solidFill>
                <a:srgbClr val="000000"/>
              </a:solidFill>
              <a:latin typeface="Times New Roman"/>
            </a:endParaRPr>
          </a:p>
        </p:txBody>
      </p:sp>
      <p:sp>
        <p:nvSpPr>
          <p:cNvPr id="404" name="PlaceHolder 3"/>
          <p:cNvSpPr>
            <a:spLocks noGrp="1"/>
          </p:cNvSpPr>
          <p:nvPr>
            <p:ph/>
          </p:nvPr>
        </p:nvSpPr>
        <p:spPr>
          <a:xfrm>
            <a:off x="685800" y="5760720"/>
            <a:ext cx="7772400" cy="6397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400" spc="-1" strike="noStrike">
              <a:solidFill>
                <a:srgbClr val="000000"/>
              </a:solidFill>
              <a:latin typeface="Verdana"/>
              <a:ea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Projekta attiecināmās izmaksas</a:t>
            </a:r>
            <a:endParaRPr b="0" lang="en-US" sz="2400" spc="-1" strike="noStrike">
              <a:solidFill>
                <a:srgbClr val="000000"/>
              </a:solidFill>
              <a:latin typeface="Times New Roman"/>
            </a:endParaRPr>
          </a:p>
        </p:txBody>
      </p:sp>
      <p:sp>
        <p:nvSpPr>
          <p:cNvPr id="446" name=""/>
          <p:cNvSpPr txBox="1"/>
          <p:nvPr/>
        </p:nvSpPr>
        <p:spPr>
          <a:xfrm>
            <a:off x="1218960" y="1752120"/>
            <a:ext cx="7467480" cy="4373640"/>
          </a:xfrm>
          <a:prstGeom prst="rect">
            <a:avLst/>
          </a:prstGeom>
          <a:noFill/>
          <a:ln w="0">
            <a:noFill/>
          </a:ln>
        </p:spPr>
        <p:txBody>
          <a:bodyPr lIns="93960" rIns="93960" tIns="46800" bIns="46800" anchor="t">
            <a:normAutofit/>
          </a:bodyPr>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tiešās izmaksas</a:t>
            </a:r>
            <a:r>
              <a:rPr b="0" lang="lv-LV" sz="1400" spc="-1" strike="noStrike">
                <a:solidFill>
                  <a:srgbClr val="404040"/>
                </a:solidFill>
                <a:latin typeface="Verdana"/>
                <a:ea typeface="Verdana"/>
              </a:rPr>
              <a:t>:</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ā nodarbinātā personāla atlīdzība saskaņā ar šādām stundas likmēm:</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zinātniskajām vadītājam – līdz 20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galvenajam izpildītājam – līdz 16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izpildītājam – līdz 14 EUR stundā.</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Zinātniskā aprīkojuma un iekārtu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Ēku un zemes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Līgumpētījumu, konsultantu pakalpojumu izmaksas, patentu iegādes izmaksas – nepārsniedzot 25% no projekta kopējām attiecināmajām izmaksām;</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Maksa par materiāliem, inventāru un instrumentiem, ciktāl tos izmanto projektā, to iegādes un piegāde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atentu vai cita rūpnieciskā īpašuma tiesību iegūšanas, apstiprināšanas un aizstāvēšana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ārējā audita izmaksas (ja nepieciešams);</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netiešās izmaksas</a:t>
            </a:r>
            <a:r>
              <a:rPr b="0" lang="lv-LV" sz="1400" spc="-1" strike="noStrike">
                <a:solidFill>
                  <a:srgbClr val="404040"/>
                </a:solidFill>
                <a:latin typeface="Verdana"/>
                <a:ea typeface="Verdana"/>
              </a:rPr>
              <a:t>, kas nepārsniedz 25% no projekta tiešo izmaksu summas, kurā nav ieskaitītas ārpakalpojumu izmaksas. </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C698701-8997-4B11-8A51-BC606029E6E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s dalībai COST akcijā</a:t>
            </a:r>
            <a:endParaRPr b="0" lang="en-US" sz="2400" spc="-1" strike="noStrike">
              <a:solidFill>
                <a:srgbClr val="000000"/>
              </a:solidFill>
              <a:latin typeface="Times New Roman"/>
            </a:endParaRPr>
          </a:p>
        </p:txBody>
      </p:sp>
      <p:sp>
        <p:nvSpPr>
          <p:cNvPr id="451" name=""/>
          <p:cNvSpPr txBox="1"/>
          <p:nvPr/>
        </p:nvSpPr>
        <p:spPr>
          <a:xfrm>
            <a:off x="1349280" y="1752120"/>
            <a:ext cx="733752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Var piešķirt valsts līdzfinansējumu bet ne vairāk kā 2 200 EUR gadā (izņemot izmaksas, kas saistītas ar COST akcijas ietvaros plānoto starptautisko pasākumu organizēšanu Latvijā un to norisi) šādu izdevumu segšanai:</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1. dalībai COST akcijas vadības komitejas sanāksmēs tiem speciālistiem, kuri nav apstiprināti kā Latvijas pārstāvji akcijas vadības komitejā;</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2. dalībai COST akcijas darba grupu sēdē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3. dalībai COST akcijas ietvaros organizētajos pasākumos (konferencēs, semināros un apmācības pasākumo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ietvaros plānotu starptautisku pasākumu norisei Latvijā; </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koordinatora funkciju izpildei, līdzfinansējot šīs aktivitātes administrēšanas izdevumu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5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3F9B4C0-BDDD-48C6-81A6-4D367B2F663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regulējums</a:t>
            </a:r>
            <a:endParaRPr b="0" lang="en-US" sz="2400" spc="-1" strike="noStrike">
              <a:solidFill>
                <a:srgbClr val="000000"/>
              </a:solidFill>
              <a:latin typeface="Times New Roman"/>
            </a:endParaRPr>
          </a:p>
        </p:txBody>
      </p:sp>
      <p:sp>
        <p:nvSpPr>
          <p:cNvPr id="406" name=""/>
          <p:cNvSpPr txBox="1"/>
          <p:nvPr/>
        </p:nvSpPr>
        <p:spPr>
          <a:xfrm>
            <a:off x="2590560" y="1752120"/>
            <a:ext cx="609588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Ministru kabineta 2015.gada 26.maija noteikumi nr.259 «Atbalsta piešķiršanas kārtība dalībai starptautiskās sadarbības programmās pētniecības un tehnoloģiju jomā»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Finansējums no valsts budžeta apakšprogrammas 70.06.00 «Dalība Eiropas Savienības pētniecības un tehnoloģiju attīstības programmā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0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177F433-E64E-43C9-B5D7-F480DE47F2B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piešķirt</a:t>
            </a:r>
            <a:endParaRPr b="0" lang="en-US" sz="2400" spc="-1" strike="noStrike">
              <a:solidFill>
                <a:srgbClr val="000000"/>
              </a:solidFill>
              <a:latin typeface="Times New Roman"/>
            </a:endParaRPr>
          </a:p>
        </p:txBody>
      </p:sp>
      <p:sp>
        <p:nvSpPr>
          <p:cNvPr id="411" name=""/>
          <p:cNvSpPr txBox="1"/>
          <p:nvPr/>
        </p:nvSpPr>
        <p:spPr>
          <a:xfrm>
            <a:off x="1584000" y="1752120"/>
            <a:ext cx="7102440" cy="4373640"/>
          </a:xfrm>
          <a:prstGeom prst="rect">
            <a:avLst/>
          </a:prstGeom>
          <a:noFill/>
          <a:ln w="0">
            <a:noFill/>
          </a:ln>
        </p:spPr>
        <p:txBody>
          <a:bodyPr lIns="93960" rIns="93960" tIns="46800" bIns="46800" anchor="t">
            <a:normAutofit/>
          </a:bodyPr>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7.Ietvara programma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ētniecības un inovāciju atbalsta programmas Apvārsnis 2020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alībvalsti kopīgo programmu (LESD 185.pant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Kopējo tehnoloģiju ierosmju (LESD 187.pants)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700" spc="-1" strike="noStrike">
                <a:solidFill>
                  <a:srgbClr val="404040"/>
                </a:solidFill>
                <a:latin typeface="Verdana"/>
                <a:ea typeface="Verdana"/>
              </a:rPr>
              <a:t>Fusion for Energy</a:t>
            </a:r>
            <a:r>
              <a:rPr b="0" lang="lv-LV" sz="1700" spc="-1" strike="noStrike">
                <a:solidFill>
                  <a:srgbClr val="404040"/>
                </a:solidFill>
                <a:latin typeface="Verdana"/>
                <a:ea typeface="Verdana"/>
              </a:rPr>
              <a:t> (ITER projekts) kopuzņēmuma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URATOM programmas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COST aktivitātē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RA-NET, ERA-NET Plus un ERA-NET COFUND ietvaros atbalstīt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i ERIC </a:t>
            </a:r>
            <a:r>
              <a:rPr b="0" i="1" lang="lv-LV" sz="1700" spc="-1" strike="noStrike">
                <a:solidFill>
                  <a:srgbClr val="404040"/>
                </a:solidFill>
                <a:latin typeface="Verdana"/>
                <a:ea typeface="Verdana"/>
              </a:rPr>
              <a:t>European Social Survey </a:t>
            </a:r>
            <a:r>
              <a:rPr b="0" lang="lv-LV" sz="1700" spc="-1" strike="noStrike">
                <a:solidFill>
                  <a:srgbClr val="404040"/>
                </a:solidFill>
                <a:latin typeface="Verdana"/>
                <a:ea typeface="Verdana"/>
              </a:rPr>
              <a:t>pētījuma posmos</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s maksas starptautisko programmu konsorcijos, t.sk. Eiropas Akadēmiskajā tīklā GEANT, nodrošinot tam Latvijas pieslēgumu  </a:t>
            </a:r>
            <a:endParaRPr b="0" lang="en-US" sz="1700" spc="-1" strike="noStrike">
              <a:solidFill>
                <a:srgbClr val="000000"/>
              </a:solidFill>
              <a:latin typeface="Times New Roman"/>
            </a:endParaRPr>
          </a:p>
          <a:p>
            <a:pPr marL="90360" indent="-90360">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1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FCCFD7A-6BFF-4C01-A888-35C7EC5ED36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apmērs</a:t>
            </a:r>
            <a:endParaRPr b="0" lang="en-US" sz="2400" spc="-1" strike="noStrike">
              <a:solidFill>
                <a:srgbClr val="000000"/>
              </a:solidFill>
              <a:latin typeface="Times New Roman"/>
            </a:endParaRPr>
          </a:p>
        </p:txBody>
      </p:sp>
      <p:sp>
        <p:nvSpPr>
          <p:cNvPr id="416" name=""/>
          <p:cNvSpPr txBox="1"/>
          <p:nvPr/>
        </p:nvSpPr>
        <p:spPr>
          <a:xfrm>
            <a:off x="1436400" y="1684080"/>
            <a:ext cx="68454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saskaņā ar projekta izdevumu plānojum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bilstoši attiecīgās programmas nosacījum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nepārsniedz vienu miljonu EUR/gadā vienam projektam.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1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15B7238-FE5F-49E3-B069-9492A50C8A6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saņemt</a:t>
            </a:r>
            <a:endParaRPr b="0" lang="en-US" sz="2400" spc="-1" strike="noStrike">
              <a:solidFill>
                <a:srgbClr val="000000"/>
              </a:solidFill>
              <a:latin typeface="Times New Roman"/>
            </a:endParaRPr>
          </a:p>
        </p:txBody>
      </p:sp>
      <p:sp>
        <p:nvSpPr>
          <p:cNvPr id="421" name=""/>
          <p:cNvSpPr txBox="1"/>
          <p:nvPr/>
        </p:nvSpPr>
        <p:spPr>
          <a:xfrm>
            <a:off x="1463760" y="1752120"/>
            <a:ext cx="7223040" cy="4373640"/>
          </a:xfrm>
          <a:prstGeom prst="rect">
            <a:avLst/>
          </a:prstGeom>
          <a:noFill/>
          <a:ln w="0">
            <a:noFill/>
          </a:ln>
        </p:spPr>
        <p:txBody>
          <a:bodyPr lIns="93960" rIns="93960" tIns="46800" bIns="46800" anchor="t">
            <a:normAutofit/>
          </a:bodyPr>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Izglītības un zinātnes ministrijas Zinātnisko institūciju reģistrā reģistrēta zinātniskā institūcija;</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Uzņēmums (mikro, mazais, vidējais, lielais) kas reģistrēts Uzņēmumu reģistrā;</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ja ir noslēgts līgums ar Eiropas Komis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līgums ar Latvijas Zinātņu akadēm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tiek slēgts līgums ar Valsts izglītības attīstības aģentūru par projekta īstenošanu.</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63BE68C-5C95-4A5C-8570-7F373CBE738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386080" y="380880"/>
            <a:ext cx="630072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 -1</a:t>
            </a:r>
            <a:endParaRPr b="0" lang="en-US" sz="2400" spc="-1" strike="noStrike">
              <a:solidFill>
                <a:srgbClr val="000000"/>
              </a:solidFill>
              <a:latin typeface="Times New Roman"/>
            </a:endParaRPr>
          </a:p>
        </p:txBody>
      </p:sp>
      <p:sp>
        <p:nvSpPr>
          <p:cNvPr id="426" name=""/>
          <p:cNvSpPr txBox="1"/>
          <p:nvPr/>
        </p:nvSpPr>
        <p:spPr>
          <a:xfrm>
            <a:off x="914400" y="1752120"/>
            <a:ext cx="7772400" cy="4373640"/>
          </a:xfrm>
          <a:prstGeom prst="rect">
            <a:avLst/>
          </a:prstGeom>
          <a:noFill/>
          <a:ln w="0">
            <a:noFill/>
          </a:ln>
        </p:spPr>
        <p:txBody>
          <a:bodyPr lIns="93960" rIns="93960" tIns="46800" bIns="46800" anchor="t">
            <a:normAutofit/>
          </a:bodyPr>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Atbalsta pretendentam ir noteiktas šādas prasība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1. tas tieši atbild par projekta sagatavošanu un izpildi;</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2. tam ir pieejami stabili un pietiekami finanšu līdzekļi, atbilstošs pētnieciskais un tehniskais personāls (laboranti un tehniķi), kā arī projekta īstenošanai nepieciešamais materiāltehniskais nodrošinājum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3. neattiecas neizpildīts līdzekļu atgūšanas rīkojums atbilstoši regulas Nr. 651/2014 1. panta 4. punkta "a" apakšpunktam, ja viņš pretendē uz valsts atbalst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4. saskaņā ar Valsts ieņēmumu dienesta administrēto nodokļu (nodevu) parādnieku datubāzē pieejamo informāciju nav nodokļu vai nodevu parād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5. tam nav ar tiesas nolēmumu pasludināts 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6. tas nav sodīts par Latvijas Administratīvo pārkāpumu kodeksa 189.</a:t>
            </a:r>
            <a:r>
              <a:rPr b="0" lang="lv-LV" sz="1300" spc="-1" strike="noStrike" baseline="30000">
                <a:solidFill>
                  <a:srgbClr val="000000"/>
                </a:solidFill>
                <a:latin typeface="Verdana"/>
                <a:ea typeface="Verdana"/>
              </a:rPr>
              <a:t>2</a:t>
            </a:r>
            <a:r>
              <a:rPr b="0" lang="lv-LV" sz="1300" spc="-1" strike="noStrike">
                <a:solidFill>
                  <a:srgbClr val="000000"/>
                </a:solidFill>
                <a:latin typeface="Verdana"/>
                <a:ea typeface="Verdana"/>
              </a:rPr>
              <a:t> panta trešajā daļā minēto administratīvo pārkāpumu vai tam nav piemēroti piespiedu ietekmēšanas līdzekļi par Krimināllikuma 280. panta otrajā daļā minētā noziedzīgā nodarījuma izdarīšan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7. ja tiek saņemts valsts atbalsts, tas nav grūtībās nonācis uzņēmums atbilstoši regulas Nr. 651/2014 2. panta 18. punkta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8. tas nav saņēmis vai neplāno saņemt par tām pašām projekta attiecināmajām izmaksām finansējumu no citiem Eiropas Savienības finanšu avotiem vai citiem finanšu resursie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9. uzņēmums ir iesniedzis finanšu pārskatus par diviem pēdējiem noslēgtajiem saimnieciskajiem gadiem.</a:t>
            </a:r>
            <a:endParaRPr b="0" lang="en-US" sz="1300" spc="-1" strike="noStrike">
              <a:solidFill>
                <a:srgbClr val="000000"/>
              </a:solidFill>
              <a:latin typeface="Times New Roman"/>
            </a:endParaRPr>
          </a:p>
          <a:p>
            <a:pPr>
              <a:lnSpc>
                <a:spcPct val="80000"/>
              </a:lnSpc>
              <a:spcBef>
                <a:spcPts val="32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300" spc="-1" strike="noStrike">
              <a:solidFill>
                <a:srgbClr val="000000"/>
              </a:solidFill>
              <a:latin typeface="Times New Roman"/>
            </a:endParaRPr>
          </a:p>
        </p:txBody>
      </p:sp>
      <p:sp>
        <p:nvSpPr>
          <p:cNvPr id="42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749C299-D8B6-43BC-BB0B-C42CEAAC39E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2</a:t>
            </a:r>
            <a:endParaRPr b="0" lang="en-US" sz="2400" spc="-1" strike="noStrike">
              <a:solidFill>
                <a:srgbClr val="000000"/>
              </a:solidFill>
              <a:latin typeface="Times New Roman"/>
            </a:endParaRPr>
          </a:p>
        </p:txBody>
      </p:sp>
      <p:sp>
        <p:nvSpPr>
          <p:cNvPr id="431" name=""/>
          <p:cNvSpPr txBox="1"/>
          <p:nvPr/>
        </p:nvSpPr>
        <p:spPr>
          <a:xfrm>
            <a:off x="948960" y="1752120"/>
            <a:ext cx="7737480" cy="4373640"/>
          </a:xfrm>
          <a:prstGeom prst="rect">
            <a:avLst/>
          </a:prstGeom>
          <a:noFill/>
          <a:ln w="0">
            <a:noFill/>
          </a:ln>
        </p:spPr>
        <p:txBody>
          <a:bodyPr lIns="93960" rIns="93960" tIns="46800" bIns="46800" anchor="t">
            <a:normAutofit/>
          </a:bodyPr>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3. atbalsta pretendents - pētniecības organizācija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4. ja pretendē uz valsts atbalstu, tas iesniedz informāciju par atbalsta stimulējošo ietekmi atbilstoši regulas Nr. 651/2014 6. panta 2. punktam (ja attiecināms);</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5. atbalsta pretendents - pētniecības organizācija, saņemot valsts atbalstu,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40F9DD4-53E4-4601-9669-9C2DB8FEF73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intensitāte -1</a:t>
            </a:r>
            <a:endParaRPr b="0" lang="en-US" sz="2400" spc="-1" strike="noStrike">
              <a:solidFill>
                <a:srgbClr val="000000"/>
              </a:solidFill>
              <a:latin typeface="Times New Roman"/>
            </a:endParaRPr>
          </a:p>
        </p:txBody>
      </p:sp>
      <p:sp>
        <p:nvSpPr>
          <p:cNvPr id="436" name=""/>
          <p:cNvSpPr txBox="1"/>
          <p:nvPr/>
        </p:nvSpPr>
        <p:spPr>
          <a:xfrm>
            <a:off x="1131840" y="1752120"/>
            <a:ext cx="7554960" cy="4373640"/>
          </a:xfrm>
          <a:prstGeom prst="rect">
            <a:avLst/>
          </a:prstGeom>
          <a:noFill/>
          <a:ln w="0">
            <a:noFill/>
          </a:ln>
        </p:spPr>
        <p:txBody>
          <a:bodyPr lIns="93960" rIns="93960" tIns="46800" bIns="46800" anchor="t">
            <a:normAutofit/>
          </a:bodyPr>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 </a:t>
            </a:r>
            <a:r>
              <a:rPr b="0" lang="lv-LV" sz="1700" spc="-1" strike="noStrike">
                <a:solidFill>
                  <a:srgbClr val="000000"/>
                </a:solidFill>
                <a:latin typeface="Verdana"/>
                <a:ea typeface="Verdana"/>
              </a:rPr>
              <a:t>atbilstoši Eiropas Komisijas 2014.gada 14.jūnija Regulas (ES) Nr.651/2014 ar ko noteiktas atbalsta kategorijas atzītas par saderīgām ar iekšējo tirgu, piemērojot Līguma 107. un 108.pantu;</a:t>
            </a: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Atbalsta intensitāte katram atbalsta saņēmējam nepārsniedz:</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fundamentāliem pētījumiem  - 10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Rūpnieciskajiem pētījumiem –  5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Eksperimentālajai izstrādei – 25%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Mikro, maziem un vidējiem uzņēmumiem atbalsta intensitāte rūpniecisko pētījumu un eksperimentālās izstrādes gadījumā var tikt palielināta, bet tā nepārsniedz 80% no projekta attiecināmajām izmaksām.  </a:t>
            </a:r>
            <a:endParaRPr b="0" lang="en-US" sz="1700" spc="-1" strike="noStrike">
              <a:solidFill>
                <a:srgbClr val="000000"/>
              </a:solidFill>
              <a:latin typeface="Times New Roman"/>
            </a:endParaRPr>
          </a:p>
          <a:p>
            <a:pPr>
              <a:lnSpc>
                <a:spcPct val="9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748995B-EB87-4B1E-841B-40B374DA44F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Atbalsta intensitāte -2</a:t>
            </a:r>
            <a:endParaRPr b="0" lang="en-US" sz="2400" spc="-1" strike="noStrike">
              <a:solidFill>
                <a:srgbClr val="000000"/>
              </a:solidFill>
              <a:latin typeface="Times New Roman"/>
            </a:endParaRPr>
          </a:p>
        </p:txBody>
      </p:sp>
      <p:sp>
        <p:nvSpPr>
          <p:cNvPr id="441" name=""/>
          <p:cNvSpPr txBox="1"/>
          <p:nvPr/>
        </p:nvSpPr>
        <p:spPr>
          <a:xfrm>
            <a:off x="1201680" y="1752120"/>
            <a:ext cx="7485120" cy="4373640"/>
          </a:xfrm>
          <a:prstGeom prst="rect">
            <a:avLst/>
          </a:prstGeom>
          <a:noFill/>
          <a:ln w="0">
            <a:noFill/>
          </a:ln>
        </p:spPr>
        <p:txBody>
          <a:bodyPr lIns="93960" rIns="93960" tIns="46800" bIns="46800" anchor="t">
            <a:normAutofit/>
          </a:bodyPr>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Valsts atbalsta intensitāti var palielināt: </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1. 10% apmērā no projekta attiecināmajām izmaksām, ja atbalstu piešķir atbalsta pretendentam, kas ir vidējais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2. 20%  apmērā no projekta attiecināmajām izmaksām, ja atbalstu piešķir atbalsta pretendentam, kas ir mazais (mikro)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3. 15%  apmērā no projekta attiecināmajām izmaksām papildus 1. vai 2.punktā norādītajam apmēram, ja:</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s paredz efektīvu sadarbību kādā no šādiem gadījumiem:</a:t>
            </a:r>
            <a:endParaRPr b="0" lang="en-US" sz="16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starp uzņēmumiem, no kuriem vismaz viens ir sīkais (mikro), mazais vai vidējais uzņēmums, </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i projektu īsteno vismaz divās valstīs un neviens atsevišķs uzņēmums nesedz vairāk kā 70% no projekta attiecināmajām izmaksām;</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starp uzņēmumu un vienu vai vairākām pētniecības organizācijām, kuras sedz vismaz 10% no projekta attiecināmajām izmaksām un kurām ir tiesības publicēt projektā veikto pētījumu rezultātus;</a:t>
            </a:r>
            <a:endParaRPr b="0" lang="en-US" sz="14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a rezultātus izplata tehniskajās un zinātniskajās konferencēs vai publicē zinātnes vai tehnikas izdevumos, publiski pieejamās datubāzēs vai atvērtā pirmkoda programmatūras veidā.</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7761337-E48A-4285-B228-274ECEB24BE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Maija Bundule</cp:lastModifiedBy>
  <dcterms:modified xsi:type="dcterms:W3CDTF">2016-05-12T13:53:00Z</dcterms:modified>
  <cp:revision>16</cp:revision>
  <dc:subject/>
  <dc:title>PowerPoint Presentation</dc:title>
</cp:coreProperties>
</file>